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BCD-564A-4F84-A84B-6D755E6D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021-647B-4B9C-8EA4-071DE63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69F-71AE-4230-9B78-D0765B9A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706-9EC7-4BCD-B235-B605BEFB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CC5-5B8D-4FE6-B5FF-A890CC6E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AD0-DEC0-417D-93F7-3506A32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C0E-9E2A-4197-9306-8B79277B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965-27DD-44C1-80C6-C0449A2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47B-9FF5-4E46-9386-C78575B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BB-83CF-47A4-9A61-4E54D0E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15D-7599-41A7-8EA9-6F7F126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F58-913D-43EA-AD11-C43891D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13D-5649-4812-8125-FCDB355B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Comic Sans MS"/>
              </a:rPr>
              <a:t>МНОГООБРАЗИЕ </a:t>
            </a:r>
            <a:br>
              <a:rPr sz="4800"/>
            </a:br>
            <a:r>
              <a:rPr b="0" lang="en-US" sz="4800" spc="-1" strike="noStrike">
                <a:solidFill>
                  <a:srgbClr val="6699ff"/>
                </a:solidFill>
                <a:latin typeface="Comic Sans MS"/>
              </a:rPr>
              <a:t>БАБОЧ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659640" cy="45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РАБОТУ ВЫПОЛНИЛА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УЧЕНИЦА 7 «А» КЛАССА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БИНЕЦКАЯ КС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cc"/>
                </a:solidFill>
                <a:latin typeface="Comic Sans MS"/>
              </a:rPr>
              <a:t>КОРОЛЕВА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Comic Sans MS"/>
              </a:rPr>
              <a:t>БАБОЧКА СО СЛОМАНЫМ КР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НЕМНОГО О Н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евние римляне верили, что бабочки произошли от цветов, оторвавшихся от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тыре перепончатых крыла бабочек покрыты чешуйками. Чешуйки представляют собой плоские мешочки с прозрачными ребристыми стенками. При неосторожном прикосновении к крыльям чешуйки отваливаются. Тогда бабочка выглядит полинявшей. В редких случаях чешуек на крыльях нет или их очень мало. Тогда крылья бабочек прозрач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905120" cy="168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63640" y="4915080"/>
            <a:ext cx="190512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19640" y="393372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64000" y="458136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лкие бабочки с нежным телосложением и очень длинными ногами составляют семейство огневок. В 1877 году на одной из саксонских мельниц в Германии была открыта бабочка, названная огневка мучная. Ее можно узнать по характерной позе. Когда она сидит, то загибает конец брюшка кверху, а крылья держит широко распласта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857760"/>
            <a:ext cx="30481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133880"/>
            <a:ext cx="3048120" cy="272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А ЭТА БАББОЧ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ушинница интересна тем, что зимует во взрослом состоянии и появляется как первый вестник наступающего тепла. Капустница является самой крупной из белянок, в размахе крыльев достигает 50-60 миллиметров. Зорька-самец имеет ярко-оранжевую окраску в верхней поверхности крыл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менее красивая бабочка апполон. Так она названа в честь древнегреческого бога солнца, мудрости, покровителя искусств, бога-воителя, бога предсказаний. Апполон - крупная бабочка, с размахом крыльев в 70-90 милли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0920" y="355608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0:42:36Z</dcterms:created>
  <dc:creator>Мастер</dc:creator>
  <dc:description/>
  <dc:language>en-US</dc:language>
  <cp:lastModifiedBy>Мастер</cp:lastModifiedBy>
  <dcterms:modified xsi:type="dcterms:W3CDTF">2002-01-24T01:13:02Z</dcterms:modified>
  <cp:revision>2</cp:revision>
  <dc:subject/>
  <dc:title>МНОГООБРАЗИЕ  БАБОЧЕК.</dc:title>
</cp:coreProperties>
</file>