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556-844D-4DBC-B33D-016C1C66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913-D88C-445F-9F87-B0BDB04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17B-4E21-47B2-8942-C1AC0787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8AC-DC74-4B84-90FD-404AF5BD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B54C-0519-4C40-9151-602C1E06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650E-8740-4BA8-8611-1987E592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C542-9CB3-48D9-8A47-3F7E9B9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8E17-9338-4866-AF4A-A64BFAFB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947-7774-4AFB-BE0D-8D6B390C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5139-BA4F-4865-9BED-8E3AAC78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A94E-CB3D-444D-8B81-C4C8AD48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4C2-CDAB-40DA-B179-F4C7B192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B54C-884F-40BE-94BD-487D1963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540C-4BC6-4421-A5A5-78AC8840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0571-A286-42D4-8543-674B4CC7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C2FB-67F3-4C00-82EC-58CF623C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B108-F87B-4B18-96B4-E1D7E939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50B3-7BFB-48AF-B240-387B03D9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B185-F92E-4E0B-A1FE-5B9BA699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9A0C-E130-43AE-A8D6-442F46B4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5E54-7F63-4ADE-A3F8-F8FC9BFD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6E8D-C5BA-4574-AD95-227BA97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ADC-4D77-45F1-BCA8-871F2F37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29038-D04D-4654-A520-1D936082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5A56-7B9C-414E-9902-D3D1D9B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8BEE-9EEA-4A2C-B73B-3C288FD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5F08-5486-40DB-9A78-3CCC59F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64AC-92C6-4434-95ED-2C2075D6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6940-796A-4E51-B3F0-47D76BF0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8DD0-3F2E-4A16-A872-13113DB9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22B0-0616-4484-A6B4-AEDC5636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67CD-6BCE-4425-9DD7-8B2B60F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56AE-4738-4692-9937-FBEB12EA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8AF-72FD-4A72-B77A-ADA0888C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E3CA-93B6-429A-A1C2-244744CA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A24D-B3D3-4B0C-9A06-867B4256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8C1C-BBB0-47C3-9B81-0032E9B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B859-A05C-41FE-AAF4-91F454EE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5FDE-A2E8-4157-9FEB-F3F45D5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3687-647E-49B9-A1BA-4CA0FCD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0756-81E6-4881-AB40-02B2005A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18B4-DBCC-47E0-9DCB-86C11162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CE71-BE0B-4857-AF54-525DA4EE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34D-97EC-498B-A0B8-41EBF63B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B21-2105-4779-90D3-63C198D6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D16-CB93-437E-AE11-1E80614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266-0DE0-401F-82CA-31E330A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CB5-B4E8-472D-BB19-2070036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6CC-9D4D-4978-8E92-0AE50B399E98}" type="datetime">
              <a:rPr b="0" i="1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6214-F243-42B9-A4FE-29CA335CD149}" type="slidenum">
              <a:rPr b="0" i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52E-8C84-413F-A0C6-56A9757433BC}" type="datetime">
              <a:rPr b="0" i="1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348A-A87B-439C-B6F0-8D428138F05A}" type="slidenum">
              <a:rPr b="0" i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92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8301-2044-45E7-ABB1-431160DD27F7}" type="datetime">
              <a:rPr b="0" i="1" lang="ru-RU" sz="1400" spc="-1" strike="noStrike">
                <a:solidFill>
                  <a:srgbClr val="ffffcc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314-BF8E-4D50-89A5-A13B78B698B3}" type="slidenum">
              <a:rPr b="0" i="1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13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FAC-5D81-43B1-BE5F-7C7178B47102}" type="datetime">
              <a:rPr b="0" i="1" lang="ru-RU" sz="1400" spc="-1" strike="noStrike">
                <a:solidFill>
                  <a:srgbClr val="ffffcc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60D2-CD2B-4478-879A-A4DBF38AD8A7}" type="slidenum">
              <a:rPr b="0" i="1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47240"/>
            <a:ext cx="9144000" cy="33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ИНТЕЗ И ПРОТИВОМИКРОБНАЯ АКТИВНОСТ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ИДРАЗОНОВ АКРИДОНА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7E515-C155-4FEB-9DB5-FCD5B800C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438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ТЕЗ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,N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ЛКИЛАМИНОАЦИЛГИДРАЗОНОВ АКРИДОНА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038240"/>
          <a:ext cx="9150480" cy="53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8240"/>
                    <a:ext cx="91504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19AB0CC-EF77-4F8A-BC0F-81502C2D16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47960" y="1911240"/>
          <a:ext cx="519408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7960" y="1911240"/>
                    <a:ext cx="519408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68480" y="392040"/>
            <a:ext cx="7272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АЦИЯ ГИДРАЗОНОВ АКРИДОН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 ЭЛЕКТРОННЫМ УДАРОМ</a:t>
            </a:r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25E95511-0801-4E2A-96D4-BE4C2CE5D5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716120" y="1306440"/>
          <a:ext cx="5562720" cy="51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306440"/>
                    <a:ext cx="55627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509760" y="231840"/>
            <a:ext cx="743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АРАКТЕРНЫЕ ПОЛО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 ИК СПЕКТРАХ ГИДРАЗОНОВ АКРИДОНА</a:t>
            </a:r>
            <a:endParaRPr b="0" i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BBC8261-7C6E-41BA-8CDB-8C99631A4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31760" y="442800"/>
            <a:ext cx="743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 Н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ЯМР СПЕКТРА ГИДРАЗОНОВ АКРИДОНА</a:t>
            </a:r>
            <a:endParaRPr b="0" i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85760" y="1030320"/>
            <a:ext cx="5124600" cy="2814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728800" y="3543480"/>
            <a:ext cx="6183360" cy="32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5302080" y="1647720"/>
          <a:ext cx="3160800" cy="15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080" y="1647720"/>
                    <a:ext cx="316080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84EC72BA-D0D9-45EC-964A-4AAA046CF8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19240" y="816120"/>
          <a:ext cx="8734320" cy="57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816120"/>
                    <a:ext cx="873432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87480" y="128160"/>
            <a:ext cx="9383760" cy="4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ТИВОБАКТЕРИАЛЬНАЯ АКТИВНОСТЬ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B4688-E63C-44E0-9568-6FFEEAB5017F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90640" y="1208160"/>
            <a:ext cx="7738920" cy="5271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-87480" y="200160"/>
            <a:ext cx="93837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ЗАИМОСВЯЗЬ МЕЖДУ ПРОТИВОВИРУСНОЙ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V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ПРОТИВОБАКТЕРИАЛЬНОЙ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AM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ТИВНОСТЯМИ</a:t>
            </a:r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62D8B-6A83-47D4-9AFB-88E57A2C4E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420840"/>
            <a:ext cx="9144000" cy="60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деланной работы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ен ресинтез сем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алкилами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и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азонов акридона и показано, что они являются высокоэффективными противобактериальными препаратами с бактериостатическими концентрациями в диапазоне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– 12.5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мкг/мл, что почти в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 ниже, чем у препарата сравнения Акридинового желтого (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мкг/мл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тработан метод получения акридинилгидразонов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ди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лгамма-аминомасляной кислоты. Синтезировано два нео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ых ранее соединения и доказана их структура набором спектральных методов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казано, что способность веществ ингибировать вирусную репродукцию кореллирует с их противобактериальным дей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ие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F349A-FB90-43C7-8CF9-53B79E72B2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4920" y="11916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ОЛОГИЧЕСКИ АКТИВНЫЕ ПРОИЗВОДНЫЕ АКРИДИНА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44600" y="1081080"/>
          <a:ext cx="8423280" cy="52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081080"/>
                    <a:ext cx="84232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B9974-1820-4463-94AA-06A6C86A9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4920" y="11916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ОЛОГИЧЕСКИ АКТИВНЫЕ ПРОИЗВОДНЫЕ АКРИДИНА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5440" y="747720"/>
          <a:ext cx="8712360" cy="60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747720"/>
                    <a:ext cx="871236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0758EAAB-72F2-41E9-9F3B-63EB574027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55000"/>
            <a:ext cx="9144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i="1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синте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еми ранее опис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ых</a:t>
            </a:r>
            <a:endParaRPr b="0" i="1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диалкиламиноацетил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идразонов акридона, </a:t>
            </a:r>
            <a:endParaRPr b="0" i="1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тработка метода получения новых, </a:t>
            </a:r>
            <a:endParaRPr b="0" i="1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анее не описан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ридинилгидразонов </a:t>
            </a:r>
            <a:endParaRPr b="0" i="1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диалкилгамма-аминомасляной кислоты</a:t>
            </a:r>
            <a:endParaRPr b="0" i="1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изучение их противобактериальной активност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94BAB-1F49-457B-97D0-B64DF6920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720" y="304560"/>
            <a:ext cx="9086760" cy="32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ЛУЧШЕННЫЙ СПОСОБ ПОЛУЧЕНИЯ 9-ХЛОРАКРИДИНА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1760" y="914400"/>
          <a:ext cx="888192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914400"/>
                    <a:ext cx="888192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74880" y="1828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5E92E-FF35-4E03-B820-EBBD39FF87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1000" y="1098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ТЕЗ ИСХОДНЫХ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,N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ЛКИЛАМИНОАЦЕТИЛГИДРАЗИДОВ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2316240"/>
          <a:ext cx="85341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16240"/>
                    <a:ext cx="85341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6A663-041D-4670-B23D-D297E4F4B9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23880" y="1052640"/>
          <a:ext cx="7634160" cy="52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052640"/>
                    <a:ext cx="763416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ТЕЗ ИСХОДНЫХ ГИДРАЗИДОВ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ДИАЛКИЛ-ГАММА-АМИНОМАСЛЯНОЙ КИСЛОТЫ 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17352-10E8-443A-8DCB-81C0169AB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282680" y="1392120"/>
          <a:ext cx="665172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392120"/>
                    <a:ext cx="66517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92400" y="220320"/>
            <a:ext cx="1001556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ФРАГМЕНТАЦИЯ ГИДРАЗИДОВ ПОД ЭЛЕКТРОННЫМ УДАРО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E1F820C6-7BE7-4687-8612-8A7CF7A4F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99ff"/>
            </a:gs>
            <a:gs pos="50000">
              <a:srgbClr val="fcfeec"/>
            </a:gs>
            <a:gs pos="100000">
              <a:srgbClr val="bb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04880" y="1573200"/>
          <a:ext cx="8032680" cy="44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573200"/>
                    <a:ext cx="803268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92400" y="220680"/>
            <a:ext cx="1001556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ХАРАКТЕРНЫЕ ПОЛОСЫ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В ИК СПЕКТРАХ ГИДРАЗИДОВ</a:t>
            </a:r>
            <a:endParaRPr b="0" i="1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9BEDF181-3609-47D1-B0D1-61788D61DE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7:12:06Z</dcterms:created>
  <dc:creator>Lyahov Sergey</dc:creator>
  <dc:description/>
  <dc:language>en-US</dc:language>
  <cp:lastModifiedBy>OrgChem</cp:lastModifiedBy>
  <dcterms:modified xsi:type="dcterms:W3CDTF">2007-06-11T16:39:31Z</dcterms:modified>
  <cp:revision>500</cp:revision>
  <dc:subject/>
  <dc:title>Противовирусные  би- и трифункциональные  лиганды ДНК</dc:title>
</cp:coreProperties>
</file>