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AE0-100D-4196-9950-842EF6A8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441-6DE8-4CAD-BCDD-5F56642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497-DE77-467E-A444-F895AB01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577-B9C1-47DA-81BE-91BDB85A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650-D4E5-4E0B-A00D-D975B20C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2F9-ED93-4BDA-8A2C-9685331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5EF-EEC9-4BA3-B755-05951705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94A-6BBC-4BA0-B16C-E151E11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9015-9B4E-4AEE-9EA6-B3BD75EC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2322-07CD-43F1-82C7-1B1E120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487C-CAF9-4129-ACBF-8178A8C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64E-A420-4FE3-B935-41C8808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735-4DD7-4E7F-84B2-4D00CC9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DEBB-5266-45F8-AABF-889BE83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9D7-FEF8-4B40-85F8-4357BC8B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0E89-1349-4D31-93BA-AD34A10C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3CD-02EF-4043-858F-FD901DB6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E83-93F3-4D55-9332-EAEEC838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48A-0BDB-40FF-BE5E-C9D0665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1DC-F2EB-4F3A-B2D3-454171C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10A-0114-4513-A493-A03DD9E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3F7-293B-49A2-A664-48E4FAD6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E77-D191-4DCB-BA02-BD821719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31D-E714-4B3A-A4E0-83E1557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CF2D-5CEE-4D18-A121-7562F4728AA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B67C-EF36-44ED-A03D-E05CAB01F56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Генератор зашумления сетей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5950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А. Островский, группа ЗТ-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877000"/>
            <a:ext cx="4751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805360"/>
            <a:ext cx="5040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734080"/>
            <a:ext cx="54007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4640"/>
            <a:ext cx="6480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33360"/>
            <a:ext cx="69850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91600" y="2043360"/>
            <a:ext cx="1662120" cy="2901240"/>
            <a:chOff x="3891600" y="2043360"/>
            <a:chExt cx="1662120" cy="2901240"/>
          </a:xfrm>
        </p:grpSpPr>
        <p:sp>
          <p:nvSpPr>
            <p:cNvPr id="107" name=""/>
            <p:cNvSpPr/>
            <p:nvPr/>
          </p:nvSpPr>
          <p:spPr>
            <a:xfrm rot="433200">
              <a:off x="4038120" y="2444760"/>
              <a:ext cx="1368360" cy="24235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2423520"/>
                <a:gd name="textAreaBottom" fmla="*/ 2356920 h 2423520"/>
              </a:gdLst>
              <a:ahLst/>
              <a:rect l="textAreaLeft" t="textAreaTop" r="textAreaRight" b="textAreaBottom"/>
              <a:pathLst>
                <a:path w="21600" h="38252">
                  <a:moveTo>
                    <a:pt x="3600" y="0"/>
                  </a:moveTo>
                  <a:arcTo wR="3600" hR="3600" stAng="16200000" swAng="-5400000"/>
                  <a:lnTo>
                    <a:pt x="0" y="34652"/>
                  </a:lnTo>
                  <a:arcTo wR="3600" hR="3600" stAng="10800000" swAng="-5400000"/>
                  <a:lnTo>
                    <a:pt x="18000" y="38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433200">
              <a:off x="4249800" y="2640960"/>
              <a:ext cx="1026000" cy="85176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433200">
              <a:off x="4572720" y="3623040"/>
              <a:ext cx="274320" cy="262800"/>
            </a:xfrm>
            <a:prstGeom prst="sun">
              <a:avLst>
                <a:gd name="adj" fmla="val 25000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433200">
              <a:off x="4137120" y="3897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433200">
              <a:off x="4951800" y="4000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433200">
              <a:off x="4543560" y="3948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433200">
              <a:off x="4112640" y="40924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33200">
              <a:off x="4926960" y="419580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33200">
              <a:off x="4519080" y="4143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33200">
              <a:off x="4096080" y="4221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433200">
              <a:off x="4910760" y="4324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33200">
              <a:off x="4502520" y="4272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33200">
              <a:off x="4078080" y="435168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33200">
              <a:off x="4893120" y="445500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33200">
              <a:off x="4484880" y="44031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33200">
              <a:off x="4063320" y="44816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3200">
              <a:off x="4877640" y="4584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33200">
              <a:off x="4469760" y="453312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33200">
              <a:off x="4231080" y="364032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433200">
              <a:off x="4977000" y="373500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433200">
              <a:off x="5241960" y="2049840"/>
              <a:ext cx="136800" cy="457560"/>
            </a:xfrm>
            <a:custGeom>
              <a:avLst/>
              <a:gdLst>
                <a:gd name="textAreaLeft" fmla="*/ 6480 w 136800"/>
                <a:gd name="textAreaRight" fmla="*/ 130320 w 136800"/>
                <a:gd name="textAreaTop" fmla="*/ 6480 h 457560"/>
                <a:gd name="textAreaBottom" fmla="*/ 451080 h 457560"/>
              </a:gdLst>
              <a:ahLst/>
              <a:rect l="textAreaLeft" t="textAreaTop" r="textAreaRight" b="textAreaBottom"/>
              <a:pathLst>
                <a:path w="21600" h="72113">
                  <a:moveTo>
                    <a:pt x="3600" y="0"/>
                  </a:moveTo>
                  <a:arcTo wR="3600" hR="3600" stAng="16200000" swAng="-5400000"/>
                  <a:lnTo>
                    <a:pt x="0" y="68513"/>
                  </a:lnTo>
                  <a:arcTo wR="3600" hR="3600" stAng="10800000" swAng="-5400000"/>
                  <a:lnTo>
                    <a:pt x="18000" y="721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87640" y="1773360"/>
            <a:ext cx="3600360" cy="3671640"/>
            <a:chOff x="2987640" y="1773360"/>
            <a:chExt cx="3600360" cy="3671640"/>
          </a:xfrm>
        </p:grpSpPr>
        <p:sp>
          <p:nvSpPr>
            <p:cNvPr id="129" name=""/>
            <p:cNvSpPr/>
            <p:nvPr/>
          </p:nvSpPr>
          <p:spPr>
            <a:xfrm>
              <a:off x="2987640" y="1773360"/>
              <a:ext cx="3600360" cy="367164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92360" y="2133720"/>
              <a:ext cx="2303280" cy="273528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счёт фильтра сосредоточенной селекции полосы зашумления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1880" y="218448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31880" y="2184480"/>
            <a:ext cx="4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880" y="2184480"/>
            <a:ext cx="48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930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80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Алгоритм работы программы синтеза аналоговых сигналов микроконтроллером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411200"/>
            <a:ext cx="3457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тить сторожевой тайме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chDog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инициализировать порты и системы так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27082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ая пауза для стабилизации кварцевого резона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457992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лизация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ало генерации сигналов 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3787920"/>
            <a:ext cx="3457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ов подпрограммы стабилизации часто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6116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в режим пониженного энергопотребле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 PM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48428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я синуса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02112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 значения «пилы»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4492800"/>
            <a:ext cx="3024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 из преры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40360" y="206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060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780000" y="623736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08720" y="486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256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46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43880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0872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4461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рывание от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CCIFG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830160"/>
            <a:ext cx="143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График последовательного зашумления частотных диапазонов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71640" y="2193480"/>
            <a:ext cx="7345440" cy="3854520"/>
            <a:chOff x="971640" y="2193480"/>
            <a:chExt cx="7345440" cy="3854520"/>
          </a:xfrm>
        </p:grpSpPr>
        <p:grpSp>
          <p:nvGrpSpPr>
            <p:cNvPr id="271" name=""/>
            <p:cNvGrpSpPr/>
            <p:nvPr/>
          </p:nvGrpSpPr>
          <p:grpSpPr>
            <a:xfrm>
              <a:off x="1040040" y="2326320"/>
              <a:ext cx="6590160" cy="3721680"/>
              <a:chOff x="1040040" y="2326320"/>
              <a:chExt cx="6590160" cy="37216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589040" y="2326320"/>
                <a:ext cx="720" cy="345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89040" y="57816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77200" y="52498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77200" y="48513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77200" y="44524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9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7200" y="40539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9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40040" y="36550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40040" y="32565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8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40040" y="28576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8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40040" y="24591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9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84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4920" y="578160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1144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976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412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7064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5716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4368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89040" y="538272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89040" y="49842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89040" y="45853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9040" y="41868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89040" y="378828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89040" y="33894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89040" y="29905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89040" y="25920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75560" y="2459160"/>
                <a:ext cx="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9620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64860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33512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02164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70816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39360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0804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58904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227556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96208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64860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33512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02164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70816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39432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218720" y="578232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с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1640" y="219348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Гц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47640" y="580536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лная схема электрическая принципиальная генератора зашумления сетей сотовой связ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лькуляция себестоимости генератора зашумления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811760"/>
        </p:xfrm>
        <a:graphic>
          <a:graphicData uri="http://schemas.openxmlformats.org/drawingml/2006/table">
            <a:tbl>
              <a:tblPr/>
              <a:tblGrid>
                <a:gridCol w="977760"/>
                <a:gridCol w="5856480"/>
                <a:gridCol w="1395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татей затр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плату труда инженера лабора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8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прям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себестои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пособы защиты речевой информации от утечки по каналам 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9080" y="1989000"/>
            <a:ext cx="266364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89200"/>
            <a:ext cx="223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ранирование помещ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2689200"/>
            <a:ext cx="287964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помещений или мест возможного расположения телеф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2703600"/>
            <a:ext cx="230364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ет проноса телефонов в определённые поме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584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ВЧ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492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разговорного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450864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653000"/>
            <a:ext cx="316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77080" cy="505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дная таблица использования радиочастот современными стандартами сотовой связ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324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MA-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53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1700280"/>
          <a:ext cx="6926040" cy="417816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0160"/>
                <a:gridCol w="1731960"/>
              </a:tblGrid>
              <a:tr h="63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сотовой связ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ы диапазонов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мая полоса зашумления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T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MA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- 1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395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структурная генератора зашумления сетей сотовой связ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8360" y="1341000"/>
            <a:ext cx="8280000" cy="3600360"/>
            <a:chOff x="468360" y="1341000"/>
            <a:chExt cx="8280000" cy="3600360"/>
          </a:xfrm>
        </p:grpSpPr>
        <p:sp>
          <p:nvSpPr>
            <p:cNvPr id="155" name=""/>
            <p:cNvSpPr/>
            <p:nvPr/>
          </p:nvSpPr>
          <p:spPr>
            <a:xfrm>
              <a:off x="468360" y="1774080"/>
              <a:ext cx="152028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енератор аналоговых сигнал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4720" y="314676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4720" y="420264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6600" y="4308120"/>
              <a:ext cx="72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5360" y="4202640"/>
              <a:ext cx="84456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8320" y="1774080"/>
              <a:ext cx="84456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окочастотный модуль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1280" y="197460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5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1280" y="366372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8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8640" y="4519080"/>
              <a:ext cx="6757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8640" y="3463200"/>
              <a:ext cx="67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40440" y="4519080"/>
              <a:ext cx="84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0280" y="451908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440" y="3463200"/>
              <a:ext cx="202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3240" y="260820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13240" y="429768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8640" y="2829960"/>
              <a:ext cx="3379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8640" y="2196360"/>
              <a:ext cx="33793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467160" y="4350240"/>
              <a:ext cx="422280" cy="338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96960" y="3875040"/>
              <a:ext cx="6757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3080" y="4297680"/>
              <a:ext cx="844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747640" y="1341360"/>
              <a:ext cx="720" cy="295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8578800" y="1341000"/>
              <a:ext cx="16848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240760" y="1341000"/>
              <a:ext cx="720" cy="126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24076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7120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3080" y="260820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9360" y="3030480"/>
              <a:ext cx="1013760" cy="190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6794640" y="713880"/>
            <a:ext cx="114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8720" y="1341000"/>
            <a:ext cx="144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40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принципиальная генератора аналоговых сигналов на микроконтролл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Осциллограммы сигналов на выходах микроконтроллера и  выходах интегрирующих цепей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08240" y="1379520"/>
            <a:ext cx="5714640" cy="5486400"/>
            <a:chOff x="1308240" y="1379520"/>
            <a:chExt cx="5714640" cy="54864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308240" y="1379520"/>
              <a:ext cx="244800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2360" y="3665520"/>
              <a:ext cx="205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А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165560" y="1379520"/>
              <a:ext cx="285732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94520" y="366552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В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308240" y="4122720"/>
              <a:ext cx="25146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3684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С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165560" y="4122720"/>
              <a:ext cx="2857320" cy="22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39452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двухканального операционного усилителя с нелинейным элементом.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2260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фильтров Чебышева и Кауэр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Чебыш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9500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Кауэ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327640" cy="125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5256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Метод расчёта фильтра сосредоточенной селекции низких частот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11080" y="1258920"/>
                <a:ext cx="2192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11080" y="125892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11080" y="1258920"/>
            <a:ext cx="59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1080" y="1258920"/>
            <a:ext cx="500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1080" y="1258920"/>
            <a:ext cx="4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1080" y="1258920"/>
            <a:ext cx="45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258920"/>
            <a:ext cx="4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1835280"/>
            <a:ext cx="864072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528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нормированных значений элементов филь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5157720"/>
                <a:ext cx="3167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н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09840"/>
                <a:ext cx="7621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932360" y="5445000"/>
            <a:ext cx="2351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Старший следователь</dc:creator>
  <dc:description/>
  <dc:language>en-US</dc:language>
  <cp:lastModifiedBy>OSCOR</cp:lastModifiedBy>
  <dcterms:modified xsi:type="dcterms:W3CDTF">2007-02-12T06:11:19Z</dcterms:modified>
  <cp:revision>24</cp:revision>
  <dc:subject/>
  <dc:title>Генератор зашумления сетей сотовой связи</dc:title>
</cp:coreProperties>
</file>