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86575" cy="96234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CD7AC-DDD9-4949-8787-F06F8713E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7C83-7B7A-4B43-9CC6-DC2554270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A61E-AD08-4096-AF84-9459668ED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ECBD5-4D0B-40AA-AB7A-9BD6A26A1A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B640-2CEF-41DE-A91A-516B1CF3C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B5D91-ED32-417B-AA12-C3F757C16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F9CCD-29F4-47A6-8010-61753828E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747C2-227D-4BF3-AB49-9298FE53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FD7D-896E-42D7-A26C-4AB0D2E0B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58CDF-BB82-4B44-AB3E-A108DDD29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91B1-598A-4385-8E81-F3049CB81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D4B0B-E1D7-49B5-A87E-191537FDC7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3AEE7-BDCB-4D7D-98D2-FD4F7A124A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60280"/>
            <a:ext cx="7772400" cy="334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Автоматизированная информационная система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«Работа с покупателями»</a:t>
            </a:r>
            <a:br>
              <a:rPr sz="4000"/>
            </a:b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ВКР 0090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Цели: Создание распределённой базы данных на базе платформы 1С, обеспечение взаимодействия с удалёнными магазинами, создание Интернет порта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Работа пользователя в систем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25680" y="765000"/>
          <a:ext cx="5302080" cy="5927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5680" y="765000"/>
                    <a:ext cx="5302080" cy="592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ы приложений 1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755640" y="1197000"/>
            <a:ext cx="7523280" cy="3895560"/>
          </a:xfrm>
          <a:prstGeom prst="rect">
            <a:avLst/>
          </a:prstGeom>
          <a:ln w="0">
            <a:noFill/>
          </a:ln>
        </p:spPr>
      </p:pic>
      <p:sp>
        <p:nvSpPr>
          <p:cNvPr id="80" name=""/>
          <p:cNvSpPr/>
          <p:nvPr/>
        </p:nvSpPr>
        <p:spPr>
          <a:xfrm>
            <a:off x="826920" y="836640"/>
            <a:ext cx="51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Выгрузка накладной на удалённую торговую точк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Формы приложений 1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826920" y="836640"/>
            <a:ext cx="51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Загрузка накладной на удалённой торговой точке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900000" y="1197000"/>
            <a:ext cx="5810400" cy="153360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900000" y="3284640"/>
            <a:ext cx="5977080" cy="336060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900000" y="2924280"/>
            <a:ext cx="518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Печать ценников по подбору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95280" y="274320"/>
            <a:ext cx="829152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орма отправки сообщения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“kontakt.aspx”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08000" y="1149480"/>
            <a:ext cx="8928000" cy="49766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Главная форма прило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755640" y="893880"/>
            <a:ext cx="7704000" cy="577836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Назначение и цели создаваемого программного комплекса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зация хозяйственно – учётной деятельности предприятия посредством компьютеризации удалённых магазин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зация работы с покупателями на удалённых торговых точках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матизация работы с покупателями чере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ртал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оставление информации о предприятии, его торговых точках и его ассортимента чере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et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чи Интернет портала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ассказать о предприятии широкому кругу заинтересованных лиц, дать полную информацию по центральному офису и торговым точкам (адреса, телефоны, время работы, схемы проезд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ь покупателю возможность ознакомиться с ассортиментом и ценами компании в удобной форм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Дать менеджерам возможность публиковать новости, информируя покупателей (оптовиков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еспечить возможность заказа покупателем-оптовиком товара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качивание прайс–листа по указанной группе товаров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правка текстового сообщения выбранному должностному лицу любым человеком через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терфейс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ение статистики посещае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Дополнительные требования к Интернет порталу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83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едение статистики по просмотру товаров (выяснить – какие группы товаров интересуют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льзователей больше, а какие – меньше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Каждый покупатель – оптовик имеет свой пароль, свой прайс, свои полномочия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авторизированный покупатель видит товар, имеющийся на розничных точках, но не может просмотреть его количество. Цену для всех товаров отображать по первому прайсу (чем больше номер прайса, тем меньше его цена)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изированный пользователь видит лишь товар на оптовом складе. Также – без конкретизации по количеству. Почему так – рассказано далее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йс должен скачиваться в соответствии с полномочиями пользователя (два предыдущих пункта). Авторизированный пользователь, наделённый правами просмотра количества должен получить прайс с отражёнными остатками по всем имеющимся товарам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е производить контроль количества запрашиваемого товара и его наличия. Если на остатке значится 10 позиций, а авторизированный пользователь пытается выписать 20, то не выводить ошибку «отсутствует нужное количество», а продолжить оформление заказа. Это сделано в связи с тем, что ассортимент большой и на складе (получатель сформированного заказа) оформят продажу 10 позиций, после чего свяжутся с покупателем, объяснят, что товара не хватает и предложат его аналоги, дабы он добрал до 20 штук. Такова политика предприятия, позволяющая таким образом поднять продаж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Концептуальная схема переноса данны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79280" y="765000"/>
            <a:ext cx="8713800" cy="597708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Концептуальная система базы данных 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Q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157480" y="765000"/>
            <a:ext cx="4398840" cy="590400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Функционирование распределенной базы данных 1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300720" y="907920"/>
            <a:ext cx="2735280" cy="595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ереносимые данные на сторону магазина через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lesh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мять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именование номенклатурной позиции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личество переданного товар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страна производитель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единицы учёта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а отпускна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а закупочна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395280" y="952560"/>
          <a:ext cx="5638680" cy="5905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952560"/>
                    <a:ext cx="5638680" cy="590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6372360" y="105264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хема передачи данных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 сервера 1С на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EB 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сервер (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S SQL Serv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755640" y="1700280"/>
          <a:ext cx="6840720" cy="4386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5640" y="1700280"/>
                    <a:ext cx="6840720" cy="4386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Переносимые справочн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765000"/>
            <a:ext cx="8229600" cy="536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1763640" y="907920"/>
          <a:ext cx="6193080" cy="5473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3640" y="907920"/>
                    <a:ext cx="6193080" cy="547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Схема работы Интернет портал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539640" y="476280"/>
          <a:ext cx="8136000" cy="6265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476280"/>
                    <a:ext cx="8136000" cy="626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1T12:51:40Z</dcterms:created>
  <dc:creator>FOKS</dc:creator>
  <dc:description/>
  <dc:language>en-US</dc:language>
  <cp:lastModifiedBy>FOKS</cp:lastModifiedBy>
  <dcterms:modified xsi:type="dcterms:W3CDTF">2004-06-23T13:48:39Z</dcterms:modified>
  <cp:revision>14</cp:revision>
  <dc:subject/>
  <dc:title>Информационно – программный комплекс  «Студенческий контингент» Пояснительная записка к ВКР 009067</dc:title>
</cp:coreProperties>
</file>