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D835-2C49-4C25-81AB-D2DDC7F3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672A-7988-4FE7-913E-7ABF8DDA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FFAC-1C42-4FB7-B121-E0B83232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C485-25A1-46CA-99DD-9133933A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78D7-2C52-47D0-957D-6890006F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2665-1960-4DD6-90F6-49EBC864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B698-C87A-4279-A35A-FDCF3FCE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0903-D3DE-4344-8262-E0749536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3D45-84D3-4C7C-956F-7CAC9CB2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5B26-FE8C-48D8-B4D2-B5C2964C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38C7-98EC-449A-9303-184F157A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BDC9-0FD4-4FDB-BA1D-2AD0032A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FC99-8532-4E63-AAAA-BFB89D6C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C8A0-9187-4AD1-8AD1-F24B4092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F338-EA78-4A17-99F1-F7603D20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5166-8551-4067-A7C6-74693F1A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6310-FEB9-4446-BF13-49D0B391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4E307-49B1-49C7-B171-255D1956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9834-1642-4749-874E-51BBD593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D042-2E90-41F2-9E96-00215B9D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FF1E-4239-4EE7-9E52-329D9000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8154-5826-4A7A-BC4A-8184F2F2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FEBE-CB0B-4293-8C06-0ADDAFB4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C2C7-23BA-4ACA-BCB1-88047A5C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9ACA-381D-495B-A3D4-BBEE8A2517CA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70cac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70cac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0485-FA4F-4F88-80BC-7DA26E1CE982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кцизы на нефтепродукты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нализ изменений налогообложений и перспективы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42920" y="4266720"/>
            <a:ext cx="79488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ладч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щина Ольга Анато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ный руководител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илов Андрей Петро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6164280"/>
            <a:ext cx="8307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анты-Мансийск –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95400"/>
            <a:ext cx="83073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Югорский государственный 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пление акцизов на нефтепродукты на террито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МАО-Югр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20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700280"/>
          <a:ext cx="822960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пление акцизов на нефтепродукты на террито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МАО-Югр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20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89000"/>
          <a:ext cx="8229600" cy="452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бюдж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поступл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ый бюдж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30 288 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ружной бюдж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2 572 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юджет Смоленской обла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 912 860 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олидированный бюджет Р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 825 72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пление акцизов на нефтепродукты на террито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МАО-Югр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20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700280"/>
          <a:ext cx="822960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руктура налоговых доходов администрируемых УФНС России по ХМАО-Югре в 2006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819612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1961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ровень  собираемости акциза на нефтепродукты в 2004-2006 г.г. по ХМАО-Югр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5120" y="1846440"/>
          <a:ext cx="819612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846440"/>
                    <a:ext cx="81961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ровень  собираемости акциза на нефтепродукты в 2004-2006 г.г. по ХМАО-Югр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1916280"/>
          <a:ext cx="819612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1961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ые источ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оговый кодекс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е нормативные акты и нормативные акты Ханты-Мансийского автономного округа-Ю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тьи советников налоговой служб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нга Давыдовой И.А., Нечипорчук Н.А., Подгорной Т.Г. и др., опубликованные в печатных изданиях «Налоговый вестник», «Финансовая газета», «Экономика и жизнь»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е налогового органа Ханты-Мансийского автономного округа - Югры, в частности, данные отчета о поступлении налогов, сборов и иных обязательных платежей в бюджетную систему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системы налогообложения акцизов на нефтепродукты, выявление характерных проблем, препятствующих развитию данной систе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стема налогообложения акцизов на нефтепродукты, действующая в 2003-2006 год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я в системе налогообложения акцизов на нефтепродукты, произошедшие 1 января 2007 го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изменения в системе налогообложения акцизов 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фтепродукты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ошедшие 1 января 2007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а 22 второй части НК Р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 действующий порядок применения акцизов в отношении нефтепродуктов, за исключением прямогонного бен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тья об объекте налогообложе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 налогообложения у производителей прямогонного бензина не связан с наличием свидетель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ции по разливу нефтепродуктов акцизами не облаг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, в целях налогообложения операций с прямогонным бензином налогоплательщиками признаются непосредственные производители прямогонного бензина и лица, осуществляющие производство продукции нефте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866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нденции дальнейших изменений системы налогообложения акцизов на нефтепроду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ы ставок акцизов на нефтепродукты законодатель сохранил на действующем уровне, но в ближайшие годы должна быть пересмотрена система ставок акциза на нефтепродукты, имеется в виду установление более низкой  налоговой ставки на высококачественный  бензин и более высокой  ставки на бензин низкого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и в предшествующие годы в 2007-2009 гг., должны  ежегодно индексироваться специфические ставки  акцизов с учетом прогнозируемых уровней инфляции (кроме акцизов на нефтепродукты). Так, на 2007 год предлагается индексация на 8,5  процента. На 2009 г. ставки акциза на нефтепродукты предлагается проиндексировать в меру прогноза инфляции, предусмотренной на 2008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инамика поступлений акцизов на нефтепродукты в консолидированный бюджет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1989000"/>
          <a:ext cx="81961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1961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тупление акцизов на нефтепродукты на территории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МАО-Юг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2004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989000"/>
          <a:ext cx="8229600" cy="452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бюдж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поступл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ый бюдж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118 892 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ружной бюдж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 723 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юджет Смоленской обла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 398 616 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олидированный бюджет Р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797 231 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тупление акцизов на нефтепродукты на территории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МАО-Юг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2004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1700280"/>
          <a:ext cx="822960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пление акцизов на нефтепродукты на террито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МАО-Югр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20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989000"/>
          <a:ext cx="8229600" cy="452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бюдж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поступл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ый бюдж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329 889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ружной бюдж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2 47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юджет Смоленской обла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62 36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олидированный бюджет Р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324 723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ыс.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05:54:25Z</dcterms:created>
  <dc:creator> </dc:creator>
  <dc:description/>
  <dc:language>en-US</dc:language>
  <cp:lastModifiedBy>aan</cp:lastModifiedBy>
  <dcterms:modified xsi:type="dcterms:W3CDTF">2007-02-12T08:51:39Z</dcterms:modified>
  <cp:revision>27</cp:revision>
  <dc:subject/>
  <dc:title>Слайд 1</dc:title>
</cp:coreProperties>
</file>