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84F7-C300-4C95-99E0-C1A834C4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2D5-0C33-4B68-84FE-FEA31603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611-64CA-4758-9FCF-15561193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362-26C3-4521-AC26-F587AA18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EA0E-35FA-4275-AE69-AC0B3862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CF4C-90D2-49C1-A667-6741D156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12FF-B501-4FD2-B9E2-7975DD2E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A1E4-DFC4-4528-9285-2F4091C4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4C4E-8977-4BA5-9858-676E2B52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C449-104B-42F9-8F61-BF0F066D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6D1C-F2CB-43D7-9FF5-04E9BDB1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F72-4EB7-4A2E-B2B7-7FF766AA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92A7-09E3-460E-9E93-C702FC55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8DDE-B06E-49C7-AD76-E1EA7A45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9C15-98E9-4471-B2AB-71736F0A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5287-C433-47C9-A726-6CE7C01D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CF7A-AE36-4E8A-A880-AF3E256A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A00-3A5D-4B97-A419-4B1169E1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CBE-A369-4887-AA84-9AEBD608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238-F7EE-48D6-98FA-7997103D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B06-A95C-4108-B037-0FD99BEF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5A1-BCC1-4120-93BE-F8AAF4B2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95B-57AD-4DDF-B827-A14B38FC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64A-175C-488C-B06C-2CA7107D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D5C2-060A-477F-9D9B-026045D98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3970-3B29-4038-8537-5CEC623E3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7.xm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"/><Relationship Id="rId16" Type="http://schemas.openxmlformats.org/officeDocument/2006/relationships/slide" Target="slide7.xml"/><Relationship Id="rId1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7.xm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8.xml"/><Relationship Id="rId5" Type="http://schemas.openxmlformats.org/officeDocument/2006/relationships/slide" Target="slide7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14400" y="609480"/>
            <a:ext cx="739152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МУЛЬТИМЕДИЙНЫЕ УЧЕБНО-ИНФОРМАЦИОННЫЕ СИСТЕМ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52578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держание курса 32 ча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D06790_" descr=""/>
          <p:cNvPicPr/>
          <p:nvPr/>
        </p:nvPicPr>
        <p:blipFill>
          <a:blip r:embed="rId1"/>
          <a:stretch/>
        </p:blipFill>
        <p:spPr>
          <a:xfrm>
            <a:off x="1066680" y="2679840"/>
            <a:ext cx="6934320" cy="21970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7620120" y="5486400"/>
            <a:ext cx="609480" cy="6858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685800"/>
              <a:gd name="textAreaBottom" fmla="*/ 57168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17550" y="4050"/>
                </a:lnTo>
                <a:lnTo>
                  <a:pt x="4050" y="405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17550" y="20253"/>
                </a:lnTo>
                <a:lnTo>
                  <a:pt x="17550" y="405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4050" y="20253"/>
                </a:lnTo>
                <a:lnTo>
                  <a:pt x="17550" y="2025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4050" y="4050"/>
                </a:lnTo>
                <a:lnTo>
                  <a:pt x="4050" y="20253"/>
                </a:lnTo>
                <a:close/>
              </a:path>
              <a:path fill="darken" w="21600" h="24303">
                <a:moveTo>
                  <a:pt x="5769" y="7120"/>
                </a:moveTo>
                <a:lnTo>
                  <a:pt x="15831" y="12152"/>
                </a:lnTo>
                <a:lnTo>
                  <a:pt x="5769" y="17183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lastslide"/>
          </p:cNvPr>
          <p:cNvSpPr/>
          <p:nvPr/>
        </p:nvSpPr>
        <p:spPr>
          <a:xfrm>
            <a:off x="1371600" y="54864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4299" y="12152"/>
                </a:moveTo>
                <a:lnTo>
                  <a:pt x="3794" y="19158"/>
                </a:lnTo>
                <a:lnTo>
                  <a:pt x="3794" y="5145"/>
                </a:lnTo>
                <a:close/>
              </a:path>
              <a:path fill="darken" w="21600" h="24303">
                <a:moveTo>
                  <a:pt x="16144" y="5145"/>
                </a:moveTo>
                <a:lnTo>
                  <a:pt x="16144" y="19158"/>
                </a:lnTo>
                <a:lnTo>
                  <a:pt x="17806" y="19158"/>
                </a:lnTo>
                <a:lnTo>
                  <a:pt x="17806" y="5145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Структура биполярного транзистора (типа р-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n-</a:t>
            </a: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р)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полярный транзистор представляет собой прибор , имеющий два взаимодействующих р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ерехода и трехслойную структуру р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 (и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а (рис .1). Средняя область называется базой , а крайние – эмиттером и коллекто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979280" y="2295000"/>
            <a:ext cx="88920" cy="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7640" y="2330280"/>
            <a:ext cx="162720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09640" y="2330280"/>
            <a:ext cx="109800" cy="343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38640" y="2330280"/>
            <a:ext cx="108000" cy="343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47480" y="2700360"/>
            <a:ext cx="4680" cy="2879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889000" y="2743200"/>
            <a:ext cx="6120" cy="2836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349000" y="2673360"/>
            <a:ext cx="11160" cy="3032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95760" y="2673360"/>
            <a:ext cx="0" cy="297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0520" y="23302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95760" y="23302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19440" y="2330280"/>
            <a:ext cx="43308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0520" y="2330280"/>
            <a:ext cx="43524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03400" y="2330280"/>
            <a:ext cx="43524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84200" y="244476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384200" y="1987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46640" y="244476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772080" y="19875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84200" y="198756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446640" y="198756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35080" y="1987560"/>
            <a:ext cx="108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77960" y="19875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0520" y="2330280"/>
            <a:ext cx="435240" cy="0"/>
          </a:xfrm>
          <a:prstGeom prst="line">
            <a:avLst/>
          </a:prstGeom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09640" y="3357720"/>
            <a:ext cx="217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08200" y="2754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708200" y="3216240"/>
            <a:ext cx="1440" cy="2363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2590920"/>
            <a:ext cx="0" cy="2989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09640" y="3243240"/>
            <a:ext cx="1737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09640" y="4157640"/>
            <a:ext cx="5428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03400" y="4157640"/>
            <a:ext cx="5432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7000" y="4406760"/>
            <a:ext cx="4334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82640" y="1974960"/>
            <a:ext cx="69840" cy="73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59120" y="1974960"/>
            <a:ext cx="68040" cy="73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5880" y="1974960"/>
            <a:ext cx="69840" cy="73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35480" y="1974960"/>
            <a:ext cx="68040" cy="73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41600" y="1974960"/>
            <a:ext cx="69840" cy="7308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11280" y="2409840"/>
            <a:ext cx="68400" cy="73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73360" y="2409840"/>
            <a:ext cx="68400" cy="73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70240" y="4906800"/>
            <a:ext cx="4125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17560" y="5268960"/>
            <a:ext cx="5158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86120" y="5268960"/>
            <a:ext cx="54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17560" y="5594400"/>
            <a:ext cx="219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49360" y="5616720"/>
            <a:ext cx="0" cy="444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05120" y="5634000"/>
            <a:ext cx="0" cy="426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49360" y="5989680"/>
            <a:ext cx="45576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84280" y="5757840"/>
            <a:ext cx="33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08200" y="314496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247840" y="3001680"/>
            <a:ext cx="1015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7000" y="2984400"/>
            <a:ext cx="42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87480" y="2967120"/>
            <a:ext cx="101880" cy="9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89360" y="3909960"/>
            <a:ext cx="5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2080" y="4673520"/>
            <a:ext cx="455400" cy="92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08200" y="3890880"/>
            <a:ext cx="0" cy="168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57480" y="3268800"/>
            <a:ext cx="0" cy="62208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585880" y="3927600"/>
            <a:ext cx="3542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20880" y="3002040"/>
            <a:ext cx="0" cy="92556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079720" y="2967120"/>
            <a:ext cx="30312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63600" y="2735280"/>
            <a:ext cx="0" cy="249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63600" y="2984400"/>
            <a:ext cx="0" cy="24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90560" y="5011560"/>
            <a:ext cx="574920" cy="249480"/>
          </a:xfrm>
          <a:custGeom>
            <a:avLst/>
            <a:gdLst/>
            <a:ahLst/>
            <a:rect l="l" t="t" r="r" b="b"/>
            <a:pathLst>
              <a:path w="1064" h="2044">
                <a:moveTo>
                  <a:pt x="1064" y="0"/>
                </a:moveTo>
                <a:cubicBezTo>
                  <a:pt x="956" y="571"/>
                  <a:pt x="849" y="1143"/>
                  <a:pt x="672" y="1484"/>
                </a:cubicBezTo>
                <a:cubicBezTo>
                  <a:pt x="495" y="1825"/>
                  <a:pt x="121" y="1941"/>
                  <a:pt x="0" y="20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0804200">
            <a:off x="2871360" y="5276880"/>
            <a:ext cx="573120" cy="303120"/>
          </a:xfrm>
          <a:custGeom>
            <a:avLst/>
            <a:gdLst/>
            <a:ahLst/>
            <a:rect l="l" t="t" r="r" b="b"/>
            <a:pathLst>
              <a:path w="1064" h="2044">
                <a:moveTo>
                  <a:pt x="1064" y="0"/>
                </a:moveTo>
                <a:cubicBezTo>
                  <a:pt x="956" y="571"/>
                  <a:pt x="849" y="1143"/>
                  <a:pt x="672" y="1484"/>
                </a:cubicBezTo>
                <a:cubicBezTo>
                  <a:pt x="495" y="1825"/>
                  <a:pt x="121" y="1941"/>
                  <a:pt x="0" y="20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63600" y="3268800"/>
            <a:ext cx="0" cy="3204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93960" y="2878200"/>
            <a:ext cx="0" cy="2667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93960" y="3127320"/>
            <a:ext cx="0" cy="123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93960" y="3251160"/>
            <a:ext cx="0" cy="3031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02000" y="2754360"/>
            <a:ext cx="0" cy="230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2000" y="2984400"/>
            <a:ext cx="0" cy="266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02000" y="3233880"/>
            <a:ext cx="0" cy="3204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600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+ Uэб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1600200"/>
            <a:ext cx="1143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Uэб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20920" y="2095560"/>
            <a:ext cx="3204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46640" y="2077920"/>
            <a:ext cx="3204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3021120"/>
            <a:ext cx="32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30520" y="5224320"/>
            <a:ext cx="32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06720" y="3429000"/>
            <a:ext cx="878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 к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73240" y="4210200"/>
            <a:ext cx="4906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 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25480" y="3962520"/>
            <a:ext cx="489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 э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1320" y="4122720"/>
            <a:ext cx="590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б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98680" y="4673520"/>
            <a:ext cx="488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 б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3749760"/>
            <a:ext cx="590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35160" y="3784680"/>
            <a:ext cx="590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,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05080" y="2735280"/>
            <a:ext cx="404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98680" y="2860560"/>
            <a:ext cx="3031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68600" y="3002040"/>
            <a:ext cx="25380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9360" y="3500280"/>
            <a:ext cx="7081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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22480" y="4888080"/>
            <a:ext cx="79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(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53960" y="4816440"/>
            <a:ext cx="79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э(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54040" y="3411360"/>
            <a:ext cx="625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э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78200" y="3216240"/>
            <a:ext cx="4046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 -Uэ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1876320" y="3179520"/>
            <a:ext cx="8424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10666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Arial Black"/>
              </a:rPr>
              <a:t>Конструкция сплавного и планарного транзисторов.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трукция сплавного и планарного транзистор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заны на </a:t>
            </a:r>
            <a:r>
              <a:rPr b="0" lang="ru-RU" sz="24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рис.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и 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10666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5410080" y="2362320"/>
          <a:ext cx="28576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362320"/>
                    <a:ext cx="28576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Рис.2.Разрез конструкции сплавного (а) и планарного (б) транзисторов.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410080" y="2286000"/>
            <a:ext cx="2971800" cy="3314880"/>
            <a:chOff x="5410080" y="2286000"/>
            <a:chExt cx="2971800" cy="3314880"/>
          </a:xfrm>
        </p:grpSpPr>
        <p:sp>
          <p:nvSpPr>
            <p:cNvPr id="268" name=""/>
            <p:cNvSpPr/>
            <p:nvPr/>
          </p:nvSpPr>
          <p:spPr>
            <a:xfrm>
              <a:off x="5524200" y="2286000"/>
              <a:ext cx="1028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onotype Corsiva"/>
                </a:rPr>
                <a:t>Эмиттерны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onotype Corsiva"/>
                </a:rPr>
                <a:t>выво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5520" y="2628720"/>
              <a:ext cx="6858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10280" y="2286000"/>
              <a:ext cx="13716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Базовый  выво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467120" y="2514240"/>
              <a:ext cx="571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10080" y="4800600"/>
              <a:ext cx="1486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Эпитаксиальный сло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524200" y="388620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10280" y="5029560"/>
              <a:ext cx="1257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оллектоный выво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238880" y="480024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53080" y="331452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95520" y="33145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52800" y="434340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67200" y="422928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14316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43280" y="2324160"/>
            <a:ext cx="1257120" cy="285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971800" y="2895480"/>
            <a:ext cx="1142640" cy="1828800"/>
            <a:chOff x="2971800" y="2895480"/>
            <a:chExt cx="1142640" cy="1828800"/>
          </a:xfrm>
        </p:grpSpPr>
        <p:sp>
          <p:nvSpPr>
            <p:cNvPr id="283" name=""/>
            <p:cNvSpPr/>
            <p:nvPr/>
          </p:nvSpPr>
          <p:spPr>
            <a:xfrm>
              <a:off x="3200400" y="2895480"/>
              <a:ext cx="342720" cy="1828800"/>
            </a:xfrm>
            <a:custGeom>
              <a:avLst/>
              <a:gdLst/>
              <a:ahLst/>
              <a:rect l="l" t="t" r="r" b="b"/>
              <a:pathLst>
                <a:path w="540" h="2880">
                  <a:moveTo>
                    <a:pt x="0" y="0"/>
                  </a:moveTo>
                  <a:cubicBezTo>
                    <a:pt x="270" y="480"/>
                    <a:pt x="540" y="960"/>
                    <a:pt x="540" y="1440"/>
                  </a:cubicBezTo>
                  <a:cubicBezTo>
                    <a:pt x="540" y="1920"/>
                    <a:pt x="90" y="2640"/>
                    <a:pt x="0" y="2880"/>
                  </a:cubicBezTo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71800" y="2895480"/>
              <a:ext cx="228600" cy="1828800"/>
            </a:xfrm>
            <a:custGeom>
              <a:avLst/>
              <a:gdLst/>
              <a:ahLst/>
              <a:rect l="l" t="t" r="r" b="b"/>
              <a:pathLst>
                <a:path w="360" h="2880">
                  <a:moveTo>
                    <a:pt x="360" y="0"/>
                  </a:moveTo>
                  <a:lnTo>
                    <a:pt x="0" y="360"/>
                  </a:lnTo>
                  <a:lnTo>
                    <a:pt x="0" y="2700"/>
                  </a:lnTo>
                  <a:lnTo>
                    <a:pt x="360" y="2880"/>
                  </a:lnTo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43120" y="3695760"/>
              <a:ext cx="571320" cy="2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rot="10800000">
            <a:off x="1647360" y="3102120"/>
            <a:ext cx="274680" cy="1257120"/>
          </a:xfrm>
          <a:custGeom>
            <a:avLst/>
            <a:gdLst/>
            <a:ahLst/>
            <a:rect l="l" t="t" r="r" b="b"/>
            <a:pathLst>
              <a:path w="540" h="2880">
                <a:moveTo>
                  <a:pt x="0" y="0"/>
                </a:moveTo>
                <a:cubicBezTo>
                  <a:pt x="270" y="480"/>
                  <a:pt x="540" y="960"/>
                  <a:pt x="540" y="1440"/>
                </a:cubicBezTo>
                <a:cubicBezTo>
                  <a:pt x="540" y="1920"/>
                  <a:pt x="90" y="2640"/>
                  <a:pt x="0" y="2880"/>
                </a:cubicBezTo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1937880" y="3137040"/>
            <a:ext cx="182520" cy="1257120"/>
          </a:xfrm>
          <a:custGeom>
            <a:avLst/>
            <a:gdLst/>
            <a:ahLst/>
            <a:rect l="l" t="t" r="r" b="b"/>
            <a:pathLst>
              <a:path w="360" h="2880">
                <a:moveTo>
                  <a:pt x="360" y="0"/>
                </a:moveTo>
                <a:lnTo>
                  <a:pt x="0" y="360"/>
                </a:lnTo>
                <a:lnTo>
                  <a:pt x="0" y="2700"/>
                </a:lnTo>
                <a:lnTo>
                  <a:pt x="360" y="2880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1214280" y="3644640"/>
            <a:ext cx="457200" cy="2156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14640" y="4267080"/>
            <a:ext cx="0" cy="711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84400" y="4551480"/>
            <a:ext cx="0" cy="444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14640" y="4835520"/>
            <a:ext cx="86976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22600" y="4871880"/>
            <a:ext cx="214200" cy="3016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09840" y="4995720"/>
            <a:ext cx="212760" cy="587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93880" y="5262480"/>
            <a:ext cx="426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89080" y="3182760"/>
            <a:ext cx="426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14840" y="3218040"/>
            <a:ext cx="4255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27400" y="4479840"/>
            <a:ext cx="4269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62320" y="2400480"/>
            <a:ext cx="42696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05160" y="2898720"/>
            <a:ext cx="32076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1544400" y="2987280"/>
            <a:ext cx="28404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78000" y="2790720"/>
            <a:ext cx="604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11480" y="5718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78200" y="556272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3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10666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  <a:hlinkClick r:id="rId4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90720" y="685800"/>
            <a:ext cx="784836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ранзисторе с равномерным распределением атомов примеси в слоях полупроводников распределение равномерных концентраций основных и не основных носителей имеет вид, показанный пунктиром на 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рис. 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к выводам транзистора приложены внешние напряжения таким образом, что эмиттерный  переход смещается в прямом направлении, а коллекторный – в обратном, то такое включение называют нормальным, т.е. Соответствующему усилительному режиму работы. Применительно к структур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-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ипа такому смещению переходов соответствуют напряж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0 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0 (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рис. 1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наличии приложенных напряжений распределение концентраций носителей и электростатического потенциала  в слоях показано сплошными линиями на 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рис. 1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видно из рисунка, в этом случае потенциальный барьер эммиттерного перехода понижается до уровня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(так ка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кольку изменились потенциальные барьеры переходов , изменяются и распределения концентраций основных и не основных носителей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езультате в базе возникает градиент концентраций неосновных носителей, под действием которого дырки, инжектированные из эмиттера, диффундируют от эмиттера к коллектору и, достигнув последнего, втягиваются полем коллекторного перехода. В коллекторной цепи транзистора появляется т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р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дырочный  ток коллектора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тепловой (неуправляемый ) ток  коллекторного переход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рочный ток коллектор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вязан с дырочным током эмиттер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р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тношением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р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4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066680" y="380880"/>
            <a:ext cx="7712280" cy="63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овременных транзисторах коэффициент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лизок к 1 ( 0,95-0, 99). Полный ток коллектора в статическом режиме  определяется соотноше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вление  транзистором  может осуществляться  током эмиттера либо током базы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работе транзистора  с эмиттерным входом выходной величиной является ток коллект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вых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этом случае входной ток не усиливается ( так как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), усиление мощности может быть получено только за счет  усиления напряжения  (в усилительном каскаде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управлении током базы выходной величиной может быть либо ток коллектора , либо ток эмиттера. Тогда в первом случа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вых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+(1+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 во втором случа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вых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 (1+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+ (1+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оэффициент передачи тока баз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1 -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ические режимы работы транзисто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иболее полно можно охарактеризовать с помощью статических выходных и входных характеристик транзистора. Выходные характеристики представляют собой  зависимость входного тока от входного напряжения  при фиксированных значениях выходного напряжения, а выходные характеристики определяют зависимость выходного тока от выходного напряжения при фиксированных значениях входного тока. Таким образом, для всех трёх возможных схем включения транзистора можно снять и построить соответствующие семейства входных и выходных характерист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30240" y="380880"/>
            <a:ext cx="7908840" cy="59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 схемы с общей базой (ОБ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ходные характеристики представляют соб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висимост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пр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а выходные зависимости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(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Семейства входных и выходных характеристик  для схемы с ОБ показаны на 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рис. 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а и б. Как видно, входная статическая характеристика пр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0 аналогична характеристике обычного диода при прямом смещении и описывается зависимостью, близкой к экспоненциальной. При увеличении отрицательного смещения на коллекторном  переходе характеристика смещается к оси токов вследствие внутренней обратной связи в транзисторе, обусловленной эффектом модуляции толщины баз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ходные характеристики транзистора в схеме ОБ практически не зависят от коллекторного напряжения в област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а зависят от управляющего тока эмиттера. Однако при смещениях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близких к напряжению пробою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,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, проб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исходит лавинообразное увеличение тока коллектора, что может привести к выходу прибора из стро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ходные характеристики транзистора в схеме с общим эмиттером (ОЭ) представляют собой зависимост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f(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а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при фиксированных значениях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а выходные – зависимост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f(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фиксированных значениях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Семейства этих характеристик приведены на 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рис. 4 а и 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Выходные характеристики в схеме с ОЭ гораздо сильнее зависят от коллекторного напряжения, вследствие чего они имеют большой наклон в област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0, чем аналогические характеристики в схеме О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хема включения с общим коллектором (ОК) имеет много общего со схемой ОЭ, поскольку входным, управляющим током в обоих случаях является ток базы, а выходные ток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личаются мало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 Поэтому семейства входных и выходных характеристик в схеме ОК будут практически такими же, как и в схеме ОЭ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rId3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1304"/>
                </a:solidFill>
                <a:latin typeface="Times New Roman"/>
              </a:rPr>
              <a:t>Рис.3. Входные (а) и выходные (б) статические характеристики биполярного транзистора, включенного по схеме с общей базой.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295280" y="2438280"/>
            <a:ext cx="2743200" cy="2971440"/>
            <a:chOff x="1295280" y="2438280"/>
            <a:chExt cx="2743200" cy="2971440"/>
          </a:xfrm>
        </p:grpSpPr>
        <p:sp>
          <p:nvSpPr>
            <p:cNvPr id="322" name=""/>
            <p:cNvSpPr/>
            <p:nvPr/>
          </p:nvSpPr>
          <p:spPr>
            <a:xfrm>
              <a:off x="1638000" y="2666880"/>
              <a:ext cx="0" cy="24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38000" y="5067000"/>
              <a:ext cx="24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38000" y="43812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38000" y="35812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38000" y="28954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38000" y="2781000"/>
              <a:ext cx="1485720" cy="2286000"/>
            </a:xfrm>
            <a:custGeom>
              <a:avLst/>
              <a:gdLst/>
              <a:ahLst/>
              <a:rect l="l" t="t" r="r" b="b"/>
              <a:pathLst>
                <a:path w="2340" h="3600">
                  <a:moveTo>
                    <a:pt x="0" y="3600"/>
                  </a:moveTo>
                  <a:cubicBezTo>
                    <a:pt x="405" y="3495"/>
                    <a:pt x="810" y="3390"/>
                    <a:pt x="1080" y="3240"/>
                  </a:cubicBezTo>
                  <a:cubicBezTo>
                    <a:pt x="1350" y="3090"/>
                    <a:pt x="1470" y="2910"/>
                    <a:pt x="1620" y="2700"/>
                  </a:cubicBezTo>
                  <a:cubicBezTo>
                    <a:pt x="1770" y="2490"/>
                    <a:pt x="1860" y="2430"/>
                    <a:pt x="1980" y="1980"/>
                  </a:cubicBezTo>
                  <a:cubicBezTo>
                    <a:pt x="2100" y="1530"/>
                    <a:pt x="2280" y="360"/>
                    <a:pt x="2340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38000" y="2781000"/>
              <a:ext cx="1828800" cy="2286000"/>
            </a:xfrm>
            <a:custGeom>
              <a:avLst/>
              <a:gdLst/>
              <a:ahLst/>
              <a:rect l="l" t="t" r="r" b="b"/>
              <a:pathLst>
                <a:path w="2880" h="3600">
                  <a:moveTo>
                    <a:pt x="0" y="3600"/>
                  </a:moveTo>
                  <a:cubicBezTo>
                    <a:pt x="450" y="3525"/>
                    <a:pt x="900" y="3450"/>
                    <a:pt x="1260" y="3240"/>
                  </a:cubicBezTo>
                  <a:cubicBezTo>
                    <a:pt x="1620" y="3030"/>
                    <a:pt x="1890" y="2880"/>
                    <a:pt x="2160" y="2340"/>
                  </a:cubicBezTo>
                  <a:cubicBezTo>
                    <a:pt x="2430" y="1800"/>
                    <a:pt x="2760" y="420"/>
                    <a:pt x="2880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095200" y="49525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666880" y="49525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238200" y="49525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09400" y="5067000"/>
              <a:ext cx="26290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      0,1      0,2     U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эб,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95280" y="4267080"/>
              <a:ext cx="571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95280" y="3466800"/>
              <a:ext cx="571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95280" y="2781000"/>
              <a:ext cx="571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95280" y="2438280"/>
              <a:ext cx="1028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э,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м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52480" y="312408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Times New Roman"/>
                </a:rPr>
                <a:t>Uкб 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52400" y="3466800"/>
              <a:ext cx="68544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38000" y="3581280"/>
              <a:ext cx="1485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imes New Roman"/>
                </a:rPr>
                <a:t>Uкб =-5,0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09680" y="3924000"/>
              <a:ext cx="685440" cy="11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363400" y="55418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114800" y="2057400"/>
            <a:ext cx="4778280" cy="3511080"/>
            <a:chOff x="4114800" y="2057400"/>
            <a:chExt cx="4778280" cy="3511080"/>
          </a:xfrm>
        </p:grpSpPr>
        <p:sp>
          <p:nvSpPr>
            <p:cNvPr id="343" name=""/>
            <p:cNvSpPr/>
            <p:nvPr/>
          </p:nvSpPr>
          <p:spPr>
            <a:xfrm>
              <a:off x="4928040" y="2276280"/>
              <a:ext cx="0" cy="28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85320" y="5134320"/>
              <a:ext cx="342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13920" y="3648240"/>
              <a:ext cx="22860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13920" y="4448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13920" y="2962440"/>
              <a:ext cx="22860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271120" y="5020200"/>
              <a:ext cx="0" cy="2282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5728320" y="5020200"/>
              <a:ext cx="0" cy="2282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183720" y="5020200"/>
              <a:ext cx="0" cy="2282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643080" y="5020200"/>
              <a:ext cx="0" cy="2282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100280" y="5020200"/>
              <a:ext cx="0" cy="2282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557480" y="5020200"/>
              <a:ext cx="0" cy="2282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443360" y="2276280"/>
              <a:ext cx="0" cy="2857680"/>
            </a:xfrm>
            <a:prstGeom prst="line">
              <a:avLst/>
            </a:prstGeom>
            <a:ln w="936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78280" y="4772520"/>
              <a:ext cx="3245760" cy="361800"/>
            </a:xfrm>
            <a:custGeom>
              <a:avLst/>
              <a:gdLst/>
              <a:ahLst/>
              <a:rect l="l" t="t" r="r" b="b"/>
              <a:pathLst>
                <a:path w="5111" h="570">
                  <a:moveTo>
                    <a:pt x="95" y="570"/>
                  </a:moveTo>
                  <a:cubicBezTo>
                    <a:pt x="104" y="498"/>
                    <a:pt x="114" y="427"/>
                    <a:pt x="209" y="399"/>
                  </a:cubicBezTo>
                  <a:cubicBezTo>
                    <a:pt x="304" y="371"/>
                    <a:pt x="0" y="408"/>
                    <a:pt x="665" y="399"/>
                  </a:cubicBezTo>
                  <a:cubicBezTo>
                    <a:pt x="1330" y="390"/>
                    <a:pt x="3458" y="409"/>
                    <a:pt x="4199" y="342"/>
                  </a:cubicBezTo>
                  <a:cubicBezTo>
                    <a:pt x="4940" y="275"/>
                    <a:pt x="4950" y="95"/>
                    <a:pt x="5111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66400" y="4446720"/>
              <a:ext cx="2714760" cy="687600"/>
            </a:xfrm>
            <a:custGeom>
              <a:avLst/>
              <a:gdLst/>
              <a:ahLst/>
              <a:rect l="l" t="t" r="r" b="b"/>
              <a:pathLst>
                <a:path w="4218" h="1073">
                  <a:moveTo>
                    <a:pt x="0" y="1073"/>
                  </a:moveTo>
                  <a:cubicBezTo>
                    <a:pt x="57" y="697"/>
                    <a:pt x="114" y="322"/>
                    <a:pt x="228" y="161"/>
                  </a:cubicBezTo>
                  <a:cubicBezTo>
                    <a:pt x="342" y="0"/>
                    <a:pt x="19" y="113"/>
                    <a:pt x="684" y="104"/>
                  </a:cubicBezTo>
                  <a:cubicBezTo>
                    <a:pt x="1349" y="95"/>
                    <a:pt x="3525" y="123"/>
                    <a:pt x="4218" y="104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45160" y="4374000"/>
              <a:ext cx="434160" cy="168840"/>
            </a:xfrm>
            <a:custGeom>
              <a:avLst/>
              <a:gdLst/>
              <a:ahLst/>
              <a:rect l="l" t="t" r="r" b="b"/>
              <a:pathLst>
                <a:path w="684" h="266">
                  <a:moveTo>
                    <a:pt x="0" y="228"/>
                  </a:moveTo>
                  <a:cubicBezTo>
                    <a:pt x="57" y="247"/>
                    <a:pt x="114" y="266"/>
                    <a:pt x="228" y="228"/>
                  </a:cubicBezTo>
                  <a:cubicBezTo>
                    <a:pt x="342" y="190"/>
                    <a:pt x="599" y="47"/>
                    <a:pt x="684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30040" y="3927600"/>
              <a:ext cx="2714760" cy="1206360"/>
            </a:xfrm>
            <a:custGeom>
              <a:avLst/>
              <a:gdLst/>
              <a:ahLst/>
              <a:rect l="l" t="t" r="r" b="b"/>
              <a:pathLst>
                <a:path w="4275" h="1900">
                  <a:moveTo>
                    <a:pt x="0" y="1900"/>
                  </a:moveTo>
                  <a:cubicBezTo>
                    <a:pt x="76" y="1254"/>
                    <a:pt x="152" y="608"/>
                    <a:pt x="285" y="304"/>
                  </a:cubicBezTo>
                  <a:cubicBezTo>
                    <a:pt x="418" y="0"/>
                    <a:pt x="133" y="124"/>
                    <a:pt x="798" y="76"/>
                  </a:cubicBezTo>
                  <a:cubicBezTo>
                    <a:pt x="1463" y="28"/>
                    <a:pt x="3591" y="95"/>
                    <a:pt x="4275" y="19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481160" y="3831120"/>
              <a:ext cx="361800" cy="126000"/>
            </a:xfrm>
            <a:custGeom>
              <a:avLst/>
              <a:gdLst/>
              <a:ahLst/>
              <a:rect l="l" t="t" r="r" b="b"/>
              <a:pathLst>
                <a:path w="570" h="199">
                  <a:moveTo>
                    <a:pt x="0" y="171"/>
                  </a:moveTo>
                  <a:cubicBezTo>
                    <a:pt x="38" y="185"/>
                    <a:pt x="76" y="199"/>
                    <a:pt x="171" y="171"/>
                  </a:cubicBezTo>
                  <a:cubicBezTo>
                    <a:pt x="266" y="143"/>
                    <a:pt x="475" y="57"/>
                    <a:pt x="570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94040" y="3197880"/>
              <a:ext cx="2751120" cy="1936080"/>
            </a:xfrm>
            <a:custGeom>
              <a:avLst/>
              <a:gdLst/>
              <a:ahLst/>
              <a:rect l="l" t="t" r="r" b="b"/>
              <a:pathLst>
                <a:path w="4332" h="3049">
                  <a:moveTo>
                    <a:pt x="0" y="3049"/>
                  </a:moveTo>
                  <a:cubicBezTo>
                    <a:pt x="62" y="2008"/>
                    <a:pt x="124" y="968"/>
                    <a:pt x="228" y="484"/>
                  </a:cubicBezTo>
                  <a:cubicBezTo>
                    <a:pt x="332" y="0"/>
                    <a:pt x="276" y="199"/>
                    <a:pt x="627" y="142"/>
                  </a:cubicBezTo>
                  <a:cubicBezTo>
                    <a:pt x="978" y="85"/>
                    <a:pt x="1720" y="161"/>
                    <a:pt x="2337" y="142"/>
                  </a:cubicBezTo>
                  <a:cubicBezTo>
                    <a:pt x="2954" y="123"/>
                    <a:pt x="3962" y="47"/>
                    <a:pt x="4332" y="28"/>
                  </a:cubicBezTo>
                </a:path>
              </a:pathLst>
            </a:custGeom>
            <a:noFill/>
            <a:ln w="5724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81160" y="3070800"/>
              <a:ext cx="361800" cy="126360"/>
            </a:xfrm>
            <a:custGeom>
              <a:avLst/>
              <a:gdLst/>
              <a:ahLst/>
              <a:rect l="l" t="t" r="r" b="b"/>
              <a:pathLst>
                <a:path w="570" h="199">
                  <a:moveTo>
                    <a:pt x="0" y="171"/>
                  </a:moveTo>
                  <a:cubicBezTo>
                    <a:pt x="66" y="185"/>
                    <a:pt x="133" y="199"/>
                    <a:pt x="228" y="171"/>
                  </a:cubicBezTo>
                  <a:cubicBezTo>
                    <a:pt x="323" y="143"/>
                    <a:pt x="475" y="57"/>
                    <a:pt x="570" y="0"/>
                  </a:cubicBezTo>
                </a:path>
              </a:pathLst>
            </a:custGeom>
            <a:noFill/>
            <a:ln w="57240">
              <a:solidFill>
                <a:srgbClr val="9933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21320" y="2896200"/>
              <a:ext cx="2823480" cy="2237760"/>
            </a:xfrm>
            <a:custGeom>
              <a:avLst/>
              <a:gdLst/>
              <a:ahLst/>
              <a:rect l="l" t="t" r="r" b="b"/>
              <a:pathLst>
                <a:path w="4446" h="3524">
                  <a:moveTo>
                    <a:pt x="0" y="3524"/>
                  </a:moveTo>
                  <a:cubicBezTo>
                    <a:pt x="38" y="2322"/>
                    <a:pt x="76" y="1120"/>
                    <a:pt x="171" y="560"/>
                  </a:cubicBezTo>
                  <a:cubicBezTo>
                    <a:pt x="266" y="0"/>
                    <a:pt x="294" y="228"/>
                    <a:pt x="570" y="161"/>
                  </a:cubicBezTo>
                  <a:cubicBezTo>
                    <a:pt x="846" y="94"/>
                    <a:pt x="1178" y="180"/>
                    <a:pt x="1824" y="161"/>
                  </a:cubicBezTo>
                  <a:cubicBezTo>
                    <a:pt x="2470" y="142"/>
                    <a:pt x="3962" y="38"/>
                    <a:pt x="4446" y="47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81160" y="2781360"/>
              <a:ext cx="361800" cy="126360"/>
            </a:xfrm>
            <a:custGeom>
              <a:avLst/>
              <a:gdLst/>
              <a:ahLst/>
              <a:rect l="l" t="t" r="r" b="b"/>
              <a:pathLst>
                <a:path w="570" h="199">
                  <a:moveTo>
                    <a:pt x="0" y="171"/>
                  </a:moveTo>
                  <a:cubicBezTo>
                    <a:pt x="66" y="185"/>
                    <a:pt x="133" y="199"/>
                    <a:pt x="228" y="171"/>
                  </a:cubicBezTo>
                  <a:cubicBezTo>
                    <a:pt x="323" y="143"/>
                    <a:pt x="475" y="57"/>
                    <a:pt x="570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76600" y="5206680"/>
              <a:ext cx="40179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             2              4            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кб, про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024400" y="4880880"/>
              <a:ext cx="8686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кб, 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68240" y="2057400"/>
              <a:ext cx="9144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к,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0800" y="2853720"/>
              <a:ext cx="542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0800" y="3432960"/>
              <a:ext cx="542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14800" y="4229280"/>
              <a:ext cx="5428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454000" y="2563920"/>
              <a:ext cx="1411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э=30мА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249960" y="56386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Рис. 4 Выходные (а) и входные (б) статические характеристики биполярного транзистора , включенного по схеме с общим  эмиттером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219320" y="2133720"/>
            <a:ext cx="3657600" cy="3200400"/>
            <a:chOff x="1219320" y="2133720"/>
            <a:chExt cx="3657600" cy="3200400"/>
          </a:xfrm>
        </p:grpSpPr>
        <p:sp>
          <p:nvSpPr>
            <p:cNvPr id="378" name=""/>
            <p:cNvSpPr/>
            <p:nvPr/>
          </p:nvSpPr>
          <p:spPr>
            <a:xfrm>
              <a:off x="1562040" y="2133720"/>
              <a:ext cx="0" cy="277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62040" y="49075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62040" y="4160520"/>
              <a:ext cx="22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76520" y="33069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62040" y="3306960"/>
              <a:ext cx="22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62040" y="25603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133720" y="4800600"/>
              <a:ext cx="0" cy="106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705040" y="2453400"/>
              <a:ext cx="0" cy="24537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276720" y="2453400"/>
              <a:ext cx="0" cy="245376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33720" y="2453400"/>
              <a:ext cx="799920" cy="2453760"/>
            </a:xfrm>
            <a:custGeom>
              <a:avLst/>
              <a:gdLst/>
              <a:ahLst/>
              <a:rect l="l" t="t" r="r" b="b"/>
              <a:pathLst>
                <a:path w="1260" h="4140">
                  <a:moveTo>
                    <a:pt x="0" y="4140"/>
                  </a:moveTo>
                  <a:cubicBezTo>
                    <a:pt x="345" y="4035"/>
                    <a:pt x="690" y="3930"/>
                    <a:pt x="900" y="3240"/>
                  </a:cubicBezTo>
                  <a:cubicBezTo>
                    <a:pt x="1110" y="2550"/>
                    <a:pt x="1200" y="540"/>
                    <a:pt x="1260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33720" y="3306960"/>
              <a:ext cx="1371600" cy="1600200"/>
            </a:xfrm>
            <a:custGeom>
              <a:avLst/>
              <a:gdLst/>
              <a:ahLst/>
              <a:rect l="l" t="t" r="r" b="b"/>
              <a:pathLst>
                <a:path w="1260" h="4140">
                  <a:moveTo>
                    <a:pt x="0" y="4140"/>
                  </a:moveTo>
                  <a:cubicBezTo>
                    <a:pt x="345" y="4035"/>
                    <a:pt x="690" y="3930"/>
                    <a:pt x="900" y="3240"/>
                  </a:cubicBezTo>
                  <a:cubicBezTo>
                    <a:pt x="1110" y="2550"/>
                    <a:pt x="1200" y="540"/>
                    <a:pt x="1260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33440" y="4907520"/>
              <a:ext cx="3429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        0.1     0.2     0.3        U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бэ,В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19320" y="2133720"/>
              <a:ext cx="171432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б,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м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62240" y="2560320"/>
              <a:ext cx="148572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U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кэ=</a:t>
              </a: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33920" y="3306960"/>
              <a:ext cx="114300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U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кэ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=-5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33440" y="2453400"/>
              <a:ext cx="45720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33440" y="4053960"/>
              <a:ext cx="45720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33440" y="3200400"/>
              <a:ext cx="45720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2819160" y="2880360"/>
              <a:ext cx="685800" cy="4266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3390840" y="3520440"/>
              <a:ext cx="799920" cy="3200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419720" y="1905120"/>
            <a:ext cx="4457160" cy="3886200"/>
            <a:chOff x="4419720" y="1905120"/>
            <a:chExt cx="4457160" cy="3886200"/>
          </a:xfrm>
        </p:grpSpPr>
        <p:sp>
          <p:nvSpPr>
            <p:cNvPr id="399" name=""/>
            <p:cNvSpPr/>
            <p:nvPr/>
          </p:nvSpPr>
          <p:spPr>
            <a:xfrm>
              <a:off x="4876920" y="201924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76920" y="5219640"/>
              <a:ext cx="354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5334120" y="4991400"/>
              <a:ext cx="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791320" y="4991400"/>
              <a:ext cx="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248520" y="4991400"/>
              <a:ext cx="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705720" y="4991400"/>
              <a:ext cx="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162920" y="2133720"/>
              <a:ext cx="0" cy="30859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76920" y="4876920"/>
              <a:ext cx="2514240" cy="342720"/>
            </a:xfrm>
            <a:custGeom>
              <a:avLst/>
              <a:gdLst/>
              <a:ahLst/>
              <a:rect l="l" t="t" r="r" b="b"/>
              <a:pathLst>
                <a:path w="3960" h="540">
                  <a:moveTo>
                    <a:pt x="0" y="540"/>
                  </a:moveTo>
                  <a:cubicBezTo>
                    <a:pt x="15" y="480"/>
                    <a:pt x="30" y="420"/>
                    <a:pt x="180" y="360"/>
                  </a:cubicBezTo>
                  <a:cubicBezTo>
                    <a:pt x="330" y="300"/>
                    <a:pt x="270" y="240"/>
                    <a:pt x="900" y="180"/>
                  </a:cubicBezTo>
                  <a:cubicBezTo>
                    <a:pt x="1530" y="120"/>
                    <a:pt x="3420" y="30"/>
                    <a:pt x="3960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76920" y="4991400"/>
              <a:ext cx="2514240" cy="228240"/>
            </a:xfrm>
            <a:custGeom>
              <a:avLst/>
              <a:gdLst/>
              <a:ahLst/>
              <a:rect l="l" t="t" r="r" b="b"/>
              <a:pathLst>
                <a:path w="3960" h="540">
                  <a:moveTo>
                    <a:pt x="0" y="540"/>
                  </a:moveTo>
                  <a:cubicBezTo>
                    <a:pt x="15" y="480"/>
                    <a:pt x="30" y="420"/>
                    <a:pt x="180" y="360"/>
                  </a:cubicBezTo>
                  <a:cubicBezTo>
                    <a:pt x="330" y="300"/>
                    <a:pt x="270" y="240"/>
                    <a:pt x="900" y="180"/>
                  </a:cubicBezTo>
                  <a:cubicBezTo>
                    <a:pt x="1530" y="120"/>
                    <a:pt x="3420" y="30"/>
                    <a:pt x="3960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76920" y="4077000"/>
              <a:ext cx="2743200" cy="1142640"/>
            </a:xfrm>
            <a:custGeom>
              <a:avLst/>
              <a:gdLst/>
              <a:ahLst/>
              <a:rect l="l" t="t" r="r" b="b"/>
              <a:pathLst>
                <a:path w="4320" h="1800">
                  <a:moveTo>
                    <a:pt x="0" y="1800"/>
                  </a:moveTo>
                  <a:cubicBezTo>
                    <a:pt x="15" y="1365"/>
                    <a:pt x="30" y="930"/>
                    <a:pt x="180" y="720"/>
                  </a:cubicBezTo>
                  <a:cubicBezTo>
                    <a:pt x="330" y="510"/>
                    <a:pt x="330" y="600"/>
                    <a:pt x="900" y="540"/>
                  </a:cubicBezTo>
                  <a:cubicBezTo>
                    <a:pt x="1470" y="480"/>
                    <a:pt x="3030" y="450"/>
                    <a:pt x="3600" y="360"/>
                  </a:cubicBezTo>
                  <a:cubicBezTo>
                    <a:pt x="4170" y="270"/>
                    <a:pt x="4200" y="120"/>
                    <a:pt x="4320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76920" y="3276720"/>
              <a:ext cx="2743200" cy="1942920"/>
            </a:xfrm>
            <a:custGeom>
              <a:avLst/>
              <a:gdLst/>
              <a:ahLst/>
              <a:rect l="l" t="t" r="r" b="b"/>
              <a:pathLst>
                <a:path w="4320" h="1800">
                  <a:moveTo>
                    <a:pt x="0" y="1800"/>
                  </a:moveTo>
                  <a:cubicBezTo>
                    <a:pt x="15" y="1365"/>
                    <a:pt x="30" y="930"/>
                    <a:pt x="180" y="720"/>
                  </a:cubicBezTo>
                  <a:cubicBezTo>
                    <a:pt x="330" y="510"/>
                    <a:pt x="330" y="600"/>
                    <a:pt x="900" y="540"/>
                  </a:cubicBezTo>
                  <a:cubicBezTo>
                    <a:pt x="1470" y="480"/>
                    <a:pt x="3030" y="450"/>
                    <a:pt x="3600" y="360"/>
                  </a:cubicBezTo>
                  <a:cubicBezTo>
                    <a:pt x="4170" y="270"/>
                    <a:pt x="4200" y="120"/>
                    <a:pt x="4320" y="0"/>
                  </a:cubicBezTo>
                </a:path>
              </a:pathLst>
            </a:custGeom>
            <a:noFill/>
            <a:ln w="5724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76920" y="2819520"/>
              <a:ext cx="2743200" cy="2400120"/>
            </a:xfrm>
            <a:custGeom>
              <a:avLst/>
              <a:gdLst/>
              <a:ahLst/>
              <a:rect l="l" t="t" r="r" b="b"/>
              <a:pathLst>
                <a:path w="4320" h="3780">
                  <a:moveTo>
                    <a:pt x="0" y="3780"/>
                  </a:moveTo>
                  <a:cubicBezTo>
                    <a:pt x="45" y="2685"/>
                    <a:pt x="90" y="1590"/>
                    <a:pt x="180" y="1080"/>
                  </a:cubicBezTo>
                  <a:cubicBezTo>
                    <a:pt x="270" y="570"/>
                    <a:pt x="390" y="780"/>
                    <a:pt x="540" y="720"/>
                  </a:cubicBezTo>
                  <a:cubicBezTo>
                    <a:pt x="690" y="660"/>
                    <a:pt x="540" y="780"/>
                    <a:pt x="1080" y="720"/>
                  </a:cubicBezTo>
                  <a:cubicBezTo>
                    <a:pt x="1620" y="660"/>
                    <a:pt x="3240" y="480"/>
                    <a:pt x="3780" y="360"/>
                  </a:cubicBezTo>
                  <a:cubicBezTo>
                    <a:pt x="4320" y="240"/>
                    <a:pt x="4230" y="90"/>
                    <a:pt x="4320" y="0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57840" y="2362320"/>
              <a:ext cx="2761920" cy="2857320"/>
            </a:xfrm>
            <a:custGeom>
              <a:avLst/>
              <a:gdLst/>
              <a:ahLst/>
              <a:rect l="l" t="t" r="r" b="b"/>
              <a:pathLst>
                <a:path w="4350" h="4500">
                  <a:moveTo>
                    <a:pt x="30" y="4500"/>
                  </a:moveTo>
                  <a:cubicBezTo>
                    <a:pt x="15" y="4335"/>
                    <a:pt x="0" y="4170"/>
                    <a:pt x="30" y="3600"/>
                  </a:cubicBezTo>
                  <a:cubicBezTo>
                    <a:pt x="60" y="3030"/>
                    <a:pt x="150" y="1590"/>
                    <a:pt x="210" y="1080"/>
                  </a:cubicBezTo>
                  <a:cubicBezTo>
                    <a:pt x="270" y="570"/>
                    <a:pt x="180" y="660"/>
                    <a:pt x="390" y="540"/>
                  </a:cubicBezTo>
                  <a:cubicBezTo>
                    <a:pt x="600" y="420"/>
                    <a:pt x="930" y="420"/>
                    <a:pt x="1470" y="360"/>
                  </a:cubicBezTo>
                  <a:cubicBezTo>
                    <a:pt x="2010" y="300"/>
                    <a:pt x="3150" y="240"/>
                    <a:pt x="3630" y="180"/>
                  </a:cubicBezTo>
                  <a:cubicBezTo>
                    <a:pt x="4110" y="120"/>
                    <a:pt x="4200" y="120"/>
                    <a:pt x="4350" y="0"/>
                  </a:cubicBezTo>
                </a:path>
              </a:pathLst>
            </a:custGeom>
            <a:noFill/>
            <a:ln w="572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62920" y="3962520"/>
              <a:ext cx="342720" cy="342720"/>
            </a:xfrm>
            <a:custGeom>
              <a:avLst/>
              <a:gdLst/>
              <a:ahLst/>
              <a:rect l="l" t="t" r="r" b="b"/>
              <a:pathLst>
                <a:path w="540" h="540">
                  <a:moveTo>
                    <a:pt x="0" y="540"/>
                  </a:moveTo>
                  <a:cubicBezTo>
                    <a:pt x="135" y="495"/>
                    <a:pt x="270" y="450"/>
                    <a:pt x="360" y="360"/>
                  </a:cubicBezTo>
                  <a:cubicBezTo>
                    <a:pt x="450" y="270"/>
                    <a:pt x="510" y="30"/>
                    <a:pt x="540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77040" y="3276720"/>
              <a:ext cx="228240" cy="342720"/>
            </a:xfrm>
            <a:custGeom>
              <a:avLst/>
              <a:gdLst/>
              <a:ahLst/>
              <a:rect l="l" t="t" r="r" b="b"/>
              <a:pathLst>
                <a:path w="360" h="540">
                  <a:moveTo>
                    <a:pt x="0" y="540"/>
                  </a:moveTo>
                  <a:cubicBezTo>
                    <a:pt x="60" y="495"/>
                    <a:pt x="120" y="450"/>
                    <a:pt x="180" y="360"/>
                  </a:cubicBezTo>
                  <a:cubicBezTo>
                    <a:pt x="240" y="270"/>
                    <a:pt x="300" y="150"/>
                    <a:pt x="360" y="0"/>
                  </a:cubicBezTo>
                </a:path>
              </a:pathLst>
            </a:custGeom>
            <a:noFill/>
            <a:ln w="57240">
              <a:solidFill>
                <a:srgbClr val="9933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77040" y="2705040"/>
              <a:ext cx="228240" cy="342720"/>
            </a:xfrm>
            <a:custGeom>
              <a:avLst/>
              <a:gdLst/>
              <a:ahLst/>
              <a:rect l="l" t="t" r="r" b="b"/>
              <a:pathLst>
                <a:path w="360" h="540">
                  <a:moveTo>
                    <a:pt x="0" y="540"/>
                  </a:moveTo>
                  <a:cubicBezTo>
                    <a:pt x="60" y="495"/>
                    <a:pt x="120" y="450"/>
                    <a:pt x="180" y="360"/>
                  </a:cubicBezTo>
                  <a:cubicBezTo>
                    <a:pt x="240" y="270"/>
                    <a:pt x="300" y="120"/>
                    <a:pt x="360" y="0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77040" y="2133720"/>
              <a:ext cx="342720" cy="342720"/>
            </a:xfrm>
            <a:custGeom>
              <a:avLst/>
              <a:gdLst/>
              <a:ahLst/>
              <a:rect l="l" t="t" r="r" b="b"/>
              <a:pathLst>
                <a:path w="420" h="360">
                  <a:moveTo>
                    <a:pt x="0" y="360"/>
                  </a:moveTo>
                  <a:cubicBezTo>
                    <a:pt x="150" y="300"/>
                    <a:pt x="300" y="240"/>
                    <a:pt x="360" y="180"/>
                  </a:cubicBezTo>
                  <a:cubicBezTo>
                    <a:pt x="420" y="120"/>
                    <a:pt x="300" y="60"/>
                    <a:pt x="360" y="0"/>
                  </a:cubicBezTo>
                </a:path>
              </a:pathLst>
            </a:custGeom>
            <a:noFill/>
            <a:ln w="57240">
              <a:solidFill>
                <a:srgbClr val="00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19720" y="1905120"/>
              <a:ext cx="4572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47960" y="5334120"/>
              <a:ext cx="4228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       1      2       3      Uкэ,проб     Uкэ, 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05160" y="4534200"/>
              <a:ext cx="102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Times New Roman"/>
                </a:rPr>
                <a:t>Iб 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62360" y="4762440"/>
              <a:ext cx="228600" cy="2286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48520" y="4419720"/>
              <a:ext cx="102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Iб=Iк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05720" y="4762440"/>
              <a:ext cx="22824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5440" y="396252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0,5 м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19560" y="327672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66"/>
                  </a:solidFill>
                  <a:latin typeface="Times New Roman"/>
                </a:rPr>
                <a:t>0,5 м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19560" y="270504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1,5 м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34040" y="213372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Times New Roman"/>
                </a:rPr>
                <a:t>20 м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 Black"/>
              </a:rPr>
              <a:t>Полевые транзисторы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труктура полевого транзист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1304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66"/>
                </a:solidFill>
                <a:uFillTx/>
                <a:latin typeface="Arial Narrow"/>
                <a:hlinkClick r:id="rId1" action="ppaction://hlinksldjump"/>
              </a:rPr>
              <a:t>Рис. 5 Схемные обозначения и проходные вольт-амперные характеристики транзист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66"/>
                </a:solidFill>
                <a:uFillTx/>
                <a:latin typeface="Arial"/>
                <a:hlinkClick r:id="rId2" action="ppaction://hlinksldjump"/>
              </a:rPr>
              <a:t>Рис. 6. Упрощенная структура полевого транзистора ( с каналом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n-</a:t>
            </a:r>
            <a:r>
              <a:rPr b="0" lang="ru-RU" sz="1800" spc="-1" strike="noStrike" u="sng">
                <a:solidFill>
                  <a:srgbClr val="660066"/>
                </a:solidFill>
                <a:uFillTx/>
                <a:latin typeface="Arial"/>
                <a:hlinkClick r:id="rId4" action="ppaction://hlinksldjump"/>
              </a:rPr>
              <a:t>типа ) с управляющим   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"/>
                <a:hlinkClick r:id="rId5" action="ppaction://hlinksldjump"/>
              </a:rPr>
              <a:t>p-n</a:t>
            </a:r>
            <a:r>
              <a:rPr b="0" lang="ru-RU" sz="1800" spc="-1" strike="noStrike" u="sng">
                <a:solidFill>
                  <a:srgbClr val="660066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ru-RU" sz="1800" spc="-1" strike="noStrike" u="sng">
                <a:solidFill>
                  <a:srgbClr val="660066"/>
                </a:solidFill>
                <a:uFillTx/>
                <a:latin typeface="Arial"/>
                <a:hlinkClick r:id="rId7" action="ppaction://hlinksldjump"/>
              </a:rPr>
              <a:t>переход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0066"/>
                </a:solidFill>
                <a:uFillTx/>
                <a:latin typeface="Arial"/>
                <a:hlinkClick r:id="rId8" action="ppaction://hlinksldjump"/>
              </a:rPr>
              <a:t>Рис. 8. Структура МДП-транзистора</a:t>
            </a:r>
            <a:r>
              <a:rPr b="0" lang="ru-RU" sz="2000" spc="-1" strike="noStrike" u="sng">
                <a:solidFill>
                  <a:srgbClr val="660066"/>
                </a:solidFill>
                <a:uFillTx/>
                <a:latin typeface="Arial"/>
                <a:hlinkClick r:id="rId9" action="ppaction://hlinksldjump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татические характеристики полевого транзист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0066"/>
                </a:solidFill>
                <a:uFillTx/>
                <a:latin typeface="Arial"/>
                <a:hlinkClick r:id="rId10" action="ppaction://hlinksldjump"/>
              </a:rPr>
              <a:t>Рис. 7 Стокозатворная (а) и выходные (б)  характеристики транзистора  с управляющим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Arial"/>
                <a:hlinkClick r:id="rId11" action="ppaction://hlinksldjump"/>
              </a:rPr>
              <a:t>p-n</a:t>
            </a:r>
            <a:r>
              <a:rPr b="0" lang="ru-RU" sz="2000" spc="-1" strike="noStrike" u="sng">
                <a:solidFill>
                  <a:srgbClr val="660066"/>
                </a:solidFill>
                <a:uFillTx/>
                <a:latin typeface="Arial"/>
                <a:hlinkClick r:id="rId12" action="ppaction://hlinksldjump"/>
              </a:rPr>
              <a:t> </a:t>
            </a:r>
            <a:r>
              <a:rPr b="0" lang="ru-RU" sz="2000" spc="-1" strike="noStrike" u="sng">
                <a:solidFill>
                  <a:srgbClr val="660066"/>
                </a:solidFill>
                <a:uFillTx/>
                <a:latin typeface="Arial"/>
                <a:hlinkClick r:id="rId13" action="ppaction://hlinksldjump"/>
              </a:rPr>
              <a:t>переходо</a:t>
            </a:r>
            <a:r>
              <a:rPr b="0" lang="ru-RU" sz="2000" spc="-1" strike="noStrike" u="sng">
                <a:solidFill>
                  <a:srgbClr val="660066"/>
                </a:solidFill>
                <a:uFillTx/>
                <a:latin typeface="Arial"/>
                <a:hlinkClick r:id="rId14" action="ppaction://hlinksldjump"/>
              </a:rPr>
              <a:t>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0066"/>
                </a:solidFill>
                <a:uFillTx/>
                <a:latin typeface="Arial"/>
                <a:hlinkClick r:id="rId15" action="ppaction://hlinksldjump"/>
              </a:rPr>
              <a:t>Рис. 9 Стокозатворные характеристики МДП-транзисторов с индуцированным (1) и встроенным (2) канал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rId16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19720" y="6019920"/>
            <a:ext cx="685800" cy="457200"/>
          </a:xfrm>
          <a:custGeom>
            <a:avLst/>
            <a:gdLst>
              <a:gd name="textAreaLeft" fmla="*/ 114120 w 685800"/>
              <a:gd name="textAreaRight" fmla="*/ 571680 w 685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26992" y="5400"/>
                </a:lnTo>
                <a:lnTo>
                  <a:pt x="5400" y="5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26992" y="16200"/>
                </a:lnTo>
                <a:lnTo>
                  <a:pt x="26992" y="5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6992" y="16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2392" h="21600">
                <a:moveTo>
                  <a:pt x="14186" y="10800"/>
                </a:moveTo>
                <a:lnTo>
                  <a:pt x="20221" y="6775"/>
                </a:lnTo>
                <a:lnTo>
                  <a:pt x="20221" y="14825"/>
                </a:lnTo>
                <a:close/>
              </a:path>
              <a:path fill="darken" w="32392" h="21600">
                <a:moveTo>
                  <a:pt x="12171" y="6775"/>
                </a:moveTo>
                <a:lnTo>
                  <a:pt x="13126" y="6775"/>
                </a:lnTo>
                <a:lnTo>
                  <a:pt x="13126" y="14825"/>
                </a:lnTo>
                <a:lnTo>
                  <a:pt x="12171" y="14825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203480" y="685800"/>
            <a:ext cx="7559640" cy="49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вые транзисторы представляют собой полупроводниковые приборы, ток в которых обусловлен дрейфом основных носителей заряда под действием продольного электрического поля. Управление током в таком приборе осуществляется за счёт изменения проводимости полупроводника с помощью поперечного электрического пол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настоящее время  получили применение две основные разновидности полевых транзисторов: транзисторы с управляющи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ом и транзисторы с изолированным затвором (МДП- транзисторы). Схемные обозначения и графики вольт-амперных характеристи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f(U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</a:rPr>
              <a:t>зи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дены в таблицу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риведены на 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рис.5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рис 6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 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едена упрощенная структура полевого транзистора  с управляющи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ом. В исходную пластину полупроводника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па на противоположных сторонах методом сплавления ( или диффузии ) вводятся акцепторные примеси, так, чтобы образовывались област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па. Между областями с противоположными типами проводимости  образуется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. Область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па, заключенная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двумя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ами, образует проводящий кана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, от которой начинают движение основные носители в канале, получила название истока. Область, к которой движутся основные носители в канале, называется стоком. Област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па, используемые для управления током в канале, образуют затвор. В соответствии  со сказанным внешние электроды ( выводы ) получили аналогичные назв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7524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rId4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Введение в мультимеди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хнические сред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граммное обеспе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ласти приме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андар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бор мультимедиа средст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возможност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тройка изобра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ись и редактирование виде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ы видео-   и аудиосжа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752480"/>
            <a:ext cx="396252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752480"/>
            <a:ext cx="396216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28600"/>
            <a:ext cx="647712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153280" y="5638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7620120" y="56386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609480" y="5638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lastslide"/>
          </p:cNvPr>
          <p:cNvSpPr/>
          <p:nvPr/>
        </p:nvSpPr>
        <p:spPr>
          <a:xfrm>
            <a:off x="1143000" y="5638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16449" y="10800"/>
                </a:moveTo>
                <a:lnTo>
                  <a:pt x="5943" y="17806"/>
                </a:lnTo>
                <a:lnTo>
                  <a:pt x="5943" y="3794"/>
                </a:lnTo>
                <a:close/>
              </a:path>
              <a:path fill="darken" w="25900" h="21600">
                <a:moveTo>
                  <a:pt x="18294" y="3794"/>
                </a:moveTo>
                <a:lnTo>
                  <a:pt x="18294" y="17806"/>
                </a:lnTo>
                <a:lnTo>
                  <a:pt x="19956" y="17806"/>
                </a:lnTo>
                <a:lnTo>
                  <a:pt x="19956" y="3794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Arial Narrow"/>
              </a:rPr>
              <a:t>Рис. 5 Схемные обозначения и проходные вольт-амперные характеристики транзистор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219320" y="1295280"/>
            <a:ext cx="6846840" cy="4800600"/>
            <a:chOff x="1219320" y="1295280"/>
            <a:chExt cx="6846840" cy="4800600"/>
          </a:xfrm>
        </p:grpSpPr>
        <p:sp>
          <p:nvSpPr>
            <p:cNvPr id="443" name=""/>
            <p:cNvSpPr/>
            <p:nvPr/>
          </p:nvSpPr>
          <p:spPr>
            <a:xfrm>
              <a:off x="3727440" y="3086640"/>
              <a:ext cx="4334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30640" y="3225240"/>
              <a:ext cx="343080" cy="32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65800" y="2897280"/>
              <a:ext cx="0" cy="9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27560" y="3290760"/>
              <a:ext cx="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27560" y="33249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27560" y="34606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2680" y="3460680"/>
              <a:ext cx="434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92560" y="3053880"/>
              <a:ext cx="568080" cy="60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2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2127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3353400" y="3016080"/>
              <a:ext cx="510480" cy="6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140280" y="3188880"/>
              <a:ext cx="869040" cy="5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56200" y="2883600"/>
              <a:ext cx="29052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87760" y="2881080"/>
              <a:ext cx="362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94040" y="3596040"/>
              <a:ext cx="4352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94040" y="3262680"/>
              <a:ext cx="3621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19520" y="3432240"/>
              <a:ext cx="36180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81640" y="5158440"/>
              <a:ext cx="4334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73640" y="3868920"/>
              <a:ext cx="1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32440" y="4307400"/>
              <a:ext cx="342720" cy="3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67240" y="3979440"/>
              <a:ext cx="0" cy="96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27560" y="4372920"/>
              <a:ext cx="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27560" y="44071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7560" y="45424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94720" y="4136040"/>
              <a:ext cx="567360" cy="60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2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2127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353400" y="4097880"/>
              <a:ext cx="510480" cy="6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3140280" y="4270680"/>
              <a:ext cx="869040" cy="5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57640" y="3966120"/>
              <a:ext cx="28908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87760" y="3900240"/>
              <a:ext cx="362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95840" y="4678560"/>
              <a:ext cx="4334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898720" y="4372920"/>
              <a:ext cx="24948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95760" y="4129920"/>
              <a:ext cx="43488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365640" y="4441680"/>
              <a:ext cx="0" cy="10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3003480" y="454248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36920" y="4474440"/>
              <a:ext cx="362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640" y="4271400"/>
              <a:ext cx="24912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10000" y="4474440"/>
              <a:ext cx="32544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35440" y="4502520"/>
              <a:ext cx="36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76880" y="4943880"/>
              <a:ext cx="18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81600" y="5432400"/>
              <a:ext cx="342720" cy="32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16400" y="5104800"/>
              <a:ext cx="0" cy="96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76720" y="5498280"/>
              <a:ext cx="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76720" y="55324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76720" y="56682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43880" y="5259960"/>
              <a:ext cx="56736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2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2127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202560" y="5223600"/>
              <a:ext cx="510480" cy="68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2989440" y="5396760"/>
              <a:ext cx="869040" cy="54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22800" y="6076440"/>
              <a:ext cx="1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06800" y="5089680"/>
              <a:ext cx="28908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40160" y="5054040"/>
              <a:ext cx="362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45000" y="5803560"/>
              <a:ext cx="4334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43200" y="5469840"/>
              <a:ext cx="3621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218040" y="5557680"/>
              <a:ext cx="0" cy="1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2747880" y="566064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91120" y="5592240"/>
              <a:ext cx="3618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67080" y="5623560"/>
              <a:ext cx="327240" cy="20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3960" y="3834720"/>
              <a:ext cx="9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4667400" y="2916360"/>
              <a:ext cx="0" cy="91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05600" y="3223800"/>
              <a:ext cx="361800" cy="610920"/>
            </a:xfrm>
            <a:custGeom>
              <a:avLst/>
              <a:gdLst/>
              <a:ahLst/>
              <a:rect l="l" t="t" r="r" b="b"/>
              <a:pathLst>
                <a:path w="570" h="1026">
                  <a:moveTo>
                    <a:pt x="0" y="1026"/>
                  </a:moveTo>
                  <a:cubicBezTo>
                    <a:pt x="128" y="983"/>
                    <a:pt x="257" y="940"/>
                    <a:pt x="342" y="855"/>
                  </a:cubicBezTo>
                  <a:cubicBezTo>
                    <a:pt x="427" y="770"/>
                    <a:pt x="475" y="656"/>
                    <a:pt x="513" y="513"/>
                  </a:cubicBezTo>
                  <a:cubicBezTo>
                    <a:pt x="551" y="370"/>
                    <a:pt x="560" y="114"/>
                    <a:pt x="57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48480" y="3630600"/>
              <a:ext cx="43488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78320" y="2877840"/>
              <a:ext cx="325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00480" y="4921560"/>
              <a:ext cx="97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4635720" y="4003200"/>
              <a:ext cx="0" cy="91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05600" y="4203000"/>
              <a:ext cx="471240" cy="712440"/>
            </a:xfrm>
            <a:custGeom>
              <a:avLst/>
              <a:gdLst/>
              <a:ahLst/>
              <a:rect l="l" t="t" r="r" b="b"/>
              <a:pathLst>
                <a:path w="570" h="1026">
                  <a:moveTo>
                    <a:pt x="0" y="1026"/>
                  </a:moveTo>
                  <a:cubicBezTo>
                    <a:pt x="128" y="983"/>
                    <a:pt x="257" y="940"/>
                    <a:pt x="342" y="855"/>
                  </a:cubicBezTo>
                  <a:cubicBezTo>
                    <a:pt x="427" y="770"/>
                    <a:pt x="475" y="656"/>
                    <a:pt x="513" y="513"/>
                  </a:cubicBezTo>
                  <a:cubicBezTo>
                    <a:pt x="551" y="370"/>
                    <a:pt x="560" y="114"/>
                    <a:pt x="57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16440" y="4717080"/>
              <a:ext cx="43524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46640" y="3964320"/>
              <a:ext cx="325440" cy="2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65560" y="6006600"/>
              <a:ext cx="9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165560" y="5083920"/>
              <a:ext cx="0" cy="91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60880" y="5222160"/>
              <a:ext cx="579600" cy="780840"/>
            </a:xfrm>
            <a:custGeom>
              <a:avLst/>
              <a:gdLst/>
              <a:ahLst/>
              <a:rect l="l" t="t" r="r" b="b"/>
              <a:pathLst>
                <a:path w="570" h="1026">
                  <a:moveTo>
                    <a:pt x="0" y="1026"/>
                  </a:moveTo>
                  <a:cubicBezTo>
                    <a:pt x="128" y="983"/>
                    <a:pt x="257" y="940"/>
                    <a:pt x="342" y="855"/>
                  </a:cubicBezTo>
                  <a:cubicBezTo>
                    <a:pt x="427" y="770"/>
                    <a:pt x="475" y="656"/>
                    <a:pt x="513" y="513"/>
                  </a:cubicBezTo>
                  <a:cubicBezTo>
                    <a:pt x="551" y="370"/>
                    <a:pt x="560" y="114"/>
                    <a:pt x="570" y="0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80080" y="5803560"/>
              <a:ext cx="43488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29200" y="5049720"/>
              <a:ext cx="325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72200" y="3083400"/>
              <a:ext cx="4352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23000" y="3285000"/>
              <a:ext cx="343080" cy="3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58160" y="2957040"/>
              <a:ext cx="0" cy="96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18480" y="3350520"/>
              <a:ext cx="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18480" y="3384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18480" y="35200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73680" y="3517560"/>
              <a:ext cx="246240" cy="25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85640" y="3113640"/>
              <a:ext cx="567360" cy="60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2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2127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943960" y="3075480"/>
              <a:ext cx="510480" cy="6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5730840" y="3248280"/>
              <a:ext cx="869760" cy="5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64200" y="3928680"/>
              <a:ext cx="1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48560" y="2943360"/>
              <a:ext cx="28872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78680" y="2940480"/>
              <a:ext cx="36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86400" y="3656160"/>
              <a:ext cx="4334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97560" y="3354840"/>
              <a:ext cx="3621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440" y="3492000"/>
              <a:ext cx="36180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5519520" y="3517560"/>
              <a:ext cx="252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53080" y="4338360"/>
              <a:ext cx="343080" cy="31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88240" y="4017960"/>
              <a:ext cx="1440" cy="9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50000" y="4403880"/>
              <a:ext cx="0" cy="2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50000" y="4435560"/>
              <a:ext cx="144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850000" y="4570920"/>
              <a:ext cx="144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15720" y="4167000"/>
              <a:ext cx="567360" cy="60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2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2127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5775840" y="4134960"/>
              <a:ext cx="510480" cy="67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5562720" y="4303440"/>
              <a:ext cx="866160" cy="53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96080" y="4979520"/>
              <a:ext cx="1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678640" y="3995640"/>
              <a:ext cx="2887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08760" y="3931560"/>
              <a:ext cx="362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16480" y="4709520"/>
              <a:ext cx="4352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21520" y="4403880"/>
              <a:ext cx="2476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8440" y="4165560"/>
              <a:ext cx="4348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5786640" y="4471200"/>
              <a:ext cx="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5424480" y="4570920"/>
              <a:ext cx="36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61160" y="4501080"/>
              <a:ext cx="255600" cy="5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04080" y="4301280"/>
              <a:ext cx="24768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31000" y="4503960"/>
              <a:ext cx="32544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83360" y="4539960"/>
              <a:ext cx="3618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80400" y="4508640"/>
              <a:ext cx="1807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94480" y="5428080"/>
              <a:ext cx="343080" cy="32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29280" y="5100480"/>
              <a:ext cx="0" cy="96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91400" y="5493600"/>
              <a:ext cx="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91400" y="55278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91400" y="56638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56400" y="5256720"/>
              <a:ext cx="568080" cy="60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582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582127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817600" y="5222160"/>
              <a:ext cx="509760" cy="67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5604120" y="5392440"/>
              <a:ext cx="866160" cy="54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37480" y="6072120"/>
              <a:ext cx="18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20040" y="5086800"/>
              <a:ext cx="28872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57880" y="5800680"/>
              <a:ext cx="43488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57880" y="5466600"/>
              <a:ext cx="362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830920" y="5554440"/>
              <a:ext cx="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360760" y="565632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07240" y="5582880"/>
              <a:ext cx="245880" cy="10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83560" y="5618880"/>
              <a:ext cx="3254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70600" y="5052600"/>
              <a:ext cx="36216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07320" y="5358240"/>
              <a:ext cx="36180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51680" y="5596560"/>
              <a:ext cx="2174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803640" y="2940480"/>
              <a:ext cx="1181520" cy="1024920"/>
              <a:chOff x="6803640" y="2940480"/>
              <a:chExt cx="1181520" cy="1024920"/>
            </a:xfrm>
          </p:grpSpPr>
          <p:sp>
            <p:nvSpPr>
              <p:cNvPr id="570" name=""/>
              <p:cNvSpPr/>
              <p:nvPr/>
            </p:nvSpPr>
            <p:spPr>
              <a:xfrm>
                <a:off x="6936120" y="3897000"/>
                <a:ext cx="97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6936120" y="2974320"/>
                <a:ext cx="0" cy="9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6178800">
                <a:off x="7003440" y="3102840"/>
                <a:ext cx="578160" cy="870120"/>
              </a:xfrm>
              <a:custGeom>
                <a:avLst/>
                <a:gdLst/>
                <a:ahLst/>
                <a:rect l="l" t="t" r="r" b="b"/>
                <a:pathLst>
                  <a:path w="570" h="1026">
                    <a:moveTo>
                      <a:pt x="0" y="1026"/>
                    </a:moveTo>
                    <a:cubicBezTo>
                      <a:pt x="128" y="983"/>
                      <a:pt x="257" y="940"/>
                      <a:pt x="342" y="855"/>
                    </a:cubicBezTo>
                    <a:cubicBezTo>
                      <a:pt x="427" y="770"/>
                      <a:pt x="475" y="656"/>
                      <a:pt x="513" y="513"/>
                    </a:cubicBezTo>
                    <a:cubicBezTo>
                      <a:pt x="551" y="370"/>
                      <a:pt x="560" y="114"/>
                      <a:pt x="570" y="0"/>
                    </a:cubicBezTo>
                  </a:path>
                </a:pathLst>
              </a:custGeom>
              <a:noFill/>
              <a:ln w="28440">
                <a:solidFill>
                  <a:srgbClr val="00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551720" y="3692880"/>
                <a:ext cx="433440" cy="27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з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899400" y="2940480"/>
                <a:ext cx="32688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6803640" y="3942000"/>
              <a:ext cx="1181520" cy="1023480"/>
              <a:chOff x="6803640" y="3942000"/>
              <a:chExt cx="1181520" cy="1023480"/>
            </a:xfrm>
          </p:grpSpPr>
          <p:sp>
            <p:nvSpPr>
              <p:cNvPr id="576" name=""/>
              <p:cNvSpPr/>
              <p:nvPr/>
            </p:nvSpPr>
            <p:spPr>
              <a:xfrm>
                <a:off x="6936120" y="4897080"/>
                <a:ext cx="97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7075800" y="3975840"/>
                <a:ext cx="0" cy="9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6178800">
                <a:off x="7003440" y="4104000"/>
                <a:ext cx="578160" cy="870120"/>
              </a:xfrm>
              <a:custGeom>
                <a:avLst/>
                <a:gdLst/>
                <a:ahLst/>
                <a:rect l="l" t="t" r="r" b="b"/>
                <a:pathLst>
                  <a:path w="570" h="1026">
                    <a:moveTo>
                      <a:pt x="0" y="1026"/>
                    </a:moveTo>
                    <a:cubicBezTo>
                      <a:pt x="128" y="983"/>
                      <a:pt x="257" y="940"/>
                      <a:pt x="342" y="855"/>
                    </a:cubicBezTo>
                    <a:cubicBezTo>
                      <a:pt x="427" y="770"/>
                      <a:pt x="475" y="656"/>
                      <a:pt x="513" y="513"/>
                    </a:cubicBezTo>
                    <a:cubicBezTo>
                      <a:pt x="551" y="370"/>
                      <a:pt x="560" y="114"/>
                      <a:pt x="570" y="0"/>
                    </a:cubicBezTo>
                  </a:path>
                </a:pathLst>
              </a:custGeom>
              <a:noFill/>
              <a:ln w="2844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551720" y="4694400"/>
                <a:ext cx="433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з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075800" y="3942000"/>
                <a:ext cx="32544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803640" y="5015160"/>
              <a:ext cx="1222920" cy="1023480"/>
              <a:chOff x="6803640" y="5015160"/>
              <a:chExt cx="1222920" cy="1023480"/>
            </a:xfrm>
          </p:grpSpPr>
          <p:sp>
            <p:nvSpPr>
              <p:cNvPr id="582" name=""/>
              <p:cNvSpPr/>
              <p:nvPr/>
            </p:nvSpPr>
            <p:spPr>
              <a:xfrm>
                <a:off x="7043760" y="5965920"/>
                <a:ext cx="9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7694640" y="5047920"/>
                <a:ext cx="0" cy="91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6178800">
                <a:off x="7003440" y="5174280"/>
                <a:ext cx="578160" cy="870120"/>
              </a:xfrm>
              <a:custGeom>
                <a:avLst/>
                <a:gdLst/>
                <a:ahLst/>
                <a:rect l="l" t="t" r="r" b="b"/>
                <a:pathLst>
                  <a:path w="570" h="1026">
                    <a:moveTo>
                      <a:pt x="0" y="1026"/>
                    </a:moveTo>
                    <a:cubicBezTo>
                      <a:pt x="128" y="983"/>
                      <a:pt x="257" y="940"/>
                      <a:pt x="342" y="855"/>
                    </a:cubicBezTo>
                    <a:cubicBezTo>
                      <a:pt x="427" y="770"/>
                      <a:pt x="475" y="656"/>
                      <a:pt x="513" y="513"/>
                    </a:cubicBezTo>
                    <a:cubicBezTo>
                      <a:pt x="551" y="370"/>
                      <a:pt x="560" y="114"/>
                      <a:pt x="570" y="0"/>
                    </a:cubicBezTo>
                  </a:path>
                </a:pathLst>
              </a:custGeom>
              <a:noFill/>
              <a:ln w="2844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591680" y="5766120"/>
                <a:ext cx="434880" cy="27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з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401240" y="5015160"/>
                <a:ext cx="32544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6116760" y="5079240"/>
              <a:ext cx="4348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1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19320" y="2797560"/>
              <a:ext cx="126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 управляющи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1295640" y="1295280"/>
              <a:ext cx="6770520" cy="4800600"/>
              <a:chOff x="1295640" y="1295280"/>
              <a:chExt cx="6770520" cy="480060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1300320" y="1299240"/>
                <a:ext cx="6761160" cy="4791600"/>
                <a:chOff x="1300320" y="1299240"/>
                <a:chExt cx="6761160" cy="4791600"/>
              </a:xfrm>
            </p:grpSpPr>
            <p:grpSp>
              <p:nvGrpSpPr>
                <p:cNvPr id="591" name=""/>
                <p:cNvGrpSpPr/>
                <p:nvPr/>
              </p:nvGrpSpPr>
              <p:grpSpPr>
                <a:xfrm>
                  <a:off x="1300320" y="1299240"/>
                  <a:ext cx="1403280" cy="1665720"/>
                  <a:chOff x="1300320" y="1299240"/>
                  <a:chExt cx="1403280" cy="166572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1368720" y="1299240"/>
                    <a:ext cx="1266840" cy="166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Тип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транзистор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1300320" y="1299240"/>
                    <a:ext cx="1403280" cy="166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2703600" y="1299240"/>
                  <a:ext cx="2697120" cy="583200"/>
                  <a:chOff x="2703600" y="1299240"/>
                  <a:chExt cx="2697120" cy="58320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2772000" y="1299240"/>
                    <a:ext cx="2560680" cy="58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С каналом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 тип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703600" y="1299240"/>
                    <a:ext cx="2697120" cy="583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5400720" y="1299240"/>
                  <a:ext cx="2660760" cy="583200"/>
                  <a:chOff x="5400720" y="1299240"/>
                  <a:chExt cx="2660760" cy="58320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>
                    <a:off x="5469120" y="1299240"/>
                    <a:ext cx="2523960" cy="58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С каналом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</a:t>
                    </a: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тип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5400720" y="1299240"/>
                    <a:ext cx="2660760" cy="583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2703600" y="1882440"/>
                  <a:ext cx="1330560" cy="1082520"/>
                  <a:chOff x="2703600" y="1882440"/>
                  <a:chExt cx="1330560" cy="10825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2772000" y="1882440"/>
                    <a:ext cx="1193760" cy="1082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Полярность напряжени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703600" y="1882440"/>
                    <a:ext cx="1330560" cy="1082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4034160" y="1882440"/>
                  <a:ext cx="1366560" cy="1082520"/>
                  <a:chOff x="4034160" y="1882440"/>
                  <a:chExt cx="1366560" cy="108252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>
                    <a:off x="4102200" y="1882440"/>
                    <a:ext cx="1230480" cy="1082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Вольт-амперная характеристик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4034160" y="1882440"/>
                    <a:ext cx="1366560" cy="1082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5400720" y="1882440"/>
                  <a:ext cx="1330560" cy="1082520"/>
                  <a:chOff x="5400720" y="1882440"/>
                  <a:chExt cx="1330560" cy="108252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5469120" y="1882440"/>
                    <a:ext cx="1193760" cy="1082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Полярность напряжени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5400720" y="1882440"/>
                    <a:ext cx="1330560" cy="1082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6731280" y="1882440"/>
                  <a:ext cx="1330200" cy="1082520"/>
                  <a:chOff x="6731280" y="1882440"/>
                  <a:chExt cx="1330200" cy="108252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6799320" y="1882440"/>
                    <a:ext cx="1193760" cy="1082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Вольт-амперная характеристик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6731280" y="1882440"/>
                    <a:ext cx="1330200" cy="1082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1300320" y="2964960"/>
                  <a:ext cx="1403280" cy="1029960"/>
                  <a:chOff x="1300320" y="2964960"/>
                  <a:chExt cx="1403280" cy="102996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1368720" y="2964960"/>
                    <a:ext cx="1266840" cy="102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</a:t>
                    </a: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переходом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1300320" y="2964960"/>
                    <a:ext cx="1403280" cy="1029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2703600" y="2964960"/>
                  <a:ext cx="1330560" cy="1029960"/>
                  <a:chOff x="2703600" y="2964960"/>
                  <a:chExt cx="1330560" cy="102996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2772000" y="2964960"/>
                    <a:ext cx="1193760" cy="102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703600" y="2964960"/>
                    <a:ext cx="1330560" cy="1029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4034160" y="2964960"/>
                  <a:ext cx="1366560" cy="1029960"/>
                  <a:chOff x="4034160" y="2964960"/>
                  <a:chExt cx="1366560" cy="102996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>
                    <a:off x="4102200" y="2964960"/>
                    <a:ext cx="1230480" cy="102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4034160" y="2964960"/>
                    <a:ext cx="1366560" cy="1029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5400720" y="2964960"/>
                  <a:ext cx="1330560" cy="1029960"/>
                  <a:chOff x="5400720" y="2964960"/>
                  <a:chExt cx="1330560" cy="102996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5469120" y="2964960"/>
                    <a:ext cx="1193760" cy="102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5400720" y="2964960"/>
                    <a:ext cx="1330560" cy="1029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6731280" y="2964960"/>
                  <a:ext cx="1330200" cy="1029960"/>
                  <a:chOff x="6731280" y="2964960"/>
                  <a:chExt cx="1330200" cy="102996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>
                    <a:off x="6799320" y="2964960"/>
                    <a:ext cx="1193760" cy="102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6731280" y="2964960"/>
                    <a:ext cx="1330200" cy="1029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1300320" y="3995280"/>
                  <a:ext cx="1403280" cy="1047600"/>
                  <a:chOff x="1300320" y="3995280"/>
                  <a:chExt cx="1403280" cy="104760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1368720" y="3995280"/>
                    <a:ext cx="126684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МДП со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Встроенным каналом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1300320" y="3995280"/>
                    <a:ext cx="140328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2703600" y="3995280"/>
                  <a:ext cx="1330560" cy="1047600"/>
                  <a:chOff x="2703600" y="3995280"/>
                  <a:chExt cx="1330560" cy="104760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>
                    <a:off x="2772000" y="3995280"/>
                    <a:ext cx="119376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703600" y="3995280"/>
                    <a:ext cx="133056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4034160" y="3995280"/>
                  <a:ext cx="1366560" cy="1047600"/>
                  <a:chOff x="4034160" y="3995280"/>
                  <a:chExt cx="1366560" cy="104760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4102200" y="3995280"/>
                    <a:ext cx="123048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4034160" y="3995280"/>
                    <a:ext cx="136656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5400720" y="3995280"/>
                  <a:ext cx="1330560" cy="1047600"/>
                  <a:chOff x="5400720" y="3995280"/>
                  <a:chExt cx="1330560" cy="104760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5469120" y="3995280"/>
                    <a:ext cx="119376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5400720" y="3995280"/>
                    <a:ext cx="133056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6731280" y="3995280"/>
                  <a:ext cx="1330200" cy="1047600"/>
                  <a:chOff x="6731280" y="3995280"/>
                  <a:chExt cx="1330200" cy="104760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6799320" y="3995280"/>
                    <a:ext cx="119376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6731280" y="3995280"/>
                    <a:ext cx="133020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1300320" y="5043240"/>
                  <a:ext cx="1403280" cy="1047600"/>
                  <a:chOff x="1300320" y="5043240"/>
                  <a:chExt cx="1403280" cy="1047600"/>
                </a:xfrm>
              </p:grpSpPr>
              <p:sp>
                <p:nvSpPr>
                  <p:cNvPr id="643" name=""/>
                  <p:cNvSpPr/>
                  <p:nvPr/>
                </p:nvSpPr>
                <p:spPr>
                  <a:xfrm>
                    <a:off x="1368720" y="5043240"/>
                    <a:ext cx="126684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МДП с индуцированным каналом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1300320" y="5043240"/>
                    <a:ext cx="140328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2703600" y="5043240"/>
                  <a:ext cx="1330560" cy="1047600"/>
                  <a:chOff x="2703600" y="5043240"/>
                  <a:chExt cx="1330560" cy="104760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>
                    <a:off x="2772000" y="5043240"/>
                    <a:ext cx="119376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703600" y="5043240"/>
                    <a:ext cx="133056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4034160" y="5043240"/>
                  <a:ext cx="1366560" cy="1047600"/>
                  <a:chOff x="4034160" y="5043240"/>
                  <a:chExt cx="1366560" cy="104760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4102200" y="5043240"/>
                    <a:ext cx="123048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4034160" y="5043240"/>
                    <a:ext cx="136656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5400720" y="5043240"/>
                  <a:ext cx="1330560" cy="1047600"/>
                  <a:chOff x="5400720" y="5043240"/>
                  <a:chExt cx="1330560" cy="104760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5469120" y="5043240"/>
                    <a:ext cx="119376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5400720" y="5043240"/>
                    <a:ext cx="133056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4" name=""/>
                <p:cNvGrpSpPr/>
                <p:nvPr/>
              </p:nvGrpSpPr>
              <p:grpSpPr>
                <a:xfrm>
                  <a:off x="6731280" y="5043240"/>
                  <a:ext cx="1330200" cy="1047600"/>
                  <a:chOff x="6731280" y="5043240"/>
                  <a:chExt cx="1330200" cy="104760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6799320" y="5043240"/>
                    <a:ext cx="1193760" cy="10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6731280" y="5043240"/>
                    <a:ext cx="1330200" cy="1047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7" name=""/>
              <p:cNvSpPr/>
              <p:nvPr/>
            </p:nvSpPr>
            <p:spPr>
              <a:xfrm>
                <a:off x="1295640" y="1295280"/>
                <a:ext cx="6770520" cy="480060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"/>
          <p:cNvSpPr/>
          <p:nvPr/>
        </p:nvSpPr>
        <p:spPr>
          <a:xfrm>
            <a:off x="3240" y="57420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Arial"/>
              </a:rPr>
              <a:t>Рис. 6. Упрощенная структура полевого транзистора ( с каналом </a:t>
            </a:r>
            <a:r>
              <a:rPr b="0" i="1" lang="en-US" sz="2400" spc="-1" strike="noStrike">
                <a:solidFill>
                  <a:srgbClr val="221304"/>
                </a:solidFill>
                <a:latin typeface="Arial"/>
              </a:rPr>
              <a:t>n-</a:t>
            </a:r>
            <a:r>
              <a:rPr b="0" lang="ru-RU" sz="2400" spc="-1" strike="noStrike">
                <a:solidFill>
                  <a:srgbClr val="221304"/>
                </a:solidFill>
                <a:latin typeface="Arial"/>
              </a:rPr>
              <a:t>типа ) с управляющим   </a:t>
            </a:r>
            <a:r>
              <a:rPr b="0" i="1" lang="en-US" sz="2400" spc="-1" strike="noStrike">
                <a:solidFill>
                  <a:srgbClr val="221304"/>
                </a:solidFill>
                <a:latin typeface="Arial"/>
              </a:rPr>
              <a:t>p-n</a:t>
            </a:r>
            <a:r>
              <a:rPr b="0" i="1" lang="ru-RU" sz="2400" spc="-1" strike="noStrike">
                <a:solidFill>
                  <a:srgbClr val="22130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21304"/>
                </a:solidFill>
                <a:latin typeface="Arial"/>
              </a:rPr>
              <a:t>переходом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523880" y="1828440"/>
            <a:ext cx="6478560" cy="4235760"/>
            <a:chOff x="1523880" y="1828440"/>
            <a:chExt cx="6478560" cy="4235760"/>
          </a:xfrm>
        </p:grpSpPr>
        <p:sp>
          <p:nvSpPr>
            <p:cNvPr id="665" name=""/>
            <p:cNvSpPr/>
            <p:nvPr/>
          </p:nvSpPr>
          <p:spPr>
            <a:xfrm>
              <a:off x="3815640" y="2270520"/>
              <a:ext cx="1918800" cy="114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" y="5771"/>
                  </a:moveTo>
                  <a:arcTo wR="10800" hR="10800" stAng="-9134839" swAng="75951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" y="5771"/>
                  </a:moveTo>
                  <a:arcTo wR="10800" hR="10800" stAng="-9134839" swAng="7595137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912480" y="2588760"/>
              <a:ext cx="36000" cy="18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48840" y="2769840"/>
              <a:ext cx="1628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5577120" y="2588760"/>
              <a:ext cx="72360" cy="18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0829400">
              <a:off x="3830040" y="3067560"/>
              <a:ext cx="1918800" cy="114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" y="5771"/>
                  </a:moveTo>
                  <a:arcTo wR="10800" hR="10800" stAng="-9134839" swAng="75951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" y="5771"/>
                  </a:moveTo>
                  <a:arcTo wR="10800" hR="10800" stAng="-9134839" swAng="7595137"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5614200" y="3717360"/>
              <a:ext cx="34560" cy="18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3985560" y="3704400"/>
              <a:ext cx="1628640" cy="1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3911760" y="3703320"/>
              <a:ext cx="73800" cy="180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04120" y="2588760"/>
              <a:ext cx="108360" cy="253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12480" y="2842200"/>
              <a:ext cx="1701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5613480" y="2624760"/>
              <a:ext cx="108360" cy="217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3840120" y="3638520"/>
              <a:ext cx="108360" cy="253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48840" y="3638880"/>
              <a:ext cx="1701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9840" y="3638880"/>
              <a:ext cx="72000" cy="253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95400" y="2588760"/>
              <a:ext cx="2388600" cy="651600"/>
            </a:xfrm>
            <a:custGeom>
              <a:avLst/>
              <a:gdLst/>
              <a:ahLst/>
              <a:rect l="l" t="t" r="r" b="b"/>
              <a:pathLst>
                <a:path w="3762" h="1026">
                  <a:moveTo>
                    <a:pt x="0" y="0"/>
                  </a:moveTo>
                  <a:cubicBezTo>
                    <a:pt x="38" y="228"/>
                    <a:pt x="76" y="456"/>
                    <a:pt x="171" y="570"/>
                  </a:cubicBezTo>
                  <a:cubicBezTo>
                    <a:pt x="266" y="684"/>
                    <a:pt x="86" y="627"/>
                    <a:pt x="570" y="684"/>
                  </a:cubicBezTo>
                  <a:cubicBezTo>
                    <a:pt x="1054" y="741"/>
                    <a:pt x="2546" y="1026"/>
                    <a:pt x="3078" y="912"/>
                  </a:cubicBezTo>
                  <a:cubicBezTo>
                    <a:pt x="3610" y="798"/>
                    <a:pt x="3658" y="171"/>
                    <a:pt x="376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731400" y="3312720"/>
              <a:ext cx="2460960" cy="572760"/>
            </a:xfrm>
            <a:custGeom>
              <a:avLst/>
              <a:gdLst/>
              <a:ahLst/>
              <a:rect l="l" t="t" r="r" b="b"/>
              <a:pathLst>
                <a:path w="3876" h="902">
                  <a:moveTo>
                    <a:pt x="0" y="902"/>
                  </a:moveTo>
                  <a:cubicBezTo>
                    <a:pt x="28" y="669"/>
                    <a:pt x="57" y="436"/>
                    <a:pt x="171" y="332"/>
                  </a:cubicBezTo>
                  <a:cubicBezTo>
                    <a:pt x="285" y="228"/>
                    <a:pt x="209" y="313"/>
                    <a:pt x="684" y="275"/>
                  </a:cubicBezTo>
                  <a:cubicBezTo>
                    <a:pt x="1159" y="237"/>
                    <a:pt x="2489" y="0"/>
                    <a:pt x="3021" y="104"/>
                  </a:cubicBezTo>
                  <a:cubicBezTo>
                    <a:pt x="3553" y="208"/>
                    <a:pt x="3734" y="760"/>
                    <a:pt x="3876" y="90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3695040" y="2588760"/>
              <a:ext cx="72360" cy="72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3767400" y="2733840"/>
              <a:ext cx="7236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3804120" y="2769840"/>
              <a:ext cx="7200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3839760" y="2842200"/>
              <a:ext cx="7236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3875760" y="2842200"/>
              <a:ext cx="10836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3948480" y="2842200"/>
              <a:ext cx="10836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4020840" y="2842200"/>
              <a:ext cx="10836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4093200" y="2842200"/>
              <a:ext cx="10836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165560" y="2842200"/>
              <a:ext cx="10836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4201920" y="2842200"/>
              <a:ext cx="14472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4274280" y="2842200"/>
              <a:ext cx="14472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3731040" y="2661120"/>
              <a:ext cx="10836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731400" y="2625120"/>
              <a:ext cx="72360" cy="72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4346640" y="2842200"/>
              <a:ext cx="14436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4419000" y="2842200"/>
              <a:ext cx="144360" cy="253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4491720" y="2841840"/>
              <a:ext cx="144720" cy="253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4564080" y="2841840"/>
              <a:ext cx="144360" cy="253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4636440" y="2841840"/>
              <a:ext cx="144360" cy="253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4708800" y="2842200"/>
              <a:ext cx="144720" cy="289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4781160" y="2842200"/>
              <a:ext cx="144720" cy="289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4853520" y="2842200"/>
              <a:ext cx="144360" cy="289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4925880" y="2842200"/>
              <a:ext cx="144360" cy="289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4962240" y="2842200"/>
              <a:ext cx="18072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5034600" y="2842200"/>
              <a:ext cx="18072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5106960" y="2842200"/>
              <a:ext cx="18072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5179320" y="2842200"/>
              <a:ext cx="18072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251680" y="2842200"/>
              <a:ext cx="18072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5324040" y="2842200"/>
              <a:ext cx="18072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5396400" y="2806200"/>
              <a:ext cx="180720" cy="36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468400" y="2842200"/>
              <a:ext cx="14436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5541480" y="2588400"/>
              <a:ext cx="289080" cy="5792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5613480" y="2588400"/>
              <a:ext cx="289440" cy="5792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5686200" y="2588400"/>
              <a:ext cx="289440" cy="5792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5794560" y="2588400"/>
              <a:ext cx="253080" cy="5065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3731040" y="3493800"/>
              <a:ext cx="144360" cy="3981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3803760" y="3493800"/>
              <a:ext cx="144360" cy="3981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948480" y="3493800"/>
              <a:ext cx="7236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021200" y="3493800"/>
              <a:ext cx="7200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4093200" y="3493800"/>
              <a:ext cx="7236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4165560" y="3493800"/>
              <a:ext cx="7236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4238280" y="3493800"/>
              <a:ext cx="7200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310280" y="3457800"/>
              <a:ext cx="10836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4382640" y="3457800"/>
              <a:ext cx="10836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4455000" y="3457800"/>
              <a:ext cx="108360" cy="18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527360" y="3421440"/>
              <a:ext cx="14436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600080" y="3421440"/>
              <a:ext cx="14472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4672080" y="3421440"/>
              <a:ext cx="14436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4744800" y="3421440"/>
              <a:ext cx="14436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4817160" y="3385440"/>
              <a:ext cx="180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4889880" y="3385440"/>
              <a:ext cx="180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962240" y="3385440"/>
              <a:ext cx="180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034600" y="3385440"/>
              <a:ext cx="180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5106960" y="3385440"/>
              <a:ext cx="180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5179320" y="3385440"/>
              <a:ext cx="180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5251680" y="3385440"/>
              <a:ext cx="180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324040" y="3385440"/>
              <a:ext cx="144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396400" y="3385440"/>
              <a:ext cx="14472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5468760" y="3385440"/>
              <a:ext cx="14436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5541480" y="3385440"/>
              <a:ext cx="144360" cy="253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5613480" y="3421080"/>
              <a:ext cx="10836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649840" y="3421080"/>
              <a:ext cx="144360" cy="253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5686200" y="3457800"/>
              <a:ext cx="144360" cy="289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5686200" y="3493800"/>
              <a:ext cx="21708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5722200" y="3530160"/>
              <a:ext cx="217080" cy="325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5758560" y="3602520"/>
              <a:ext cx="217080" cy="289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5830920" y="3638520"/>
              <a:ext cx="180720" cy="253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5903280" y="3674520"/>
              <a:ext cx="144360" cy="217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5975640" y="3747240"/>
              <a:ext cx="108360" cy="144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6048000" y="3783240"/>
              <a:ext cx="72360" cy="108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120360" y="3819240"/>
              <a:ext cx="36000" cy="72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2609280" y="2588760"/>
              <a:ext cx="130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609280" y="3891960"/>
              <a:ext cx="130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609640" y="2588760"/>
              <a:ext cx="0" cy="130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649840" y="2588760"/>
              <a:ext cx="162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49840" y="3891960"/>
              <a:ext cx="162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78480" y="2588760"/>
              <a:ext cx="0" cy="130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4781160" y="1828440"/>
              <a:ext cx="0" cy="47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781160" y="42177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81160" y="1828800"/>
              <a:ext cx="2859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0640" y="1828800"/>
              <a:ext cx="0" cy="289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781160" y="4724640"/>
              <a:ext cx="2859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595880" y="3168000"/>
              <a:ext cx="101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39120" y="3168000"/>
              <a:ext cx="0" cy="249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39120" y="4724640"/>
              <a:ext cx="1338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948840" y="4724640"/>
              <a:ext cx="832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78480" y="3204360"/>
              <a:ext cx="723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002440" y="3204360"/>
              <a:ext cx="0" cy="246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39120" y="5666040"/>
              <a:ext cx="231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34600" y="5666040"/>
              <a:ext cx="296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080160" y="3240720"/>
              <a:ext cx="9410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23880" y="3132000"/>
              <a:ext cx="72360" cy="7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102760" y="3132000"/>
              <a:ext cx="72360" cy="7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102760" y="4688640"/>
              <a:ext cx="72360" cy="7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78320" y="4688640"/>
              <a:ext cx="72360" cy="7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76120" y="4688640"/>
              <a:ext cx="72360" cy="7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455360" y="5629680"/>
              <a:ext cx="72360" cy="7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62240" y="5629680"/>
              <a:ext cx="72360" cy="7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396400" y="5195520"/>
              <a:ext cx="1158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771960" y="5086800"/>
              <a:ext cx="7236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310640" y="5195520"/>
              <a:ext cx="7959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     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33600" y="4254120"/>
              <a:ext cx="7959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     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514320" y="4724640"/>
              <a:ext cx="6512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з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491720" y="5593680"/>
              <a:ext cx="6512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с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682000" y="3023280"/>
              <a:ext cx="28908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175120" y="2878560"/>
              <a:ext cx="3254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314840" y="2842200"/>
              <a:ext cx="3254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564080" y="2371680"/>
              <a:ext cx="4705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27720" y="3747240"/>
              <a:ext cx="5065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518520" y="3421440"/>
              <a:ext cx="47052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781160" y="4362840"/>
              <a:ext cx="3254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1143000" y="304920"/>
            <a:ext cx="763596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затвором и истоком подается напряжение такой полярности, чтобы оно создавало обратное смещени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хода, а напряжение между стоком и истоком  имеет такую полярность, чтобы основные носители двигались от истока к стоку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ханизм управления  током  в транзисторе заключается в следующем. Как известно из теории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а, при увеличении  обратного смещения на переходе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з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 обеднённого слоя будет  расширяться и распространяться в область полупроводника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типа, поскольку для основных носителей  в слоях всегда соблюдается условие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&gt;&gt;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 как в обедненном слое практически отсутствуют свободные носители заряда, то электрический ток может быть  только в проводящем канале, расположенном между обедненными слоями. Изменяя напряжени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з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можно менять поперечное сечение проводящего канала, т.е. его проводимость, а следовательно ,  управлять током транзистора. Другими словами полевой транзистор можно рассматривать как управляемый резистор. Если напряжени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з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статочно велико то происходит смыкание обедненных областей  и ток транзистора станет равным нулю. Напряжени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, при котором происходит перекрытие канала, называется напряжением отсечки. При нулевом напряжении на затворе ( т. е. затвор и исток закорочены) ток транзистора максимальный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с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ток насыщения стока              ( рис.7 а ), который практически не зависит от напряж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с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и условии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си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днее объясняется тем, что в рабочем режиме канал не является  эквипотенциальным вследствие того, что ток стока  вызывает падение напряжения в самом канале, которое создает дополнительное обратное смещение на управляюще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е. Это способствует уменьшению проводимости канала, в результате чего увеличение  напряж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с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е сопровождается пропорциональным увеличением тока стока(рис.7 б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Рис. 7 Стокозатворная (а) и выходные (б)  характеристики транзистора  с управляющим </a:t>
            </a:r>
            <a:r>
              <a:rPr b="0" i="1" lang="en-US" sz="2400" spc="-1" strike="noStrike">
                <a:solidFill>
                  <a:srgbClr val="221304"/>
                </a:solidFill>
                <a:latin typeface="Times New Roman"/>
              </a:rPr>
              <a:t>p-n</a:t>
            </a:r>
            <a:r>
              <a:rPr b="0" i="1" lang="ru-RU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переходом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33520" y="2133720"/>
            <a:ext cx="3457440" cy="3607920"/>
            <a:chOff x="533520" y="2133720"/>
            <a:chExt cx="3457440" cy="3607920"/>
          </a:xfrm>
        </p:grpSpPr>
        <p:sp>
          <p:nvSpPr>
            <p:cNvPr id="801" name=""/>
            <p:cNvSpPr/>
            <p:nvPr/>
          </p:nvSpPr>
          <p:spPr>
            <a:xfrm>
              <a:off x="533520" y="5212440"/>
              <a:ext cx="331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476440" y="2240280"/>
              <a:ext cx="0" cy="297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362320" y="3497760"/>
              <a:ext cx="22860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990720" y="5212440"/>
              <a:ext cx="0" cy="457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76440" y="5212440"/>
              <a:ext cx="0" cy="4572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990720" y="5555520"/>
              <a:ext cx="14857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790640" y="4869360"/>
              <a:ext cx="0" cy="342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1790280" y="3497760"/>
              <a:ext cx="685800" cy="17146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2120" y="3497760"/>
              <a:ext cx="1714320" cy="1714680"/>
            </a:xfrm>
            <a:custGeom>
              <a:avLst/>
              <a:gdLst/>
              <a:ahLst/>
              <a:rect l="l" t="t" r="r" b="b"/>
              <a:pathLst>
                <a:path w="2700" h="2700">
                  <a:moveTo>
                    <a:pt x="0" y="2700"/>
                  </a:moveTo>
                  <a:cubicBezTo>
                    <a:pt x="225" y="2700"/>
                    <a:pt x="450" y="2700"/>
                    <a:pt x="720" y="2520"/>
                  </a:cubicBezTo>
                  <a:cubicBezTo>
                    <a:pt x="990" y="2340"/>
                    <a:pt x="1290" y="2040"/>
                    <a:pt x="1620" y="1620"/>
                  </a:cubicBezTo>
                  <a:cubicBezTo>
                    <a:pt x="1950" y="1200"/>
                    <a:pt x="2325" y="600"/>
                    <a:pt x="270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90640" y="4983840"/>
              <a:ext cx="6858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566000" y="5319000"/>
              <a:ext cx="48564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91800" y="4740120"/>
              <a:ext cx="57888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,5U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434680" y="5174280"/>
              <a:ext cx="28944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448080" y="5283000"/>
              <a:ext cx="54288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з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579400" y="3328200"/>
              <a:ext cx="5428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с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543040" y="213372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2515680" y="5618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197240" y="1676520"/>
            <a:ext cx="0" cy="3646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197240" y="532296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4197240" y="2892240"/>
            <a:ext cx="582840" cy="2430360"/>
          </a:xfrm>
          <a:prstGeom prst="line">
            <a:avLst/>
          </a:prstGeom>
          <a:ln w="3816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7240" y="2182680"/>
            <a:ext cx="1455840" cy="3140280"/>
          </a:xfrm>
          <a:custGeom>
            <a:avLst/>
            <a:gdLst/>
            <a:ahLst/>
            <a:rect l="l" t="t" r="r" b="b"/>
            <a:pathLst>
              <a:path w="2700" h="5580">
                <a:moveTo>
                  <a:pt x="0" y="5580"/>
                </a:moveTo>
                <a:cubicBezTo>
                  <a:pt x="315" y="5370"/>
                  <a:pt x="630" y="5160"/>
                  <a:pt x="900" y="4860"/>
                </a:cubicBezTo>
                <a:cubicBezTo>
                  <a:pt x="1170" y="4560"/>
                  <a:pt x="1410" y="4200"/>
                  <a:pt x="1620" y="3780"/>
                </a:cubicBezTo>
                <a:cubicBezTo>
                  <a:pt x="1830" y="3360"/>
                  <a:pt x="1980" y="2970"/>
                  <a:pt x="2160" y="2340"/>
                </a:cubicBezTo>
                <a:cubicBezTo>
                  <a:pt x="2340" y="1710"/>
                  <a:pt x="2610" y="390"/>
                  <a:pt x="2700" y="0"/>
                </a:cubicBezTo>
              </a:path>
            </a:pathLst>
          </a:custGeom>
          <a:noFill/>
          <a:ln w="38160">
            <a:solidFill>
              <a:srgbClr val="00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197240" y="3094200"/>
            <a:ext cx="1262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59400" y="3094200"/>
            <a:ext cx="0" cy="2228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197240" y="2182680"/>
            <a:ext cx="2230560" cy="3140280"/>
          </a:xfrm>
          <a:custGeom>
            <a:avLst/>
            <a:gdLst/>
            <a:ahLst/>
            <a:rect l="l" t="t" r="r" b="b"/>
            <a:pathLst>
              <a:path w="4140" h="5580">
                <a:moveTo>
                  <a:pt x="0" y="5580"/>
                </a:moveTo>
                <a:lnTo>
                  <a:pt x="3060" y="5580"/>
                </a:lnTo>
                <a:cubicBezTo>
                  <a:pt x="3260" y="5537"/>
                  <a:pt x="3168" y="5563"/>
                  <a:pt x="3339" y="5506"/>
                </a:cubicBezTo>
                <a:cubicBezTo>
                  <a:pt x="3359" y="5499"/>
                  <a:pt x="3399" y="5486"/>
                  <a:pt x="3399" y="5486"/>
                </a:cubicBezTo>
                <a:cubicBezTo>
                  <a:pt x="3458" y="5398"/>
                  <a:pt x="3539" y="5317"/>
                  <a:pt x="3539" y="5206"/>
                </a:cubicBezTo>
                <a:lnTo>
                  <a:pt x="41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97240" y="2182680"/>
            <a:ext cx="2716200" cy="3140280"/>
          </a:xfrm>
          <a:custGeom>
            <a:avLst/>
            <a:gdLst/>
            <a:ahLst/>
            <a:rect l="l" t="t" r="r" b="b"/>
            <a:pathLst>
              <a:path w="4920" h="5940">
                <a:moveTo>
                  <a:pt x="0" y="5940"/>
                </a:moveTo>
                <a:cubicBezTo>
                  <a:pt x="30" y="5805"/>
                  <a:pt x="60" y="5670"/>
                  <a:pt x="180" y="5580"/>
                </a:cubicBezTo>
                <a:cubicBezTo>
                  <a:pt x="300" y="5490"/>
                  <a:pt x="270" y="5460"/>
                  <a:pt x="720" y="5400"/>
                </a:cubicBezTo>
                <a:cubicBezTo>
                  <a:pt x="1170" y="5340"/>
                  <a:pt x="2400" y="5250"/>
                  <a:pt x="2880" y="5220"/>
                </a:cubicBezTo>
                <a:cubicBezTo>
                  <a:pt x="3360" y="5190"/>
                  <a:pt x="3420" y="5220"/>
                  <a:pt x="3600" y="5220"/>
                </a:cubicBezTo>
                <a:cubicBezTo>
                  <a:pt x="3780" y="5220"/>
                  <a:pt x="3840" y="5250"/>
                  <a:pt x="3960" y="5220"/>
                </a:cubicBezTo>
                <a:cubicBezTo>
                  <a:pt x="4080" y="5190"/>
                  <a:pt x="4230" y="5250"/>
                  <a:pt x="4320" y="5040"/>
                </a:cubicBezTo>
                <a:cubicBezTo>
                  <a:pt x="4410" y="4830"/>
                  <a:pt x="4410" y="4680"/>
                  <a:pt x="4500" y="3960"/>
                </a:cubicBezTo>
                <a:cubicBezTo>
                  <a:pt x="4590" y="3240"/>
                  <a:pt x="4800" y="1380"/>
                  <a:pt x="4860" y="720"/>
                </a:cubicBezTo>
                <a:cubicBezTo>
                  <a:pt x="4920" y="60"/>
                  <a:pt x="4890" y="30"/>
                  <a:pt x="486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186080" y="2182680"/>
            <a:ext cx="3211560" cy="3125880"/>
          </a:xfrm>
          <a:custGeom>
            <a:avLst/>
            <a:gdLst/>
            <a:ahLst/>
            <a:rect l="l" t="t" r="r" b="b"/>
            <a:pathLst>
              <a:path w="5961" h="5556">
                <a:moveTo>
                  <a:pt x="0" y="5556"/>
                </a:moveTo>
                <a:cubicBezTo>
                  <a:pt x="68" y="5453"/>
                  <a:pt x="82" y="5326"/>
                  <a:pt x="120" y="5211"/>
                </a:cubicBezTo>
                <a:cubicBezTo>
                  <a:pt x="125" y="5196"/>
                  <a:pt x="126" y="5179"/>
                  <a:pt x="135" y="5166"/>
                </a:cubicBezTo>
                <a:cubicBezTo>
                  <a:pt x="173" y="5110"/>
                  <a:pt x="189" y="5050"/>
                  <a:pt x="210" y="4986"/>
                </a:cubicBezTo>
                <a:cubicBezTo>
                  <a:pt x="234" y="4913"/>
                  <a:pt x="324" y="4823"/>
                  <a:pt x="375" y="4761"/>
                </a:cubicBezTo>
                <a:cubicBezTo>
                  <a:pt x="420" y="4706"/>
                  <a:pt x="460" y="4629"/>
                  <a:pt x="525" y="4596"/>
                </a:cubicBezTo>
                <a:cubicBezTo>
                  <a:pt x="642" y="4538"/>
                  <a:pt x="785" y="4572"/>
                  <a:pt x="915" y="4566"/>
                </a:cubicBezTo>
                <a:cubicBezTo>
                  <a:pt x="1148" y="4527"/>
                  <a:pt x="1148" y="4533"/>
                  <a:pt x="1500" y="4521"/>
                </a:cubicBezTo>
                <a:cubicBezTo>
                  <a:pt x="1560" y="4501"/>
                  <a:pt x="1620" y="4481"/>
                  <a:pt x="1680" y="4461"/>
                </a:cubicBezTo>
                <a:cubicBezTo>
                  <a:pt x="1700" y="4454"/>
                  <a:pt x="1740" y="4446"/>
                  <a:pt x="1740" y="4446"/>
                </a:cubicBezTo>
                <a:cubicBezTo>
                  <a:pt x="3668" y="4268"/>
                  <a:pt x="4086" y="4221"/>
                  <a:pt x="5340" y="4131"/>
                </a:cubicBezTo>
                <a:cubicBezTo>
                  <a:pt x="5368" y="4103"/>
                  <a:pt x="5398" y="4079"/>
                  <a:pt x="5415" y="4041"/>
                </a:cubicBezTo>
                <a:cubicBezTo>
                  <a:pt x="5428" y="4012"/>
                  <a:pt x="5427" y="3977"/>
                  <a:pt x="5445" y="3951"/>
                </a:cubicBezTo>
                <a:cubicBezTo>
                  <a:pt x="5455" y="3936"/>
                  <a:pt x="5470" y="3923"/>
                  <a:pt x="5475" y="3906"/>
                </a:cubicBezTo>
                <a:cubicBezTo>
                  <a:pt x="5480" y="3887"/>
                  <a:pt x="5475" y="3866"/>
                  <a:pt x="5475" y="3846"/>
                </a:cubicBezTo>
                <a:lnTo>
                  <a:pt x="5961" y="0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97240" y="2182680"/>
            <a:ext cx="3686400" cy="3138480"/>
          </a:xfrm>
          <a:custGeom>
            <a:avLst/>
            <a:gdLst/>
            <a:ahLst/>
            <a:rect l="l" t="t" r="r" b="b"/>
            <a:pathLst>
              <a:path w="7020" h="5580">
                <a:moveTo>
                  <a:pt x="0" y="5580"/>
                </a:moveTo>
                <a:cubicBezTo>
                  <a:pt x="240" y="4980"/>
                  <a:pt x="466" y="4374"/>
                  <a:pt x="720" y="3780"/>
                </a:cubicBezTo>
                <a:cubicBezTo>
                  <a:pt x="726" y="3766"/>
                  <a:pt x="751" y="3813"/>
                  <a:pt x="759" y="3801"/>
                </a:cubicBezTo>
                <a:cubicBezTo>
                  <a:pt x="778" y="3771"/>
                  <a:pt x="767" y="3731"/>
                  <a:pt x="774" y="3696"/>
                </a:cubicBezTo>
                <a:cubicBezTo>
                  <a:pt x="782" y="3658"/>
                  <a:pt x="899" y="3488"/>
                  <a:pt x="924" y="3471"/>
                </a:cubicBezTo>
                <a:cubicBezTo>
                  <a:pt x="974" y="3438"/>
                  <a:pt x="1002" y="3370"/>
                  <a:pt x="1059" y="3351"/>
                </a:cubicBezTo>
                <a:cubicBezTo>
                  <a:pt x="1180" y="3311"/>
                  <a:pt x="1294" y="3277"/>
                  <a:pt x="1419" y="3246"/>
                </a:cubicBezTo>
                <a:cubicBezTo>
                  <a:pt x="1471" y="3233"/>
                  <a:pt x="1531" y="3203"/>
                  <a:pt x="1584" y="3201"/>
                </a:cubicBezTo>
                <a:cubicBezTo>
                  <a:pt x="1684" y="3197"/>
                  <a:pt x="1784" y="3201"/>
                  <a:pt x="1884" y="3201"/>
                </a:cubicBezTo>
                <a:cubicBezTo>
                  <a:pt x="3356" y="3094"/>
                  <a:pt x="4827" y="2974"/>
                  <a:pt x="6300" y="2880"/>
                </a:cubicBezTo>
                <a:cubicBezTo>
                  <a:pt x="6336" y="2878"/>
                  <a:pt x="6357" y="2915"/>
                  <a:pt x="6444" y="2886"/>
                </a:cubicBezTo>
                <a:cubicBezTo>
                  <a:pt x="6544" y="2786"/>
                  <a:pt x="6450" y="2894"/>
                  <a:pt x="6504" y="2796"/>
                </a:cubicBezTo>
                <a:cubicBezTo>
                  <a:pt x="6522" y="2764"/>
                  <a:pt x="6553" y="2740"/>
                  <a:pt x="6564" y="2706"/>
                </a:cubicBezTo>
                <a:cubicBezTo>
                  <a:pt x="6569" y="2691"/>
                  <a:pt x="6571" y="2675"/>
                  <a:pt x="6579" y="2661"/>
                </a:cubicBezTo>
                <a:cubicBezTo>
                  <a:pt x="6597" y="2629"/>
                  <a:pt x="6639" y="2571"/>
                  <a:pt x="6639" y="2571"/>
                </a:cubicBezTo>
                <a:cubicBezTo>
                  <a:pt x="6655" y="2380"/>
                  <a:pt x="6627" y="2445"/>
                  <a:pt x="6669" y="2361"/>
                </a:cubicBezTo>
                <a:lnTo>
                  <a:pt x="7020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97240" y="2182680"/>
            <a:ext cx="4170600" cy="3140280"/>
          </a:xfrm>
          <a:custGeom>
            <a:avLst/>
            <a:gdLst/>
            <a:ahLst/>
            <a:rect l="l" t="t" r="r" b="b"/>
            <a:pathLst>
              <a:path w="7740" h="5580">
                <a:moveTo>
                  <a:pt x="0" y="5580"/>
                </a:moveTo>
                <a:cubicBezTo>
                  <a:pt x="255" y="4650"/>
                  <a:pt x="510" y="3720"/>
                  <a:pt x="900" y="3060"/>
                </a:cubicBezTo>
                <a:cubicBezTo>
                  <a:pt x="1290" y="2400"/>
                  <a:pt x="1380" y="1920"/>
                  <a:pt x="2340" y="1620"/>
                </a:cubicBezTo>
                <a:cubicBezTo>
                  <a:pt x="3300" y="1320"/>
                  <a:pt x="5790" y="1380"/>
                  <a:pt x="6660" y="1260"/>
                </a:cubicBezTo>
                <a:cubicBezTo>
                  <a:pt x="7530" y="1140"/>
                  <a:pt x="7380" y="1110"/>
                  <a:pt x="7560" y="900"/>
                </a:cubicBezTo>
                <a:cubicBezTo>
                  <a:pt x="7740" y="690"/>
                  <a:pt x="7740" y="345"/>
                  <a:pt x="7740" y="0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09880" y="1676520"/>
            <a:ext cx="3873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09880" y="2892600"/>
            <a:ext cx="3873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167440" y="4006800"/>
            <a:ext cx="0" cy="131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61520" y="5322960"/>
            <a:ext cx="582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906720" y="5322960"/>
            <a:ext cx="32004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0  U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с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U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с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294080" y="2284560"/>
            <a:ext cx="970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утая обла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334120" y="2362320"/>
            <a:ext cx="1225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логая обла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980480" y="2892600"/>
            <a:ext cx="11635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ласть пробо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556240" y="5019840"/>
            <a:ext cx="387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56240" y="4613400"/>
            <a:ext cx="387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653080" y="4208400"/>
            <a:ext cx="38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Times New Roman"/>
              </a:rPr>
              <a:t>U</a:t>
            </a:r>
            <a:r>
              <a:rPr b="1" lang="en-US" sz="1200" spc="-1" strike="noStrike" baseline="-25000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653080" y="3600360"/>
            <a:ext cx="38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Times New Roman"/>
              </a:rPr>
              <a:t>U</a:t>
            </a:r>
            <a:r>
              <a:rPr b="0" lang="en-US" sz="1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53080" y="3094200"/>
            <a:ext cx="677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ff00ff"/>
                </a:solidFill>
                <a:latin typeface="Times New Roman"/>
              </a:rPr>
              <a:t>зи</a:t>
            </a:r>
            <a:r>
              <a:rPr b="0" lang="ru-RU" sz="1200" spc="-1" strike="noStrike">
                <a:solidFill>
                  <a:srgbClr val="ff00ff"/>
                </a:solidFill>
                <a:latin typeface="Times New Roman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361120" y="3398760"/>
            <a:ext cx="679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ru-RU" sz="1200" spc="-1" strike="noStrike" baseline="-25000">
                <a:solidFill>
                  <a:srgbClr val="00ffff"/>
                </a:solidFill>
                <a:latin typeface="Times New Roman"/>
              </a:rPr>
              <a:t>си</a:t>
            </a:r>
            <a:r>
              <a:rPr b="0" lang="ru-RU" sz="1200" spc="-1" strike="noStrike">
                <a:solidFill>
                  <a:srgbClr val="00ffff"/>
                </a:solidFill>
                <a:latin typeface="Times New Roman"/>
              </a:rPr>
              <a:t>=U</a:t>
            </a:r>
            <a:r>
              <a:rPr b="0" lang="ru-RU" sz="1200" spc="-1" strike="noStrike" baseline="-25000">
                <a:solidFill>
                  <a:srgbClr val="00ffff"/>
                </a:solidFill>
                <a:latin typeface="Times New Roman"/>
              </a:rPr>
              <a:t>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258160" y="57913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685800" y="304920"/>
            <a:ext cx="7848720" cy="63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того, когда суммарное напряжение  на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е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зи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си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остигает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канал почти перекрывается  и при дальнейшем увеличении напряж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с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ок стока остается практически неизменным, как показано на рис.7 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к насыщ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с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напряжение отсечк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висят от геометрии прибора, физических параметров  полупроводника и распределения примесей в канал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вые транзисторы с изолированным затвором имеют структуру металл – диэлектрик – полупроводник ( МДП – транзисторы). Схемотехнически такая структура представлена на рис. 8. МДП – транзисторы могут изготавливаться либо на полупроводниковой, либо на диэлектрической подложке. В рассматриваемом случае подложкой служит  кремний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ипа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тем окисления кремния на поверхности подложки образуется тонкий  изолирующий слой диэлектрика из двуокиси крем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Через специальные отверстия в диэлектрике методом диффузии в подложке создаются  две области с противоположными типами проводимости, т.е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па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областям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образуются два  электронно-дырочных перехода. Одна из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ей используется в качестве стока, а другая – истока.  Подложку (ее вывод) обычно соединяют с истоком. Полярности приложенных напряжений  при нормальном включении транзистора показаны на 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</a:rPr>
              <a:t>рис.5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 напряжени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з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0 ток стока будет пренебрежимо мал (ток утечки), так как стоковый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 оказывается смещенным в обратном направлен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подаче на затвор отрицательного смещения электроны, находящиеся в подложке на границе с диэлектриком, вытесняются в глубь полупроводника  и в поверхностном слое подложки образуется проводящий канал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па. От подложки  канал отделен изолирующи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ом (обедненным слоем), смещенным в обратном направлении. Важно отметить, что канал индуцируется только при некотором пороговом значении напряже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по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Рис. 8. Структура МДП-транзистор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2362320" y="1535760"/>
            <a:ext cx="5029200" cy="4514760"/>
            <a:chOff x="2362320" y="1535760"/>
            <a:chExt cx="5029200" cy="4514760"/>
          </a:xfrm>
        </p:grpSpPr>
        <p:sp>
          <p:nvSpPr>
            <p:cNvPr id="854" name=""/>
            <p:cNvSpPr/>
            <p:nvPr/>
          </p:nvSpPr>
          <p:spPr>
            <a:xfrm>
              <a:off x="4681440" y="2192040"/>
              <a:ext cx="195480" cy="633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77480" y="2783160"/>
              <a:ext cx="199440" cy="20070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677480" y="4790520"/>
              <a:ext cx="195120" cy="6336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238280" y="3081960"/>
              <a:ext cx="438840" cy="1409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038480" y="3081960"/>
              <a:ext cx="199440" cy="1409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757040" y="5431320"/>
              <a:ext cx="2075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4458240" y="1535760"/>
              <a:ext cx="958320" cy="14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517" y="76"/>
                  </a:moveTo>
                  <a:arcTo wR="10800" hR="10800" stAng="-5809265" swAng="6171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9517" y="76"/>
                  </a:moveTo>
                  <a:arcTo wR="10800" hR="10800" stAng="-5809265" swAng="6171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 rot="16461000">
              <a:off x="4203720" y="4677120"/>
              <a:ext cx="14043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89" y="38"/>
                  </a:moveTo>
                  <a:arcTo wR="10800" hR="10800" stAng="-5690201" swAng="6052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9889" y="38"/>
                  </a:moveTo>
                  <a:arcTo wR="10800" hR="10800" stAng="-5690201" swAng="605287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076360" y="2954160"/>
              <a:ext cx="0" cy="16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076360" y="3039480"/>
              <a:ext cx="358920" cy="15800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35640" y="3039480"/>
              <a:ext cx="0" cy="1494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54760" y="2165760"/>
              <a:ext cx="662040" cy="988920"/>
            </a:xfrm>
            <a:custGeom>
              <a:avLst/>
              <a:gdLst/>
              <a:ahLst/>
              <a:rect l="l" t="t" r="r" b="b"/>
              <a:pathLst>
                <a:path w="946" h="1320">
                  <a:moveTo>
                    <a:pt x="24" y="1054"/>
                  </a:moveTo>
                  <a:cubicBezTo>
                    <a:pt x="42" y="1320"/>
                    <a:pt x="0" y="1214"/>
                    <a:pt x="549" y="1151"/>
                  </a:cubicBezTo>
                  <a:cubicBezTo>
                    <a:pt x="566" y="1149"/>
                    <a:pt x="551" y="1116"/>
                    <a:pt x="556" y="1099"/>
                  </a:cubicBezTo>
                  <a:cubicBezTo>
                    <a:pt x="562" y="1077"/>
                    <a:pt x="577" y="1072"/>
                    <a:pt x="594" y="1061"/>
                  </a:cubicBezTo>
                  <a:cubicBezTo>
                    <a:pt x="634" y="1003"/>
                    <a:pt x="628" y="927"/>
                    <a:pt x="661" y="866"/>
                  </a:cubicBezTo>
                  <a:cubicBezTo>
                    <a:pt x="683" y="826"/>
                    <a:pt x="694" y="817"/>
                    <a:pt x="706" y="776"/>
                  </a:cubicBezTo>
                  <a:cubicBezTo>
                    <a:pt x="713" y="722"/>
                    <a:pt x="727" y="677"/>
                    <a:pt x="744" y="626"/>
                  </a:cubicBezTo>
                  <a:cubicBezTo>
                    <a:pt x="751" y="606"/>
                    <a:pt x="755" y="576"/>
                    <a:pt x="766" y="559"/>
                  </a:cubicBezTo>
                  <a:cubicBezTo>
                    <a:pt x="783" y="533"/>
                    <a:pt x="780" y="542"/>
                    <a:pt x="789" y="514"/>
                  </a:cubicBezTo>
                  <a:cubicBezTo>
                    <a:pt x="810" y="452"/>
                    <a:pt x="828" y="388"/>
                    <a:pt x="849" y="326"/>
                  </a:cubicBezTo>
                  <a:cubicBezTo>
                    <a:pt x="855" y="307"/>
                    <a:pt x="860" y="276"/>
                    <a:pt x="871" y="259"/>
                  </a:cubicBezTo>
                  <a:cubicBezTo>
                    <a:pt x="881" y="244"/>
                    <a:pt x="895" y="231"/>
                    <a:pt x="901" y="214"/>
                  </a:cubicBezTo>
                  <a:cubicBezTo>
                    <a:pt x="919" y="160"/>
                    <a:pt x="929" y="104"/>
                    <a:pt x="946" y="49"/>
                  </a:cubicBezTo>
                  <a:cubicBezTo>
                    <a:pt x="825" y="5"/>
                    <a:pt x="792" y="24"/>
                    <a:pt x="609" y="19"/>
                  </a:cubicBezTo>
                  <a:cubicBezTo>
                    <a:pt x="579" y="21"/>
                    <a:pt x="534" y="0"/>
                    <a:pt x="519" y="26"/>
                  </a:cubicBezTo>
                  <a:cubicBezTo>
                    <a:pt x="492" y="71"/>
                    <a:pt x="513" y="131"/>
                    <a:pt x="511" y="184"/>
                  </a:cubicBezTo>
                  <a:cubicBezTo>
                    <a:pt x="509" y="218"/>
                    <a:pt x="509" y="350"/>
                    <a:pt x="496" y="409"/>
                  </a:cubicBezTo>
                  <a:cubicBezTo>
                    <a:pt x="484" y="462"/>
                    <a:pt x="461" y="515"/>
                    <a:pt x="444" y="566"/>
                  </a:cubicBezTo>
                  <a:cubicBezTo>
                    <a:pt x="431" y="605"/>
                    <a:pt x="422" y="652"/>
                    <a:pt x="399" y="686"/>
                  </a:cubicBezTo>
                  <a:cubicBezTo>
                    <a:pt x="386" y="733"/>
                    <a:pt x="367" y="765"/>
                    <a:pt x="339" y="806"/>
                  </a:cubicBezTo>
                  <a:cubicBezTo>
                    <a:pt x="298" y="866"/>
                    <a:pt x="375" y="786"/>
                    <a:pt x="316" y="859"/>
                  </a:cubicBezTo>
                  <a:cubicBezTo>
                    <a:pt x="287" y="895"/>
                    <a:pt x="279" y="898"/>
                    <a:pt x="249" y="919"/>
                  </a:cubicBezTo>
                  <a:cubicBezTo>
                    <a:pt x="219" y="963"/>
                    <a:pt x="180" y="983"/>
                    <a:pt x="136" y="1009"/>
                  </a:cubicBezTo>
                  <a:cubicBezTo>
                    <a:pt x="121" y="1018"/>
                    <a:pt x="106" y="1029"/>
                    <a:pt x="91" y="1039"/>
                  </a:cubicBezTo>
                  <a:cubicBezTo>
                    <a:pt x="84" y="1044"/>
                    <a:pt x="69" y="1054"/>
                    <a:pt x="69" y="1054"/>
                  </a:cubicBezTo>
                  <a:cubicBezTo>
                    <a:pt x="25" y="1120"/>
                    <a:pt x="39" y="1081"/>
                    <a:pt x="39" y="1174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876920" y="2185200"/>
              <a:ext cx="1955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036400" y="4577040"/>
              <a:ext cx="864720" cy="870480"/>
            </a:xfrm>
            <a:custGeom>
              <a:avLst/>
              <a:gdLst/>
              <a:ahLst/>
              <a:rect l="l" t="t" r="r" b="b"/>
              <a:pathLst>
                <a:path w="1178" h="1110">
                  <a:moveTo>
                    <a:pt x="0" y="4"/>
                  </a:moveTo>
                  <a:cubicBezTo>
                    <a:pt x="70" y="50"/>
                    <a:pt x="101" y="24"/>
                    <a:pt x="210" y="19"/>
                  </a:cubicBezTo>
                  <a:cubicBezTo>
                    <a:pt x="319" y="0"/>
                    <a:pt x="423" y="6"/>
                    <a:pt x="533" y="11"/>
                  </a:cubicBezTo>
                  <a:cubicBezTo>
                    <a:pt x="543" y="43"/>
                    <a:pt x="558" y="53"/>
                    <a:pt x="578" y="79"/>
                  </a:cubicBezTo>
                  <a:cubicBezTo>
                    <a:pt x="589" y="93"/>
                    <a:pt x="598" y="109"/>
                    <a:pt x="608" y="124"/>
                  </a:cubicBezTo>
                  <a:cubicBezTo>
                    <a:pt x="613" y="131"/>
                    <a:pt x="623" y="146"/>
                    <a:pt x="623" y="146"/>
                  </a:cubicBezTo>
                  <a:cubicBezTo>
                    <a:pt x="642" y="207"/>
                    <a:pt x="683" y="259"/>
                    <a:pt x="728" y="304"/>
                  </a:cubicBezTo>
                  <a:cubicBezTo>
                    <a:pt x="738" y="335"/>
                    <a:pt x="757" y="366"/>
                    <a:pt x="773" y="394"/>
                  </a:cubicBezTo>
                  <a:cubicBezTo>
                    <a:pt x="782" y="410"/>
                    <a:pt x="803" y="439"/>
                    <a:pt x="803" y="439"/>
                  </a:cubicBezTo>
                  <a:cubicBezTo>
                    <a:pt x="813" y="470"/>
                    <a:pt x="856" y="541"/>
                    <a:pt x="878" y="574"/>
                  </a:cubicBezTo>
                  <a:cubicBezTo>
                    <a:pt x="891" y="615"/>
                    <a:pt x="917" y="657"/>
                    <a:pt x="938" y="694"/>
                  </a:cubicBezTo>
                  <a:cubicBezTo>
                    <a:pt x="947" y="710"/>
                    <a:pt x="968" y="739"/>
                    <a:pt x="968" y="739"/>
                  </a:cubicBezTo>
                  <a:cubicBezTo>
                    <a:pt x="981" y="780"/>
                    <a:pt x="1011" y="815"/>
                    <a:pt x="1035" y="851"/>
                  </a:cubicBezTo>
                  <a:cubicBezTo>
                    <a:pt x="1047" y="869"/>
                    <a:pt x="1071" y="877"/>
                    <a:pt x="1080" y="896"/>
                  </a:cubicBezTo>
                  <a:cubicBezTo>
                    <a:pt x="1102" y="940"/>
                    <a:pt x="1132" y="980"/>
                    <a:pt x="1155" y="1024"/>
                  </a:cubicBezTo>
                  <a:cubicBezTo>
                    <a:pt x="1165" y="1044"/>
                    <a:pt x="1170" y="1069"/>
                    <a:pt x="1178" y="1091"/>
                  </a:cubicBezTo>
                  <a:cubicBezTo>
                    <a:pt x="1143" y="1092"/>
                    <a:pt x="680" y="1110"/>
                    <a:pt x="623" y="1091"/>
                  </a:cubicBezTo>
                  <a:cubicBezTo>
                    <a:pt x="607" y="1086"/>
                    <a:pt x="638" y="985"/>
                    <a:pt x="645" y="964"/>
                  </a:cubicBezTo>
                  <a:cubicBezTo>
                    <a:pt x="643" y="869"/>
                    <a:pt x="645" y="774"/>
                    <a:pt x="638" y="679"/>
                  </a:cubicBezTo>
                  <a:cubicBezTo>
                    <a:pt x="637" y="670"/>
                    <a:pt x="627" y="664"/>
                    <a:pt x="623" y="656"/>
                  </a:cubicBezTo>
                  <a:cubicBezTo>
                    <a:pt x="612" y="635"/>
                    <a:pt x="612" y="609"/>
                    <a:pt x="600" y="589"/>
                  </a:cubicBezTo>
                  <a:cubicBezTo>
                    <a:pt x="591" y="573"/>
                    <a:pt x="570" y="544"/>
                    <a:pt x="570" y="544"/>
                  </a:cubicBezTo>
                  <a:cubicBezTo>
                    <a:pt x="554" y="493"/>
                    <a:pt x="539" y="446"/>
                    <a:pt x="510" y="401"/>
                  </a:cubicBezTo>
                  <a:cubicBezTo>
                    <a:pt x="508" y="394"/>
                    <a:pt x="508" y="385"/>
                    <a:pt x="503" y="379"/>
                  </a:cubicBezTo>
                  <a:cubicBezTo>
                    <a:pt x="497" y="372"/>
                    <a:pt x="487" y="370"/>
                    <a:pt x="480" y="364"/>
                  </a:cubicBezTo>
                  <a:cubicBezTo>
                    <a:pt x="472" y="357"/>
                    <a:pt x="465" y="349"/>
                    <a:pt x="458" y="341"/>
                  </a:cubicBezTo>
                  <a:cubicBezTo>
                    <a:pt x="452" y="334"/>
                    <a:pt x="450" y="325"/>
                    <a:pt x="443" y="319"/>
                  </a:cubicBezTo>
                  <a:cubicBezTo>
                    <a:pt x="429" y="307"/>
                    <a:pt x="398" y="289"/>
                    <a:pt x="398" y="289"/>
                  </a:cubicBezTo>
                  <a:cubicBezTo>
                    <a:pt x="376" y="255"/>
                    <a:pt x="349" y="228"/>
                    <a:pt x="315" y="206"/>
                  </a:cubicBezTo>
                  <a:cubicBezTo>
                    <a:pt x="290" y="169"/>
                    <a:pt x="308" y="189"/>
                    <a:pt x="255" y="154"/>
                  </a:cubicBezTo>
                  <a:cubicBezTo>
                    <a:pt x="248" y="149"/>
                    <a:pt x="233" y="139"/>
                    <a:pt x="233" y="139"/>
                  </a:cubicBezTo>
                  <a:cubicBezTo>
                    <a:pt x="212" y="107"/>
                    <a:pt x="186" y="90"/>
                    <a:pt x="150" y="79"/>
                  </a:cubicBezTo>
                  <a:cubicBezTo>
                    <a:pt x="125" y="62"/>
                    <a:pt x="102" y="39"/>
                    <a:pt x="75" y="26"/>
                  </a:cubicBezTo>
                  <a:cubicBezTo>
                    <a:pt x="50" y="14"/>
                    <a:pt x="53" y="28"/>
                    <a:pt x="53" y="11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36960" y="2996640"/>
              <a:ext cx="31932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+++++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832800" y="2185200"/>
              <a:ext cx="0" cy="324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832800" y="3210120"/>
              <a:ext cx="119520" cy="1238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3519360" y="2484360"/>
              <a:ext cx="11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401920" y="5089320"/>
              <a:ext cx="227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52320" y="3850920"/>
              <a:ext cx="39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99080" y="3850920"/>
              <a:ext cx="3552480" cy="2092320"/>
            </a:xfrm>
            <a:custGeom>
              <a:avLst/>
              <a:gdLst/>
              <a:ahLst/>
              <a:rect l="l" t="t" r="r" b="b"/>
              <a:pathLst>
                <a:path w="5073" h="2793">
                  <a:moveTo>
                    <a:pt x="5073" y="0"/>
                  </a:moveTo>
                  <a:lnTo>
                    <a:pt x="5073" y="2793"/>
                  </a:lnTo>
                  <a:lnTo>
                    <a:pt x="0" y="2793"/>
                  </a:lnTo>
                  <a:lnTo>
                    <a:pt x="0" y="16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479760" y="3808080"/>
              <a:ext cx="55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402280" y="3808080"/>
              <a:ext cx="47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2402280" y="2484360"/>
              <a:ext cx="0" cy="260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402280" y="2484360"/>
              <a:ext cx="51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881080" y="2441520"/>
              <a:ext cx="79560" cy="85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39800" y="2441520"/>
              <a:ext cx="79560" cy="85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81080" y="3765600"/>
              <a:ext cx="79560" cy="85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00200" y="3765600"/>
              <a:ext cx="79560" cy="85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62320" y="3765600"/>
              <a:ext cx="79560" cy="85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59120" y="5046480"/>
              <a:ext cx="79560" cy="85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876920" y="2228040"/>
              <a:ext cx="59868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876920" y="4747680"/>
              <a:ext cx="598680" cy="5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p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54400" y="4406040"/>
              <a:ext cx="59868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641680" y="3509280"/>
              <a:ext cx="11574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+   U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зи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641680" y="2142360"/>
              <a:ext cx="11574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+   U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си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58360" y="2057400"/>
              <a:ext cx="5587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238280" y="5174640"/>
              <a:ext cx="35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559680" y="2868480"/>
              <a:ext cx="997560" cy="59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20480" y="2655000"/>
              <a:ext cx="63864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iO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2640" y="3551760"/>
              <a:ext cx="3988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5435280" y="2185200"/>
              <a:ext cx="279000" cy="896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435640" y="4577040"/>
              <a:ext cx="478800" cy="853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79560" y="3893760"/>
              <a:ext cx="35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1143000" y="304920"/>
            <a:ext cx="769608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величение напряжения на затворе 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з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по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одит к увеличению концентрации подвижных носителей (дырок) в канале, и ток стока возрастает. В результате стокозатворная вольт-амперная характеристика МДП-транзистора будет иметь вид, показанный на  рис 9  (кривая 1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мимо МДП-транзисторов с индуцированным каналом изготавливаются МДП-транзисторы  со встроенным каналом. Встроенный канал можно получить, например, путем диффузии  примесей в подложку. В отличие от предыдущего в транзисторе со встроенным каналом ток стока не равен нулю при нулевом смещении на затворе       (рис 9 , кривая 2). При подаче на затвор транзистора с канал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типа отрицательного смещения возрастает  концентрация дырок в канале (режим обогащения) и ток стока увеличивается. При положительном смещении на затворе  (режим обеднения) ток уменьшается и при напряжении отсечк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тановится равным нулю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ковые характеристики МДП-транзисторов по виду подобны аналогичным характеристикам транзисторов с управляющи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отличие от биполярного транзистора полевой транзистор управляется напряжением и характеризуется аналогично электронной лампе следующей системой дифференциальных параметро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тизной характерис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эффициентом усиления транзист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утренним сопротивлением транзистор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исленные параметры связаны между собой соотношением              .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4419720" y="4419720"/>
                <a:ext cx="22730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Δ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зи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и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и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410080" y="4876920"/>
                <a:ext cx="23623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си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зи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5562720" y="5410080"/>
                <a:ext cx="2247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си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7238880" y="5943600"/>
                <a:ext cx="5209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Arial"/>
              </a:rPr>
              <a:t>Рис. 9 Стокозатворные характеристики МДП-транзисторов с индуцированным (1) и встроенным (2) каналом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1981080" y="1600200"/>
            <a:ext cx="6286680" cy="4419720"/>
            <a:chOff x="1981080" y="1600200"/>
            <a:chExt cx="6286680" cy="4419720"/>
          </a:xfrm>
        </p:grpSpPr>
        <p:sp>
          <p:nvSpPr>
            <p:cNvPr id="912" name=""/>
            <p:cNvSpPr/>
            <p:nvPr/>
          </p:nvSpPr>
          <p:spPr>
            <a:xfrm>
              <a:off x="1981080" y="5493960"/>
              <a:ext cx="628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38760" y="1600200"/>
              <a:ext cx="0" cy="38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438280" y="2441880"/>
              <a:ext cx="1390680" cy="3051720"/>
            </a:xfrm>
            <a:custGeom>
              <a:avLst/>
              <a:gdLst/>
              <a:ahLst/>
              <a:rect l="l" t="t" r="r" b="b"/>
              <a:pathLst>
                <a:path w="2190" h="6120">
                  <a:moveTo>
                    <a:pt x="30" y="0"/>
                  </a:moveTo>
                  <a:cubicBezTo>
                    <a:pt x="15" y="810"/>
                    <a:pt x="0" y="1620"/>
                    <a:pt x="210" y="2520"/>
                  </a:cubicBezTo>
                  <a:cubicBezTo>
                    <a:pt x="420" y="3420"/>
                    <a:pt x="960" y="4800"/>
                    <a:pt x="1290" y="5400"/>
                  </a:cubicBezTo>
                  <a:cubicBezTo>
                    <a:pt x="1620" y="6000"/>
                    <a:pt x="1905" y="6060"/>
                    <a:pt x="2190" y="612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52600" y="2441880"/>
              <a:ext cx="2628720" cy="3051720"/>
            </a:xfrm>
            <a:custGeom>
              <a:avLst/>
              <a:gdLst/>
              <a:ahLst/>
              <a:rect l="l" t="t" r="r" b="b"/>
              <a:pathLst>
                <a:path w="2190" h="6120">
                  <a:moveTo>
                    <a:pt x="30" y="0"/>
                  </a:moveTo>
                  <a:cubicBezTo>
                    <a:pt x="15" y="810"/>
                    <a:pt x="0" y="1620"/>
                    <a:pt x="210" y="2520"/>
                  </a:cubicBezTo>
                  <a:cubicBezTo>
                    <a:pt x="420" y="3420"/>
                    <a:pt x="960" y="4800"/>
                    <a:pt x="1290" y="5400"/>
                  </a:cubicBezTo>
                  <a:cubicBezTo>
                    <a:pt x="1620" y="6000"/>
                    <a:pt x="1905" y="6060"/>
                    <a:pt x="2190" y="612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809880" y="5493960"/>
              <a:ext cx="0" cy="525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838760" y="5493960"/>
              <a:ext cx="0" cy="525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781680" y="5493960"/>
              <a:ext cx="0" cy="525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809880" y="5914800"/>
              <a:ext cx="1028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38760" y="5914800"/>
              <a:ext cx="1942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09880" y="5599080"/>
              <a:ext cx="10285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по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24560" y="5599080"/>
              <a:ext cx="7999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24760" y="5493960"/>
              <a:ext cx="7999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з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267080" y="1600200"/>
              <a:ext cx="7999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267080" y="4336200"/>
              <a:ext cx="7999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724280" y="43362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09600" y="4231080"/>
              <a:ext cx="45720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3009240" y="4546800"/>
              <a:ext cx="114120" cy="1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524560" y="4441320"/>
              <a:ext cx="45720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5409720" y="4757040"/>
              <a:ext cx="228600" cy="1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666520" y="2652480"/>
              <a:ext cx="1371600" cy="10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Режим обогоще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67000" y="2862720"/>
              <a:ext cx="13716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Режим обедн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4114800" y="6172200"/>
            <a:ext cx="1219320" cy="457200"/>
          </a:xfrm>
          <a:custGeom>
            <a:avLst/>
            <a:gdLst>
              <a:gd name="textAreaLeft" fmla="*/ 56880 w 1219320"/>
              <a:gd name="textAreaRight" fmla="*/ 1162440 w 121932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4877" y="2700"/>
                </a:lnTo>
                <a:lnTo>
                  <a:pt x="2700" y="27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4877" y="18900"/>
                </a:lnTo>
                <a:lnTo>
                  <a:pt x="54877" y="27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54877" y="189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990720" y="380880"/>
            <a:ext cx="78642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ифференциальные параметры транзистора  приближенно можно определить из его статических характерист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ажным низкочастотным  дифференциальным параметром полевого транзистора является входное сопроти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4191120" y="1219320"/>
                <a:ext cx="23241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х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зи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t xml:space="preserve">з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9" name=""/>
          <p:cNvSpPr/>
          <p:nvPr/>
        </p:nvSpPr>
        <p:spPr>
          <a:xfrm>
            <a:off x="990720" y="1676520"/>
            <a:ext cx="7788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де ток затвор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транзистора с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ом определяется обратной ветвью вольт-амперной характеристики обратно смешанного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-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ерехода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противление таких транзисторов составляет 1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м. Для МДП-транзисторов входное сопротивление определяется сопротивлением слоя диэлектрика и может достигать 1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Ом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вые транзисторы подвержены влиянию температуры в меньшей степени чем биполярны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евые транзисторы аналогично биполярным   ( см. рис. 3 -</a:t>
            </a:r>
            <a:r>
              <a:rPr b="0" lang="ru-RU" sz="1600" spc="-1" strike="noStrike" u="sng">
                <a:solidFill>
                  <a:srgbClr val="660066"/>
                </a:solidFill>
                <a:uFillTx/>
                <a:latin typeface="Times New Roman"/>
              </a:rPr>
              <a:t>рис. 4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могут  включаться тремя различными способами: по схеме с общим истоком (ОИ), общим стоком(ОС), и общим затвором (ОЗ). Обычно схема с общим затвором самостоятельного применения не имеет, а используется в качестве основной части более сложных схем (каскадов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>
            <a:hlinkClick r:id="" action="ppaction://hlinkshowjump?jump=previousslide"/>
          </p:cNvPr>
          <p:cNvSpPr/>
          <p:nvPr/>
        </p:nvSpPr>
        <p:spPr>
          <a:xfrm>
            <a:off x="11430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709200"/>
            <a:ext cx="7620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43000" y="609480"/>
            <a:ext cx="693432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50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руктура курс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44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21480" y="1600200"/>
            <a:ext cx="197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ведение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ультимеди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40120" y="1981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кт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ня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7800" y="4419720"/>
            <a:ext cx="205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ьтимеди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4495680"/>
            <a:ext cx="22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ерактив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60020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4343400"/>
            <a:ext cx="21333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2057400"/>
            <a:ext cx="2057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4495680"/>
            <a:ext cx="22096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1905120"/>
            <a:ext cx="2514600" cy="380880"/>
          </a:xfrm>
          <a:prstGeom prst="rightArrow">
            <a:avLst>
              <a:gd name="adj1" fmla="val 50000"/>
              <a:gd name="adj2" fmla="val 16505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952880"/>
            <a:ext cx="2666880" cy="457200"/>
          </a:xfrm>
          <a:prstGeom prst="rightArrow">
            <a:avLst>
              <a:gd name="adj1" fmla="val 50000"/>
              <a:gd name="adj2" fmla="val 14582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3405600">
            <a:off x="1485720" y="3009600"/>
            <a:ext cx="1676520" cy="990720"/>
          </a:xfrm>
          <a:prstGeom prst="rightArrow">
            <a:avLst>
              <a:gd name="adj1" fmla="val 50000"/>
              <a:gd name="adj2" fmla="val 4230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4274600">
            <a:off x="6819840" y="3314520"/>
            <a:ext cx="1676160" cy="685800"/>
          </a:xfrm>
          <a:prstGeom prst="rightArrow">
            <a:avLst>
              <a:gd name="adj1" fmla="val 50000"/>
              <a:gd name="adj2" fmla="val 6110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3211800">
            <a:off x="4343040" y="2590560"/>
            <a:ext cx="380880" cy="2514600"/>
          </a:xfrm>
          <a:prstGeom prst="upArrow">
            <a:avLst>
              <a:gd name="adj1" fmla="val 50000"/>
              <a:gd name="adj2" fmla="val 16505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BD00028_" descr=""/>
          <p:cNvPicPr/>
          <p:nvPr/>
        </p:nvPicPr>
        <p:blipFill>
          <a:blip r:embed="rId1"/>
          <a:stretch/>
        </p:blipFill>
        <p:spPr>
          <a:xfrm>
            <a:off x="3886200" y="274320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848720" y="56386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7162920" y="56386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533520" y="5867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1295280" y="5867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4764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произведение звуковых фай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гулировка зву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ись зву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дактирование зву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произведение звуковых компакт-дис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144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произведение цифрового виде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стройка зернистости и плавности виде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ись и редактирование видеофай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47920" y="609480"/>
            <a:ext cx="63244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Мультимидиа и Window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1" name="BS00975_" descr=""/>
          <p:cNvPicPr/>
          <p:nvPr/>
        </p:nvPicPr>
        <p:blipFill>
          <a:blip r:embed="rId9"/>
          <a:stretch/>
        </p:blipFill>
        <p:spPr>
          <a:xfrm>
            <a:off x="4038480" y="5410080"/>
            <a:ext cx="1073160" cy="990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7200" y="1752480"/>
            <a:ext cx="396252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752480"/>
            <a:ext cx="39621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22960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60948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lastslide"/>
          </p:cNvPr>
          <p:cNvSpPr/>
          <p:nvPr/>
        </p:nvSpPr>
        <p:spPr>
          <a:xfrm>
            <a:off x="1219320" y="57913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21304"/>
                </a:solidFill>
                <a:uFillTx/>
                <a:latin typeface="Times New Roman"/>
              </a:rPr>
              <a:t>Маркированный списо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пи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произве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тав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пис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Untitled-1" descr=""/>
          <p:cNvPicPr/>
          <p:nvPr/>
        </p:nvPicPr>
        <p:blipFill>
          <a:blip r:embed="rId1"/>
          <a:stretch/>
        </p:blipFill>
        <p:spPr>
          <a:xfrm>
            <a:off x="4572000" y="2874960"/>
            <a:ext cx="3505320" cy="34243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243828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160020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Arial Black"/>
              </a:rPr>
              <a:t>ЭЛЕКТРОТЕХНИЧЕСКИЙ СПРАВОЧНИК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Транзистор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  <a:hlinkClick r:id="rId1"/>
          </p:cNvPr>
          <p:cNvSpPr/>
          <p:nvPr/>
        </p:nvSpPr>
        <p:spPr>
          <a:xfrm>
            <a:off x="4114800" y="49528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3794"/>
                </a:moveTo>
                <a:lnTo>
                  <a:pt x="18527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зисторы. Общие свед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полярные транзисто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евые транзисто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800100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731520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Arial Black"/>
              </a:rPr>
              <a:t>Транзистор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Транзисторы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представляют собой полупроводниковые приборы, которые применяются для усиления мощности электрических сигналов. В зависимости от принципа действия транзисторы подразделяются на биполярные и полев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1066680" y="6019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Биполярные транзистор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Структура биполярного транзистора (типа р-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n-</a:t>
            </a:r>
            <a:r>
              <a:rPr b="0" lang="ru-RU" sz="24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р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Конструкция сплавного и планарного транзисторов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ные и выходные  статические характеристики биполярного транзист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81532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0" y="0"/>
            <a:ext cx="1600200" cy="380880"/>
          </a:xfrm>
          <a:custGeom>
            <a:avLst/>
            <a:gdLst>
              <a:gd name="textAreaLeft" fmla="*/ 55440 w 1600200"/>
              <a:gd name="textAreaRight" fmla="*/ 1544760 w 1600200"/>
              <a:gd name="textAreaTop" fmla="*/ 55440 h 380880"/>
              <a:gd name="textAreaBottom" fmla="*/ 32544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7533" y="3150"/>
                </a:lnTo>
                <a:lnTo>
                  <a:pt x="3150" y="315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7533" y="18450"/>
                </a:lnTo>
                <a:lnTo>
                  <a:pt x="87533" y="315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87533" y="1845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10666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6095880"/>
            <a:ext cx="609840" cy="304920"/>
          </a:xfrm>
          <a:custGeom>
            <a:avLst/>
            <a:gdLst>
              <a:gd name="textAreaLeft" fmla="*/ 7632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37775" y="5400"/>
                </a:lnTo>
                <a:lnTo>
                  <a:pt x="5400" y="5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37775" y="16200"/>
                </a:lnTo>
                <a:lnTo>
                  <a:pt x="37775" y="5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7775" y="16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43175" h="21600">
                <a:moveTo>
                  <a:pt x="19577" y="10800"/>
                </a:moveTo>
                <a:lnTo>
                  <a:pt x="25612" y="6775"/>
                </a:lnTo>
                <a:lnTo>
                  <a:pt x="25612" y="14825"/>
                </a:lnTo>
                <a:close/>
              </a:path>
              <a:path fill="darken" w="43175" h="21600">
                <a:moveTo>
                  <a:pt x="17562" y="6775"/>
                </a:moveTo>
                <a:lnTo>
                  <a:pt x="18517" y="6775"/>
                </a:lnTo>
                <a:lnTo>
                  <a:pt x="18517" y="14825"/>
                </a:lnTo>
                <a:lnTo>
                  <a:pt x="17562" y="14825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6" action="ppaction://hlinksldjump"/>
          </p:cNvPr>
          <p:cNvSpPr/>
          <p:nvPr/>
        </p:nvSpPr>
        <p:spPr>
          <a:xfrm>
            <a:off x="5105520" y="6095880"/>
            <a:ext cx="609480" cy="304920"/>
          </a:xfrm>
          <a:custGeom>
            <a:avLst/>
            <a:gdLst>
              <a:gd name="textAreaLeft" fmla="*/ 7632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37749" y="5400"/>
                </a:lnTo>
                <a:lnTo>
                  <a:pt x="5400" y="5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37749" y="16200"/>
                </a:lnTo>
                <a:lnTo>
                  <a:pt x="37749" y="5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37749" y="16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43149" h="21600">
                <a:moveTo>
                  <a:pt x="23585" y="10800"/>
                </a:moveTo>
                <a:lnTo>
                  <a:pt x="17550" y="14825"/>
                </a:lnTo>
                <a:lnTo>
                  <a:pt x="17550" y="6775"/>
                </a:lnTo>
                <a:close/>
              </a:path>
              <a:path fill="darken" w="43149" h="21600">
                <a:moveTo>
                  <a:pt x="24645" y="6775"/>
                </a:moveTo>
                <a:lnTo>
                  <a:pt x="24645" y="14825"/>
                </a:lnTo>
                <a:lnTo>
                  <a:pt x="25600" y="14825"/>
                </a:lnTo>
                <a:lnTo>
                  <a:pt x="25600" y="6775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1:39:36Z</dcterms:created>
  <dc:creator>ada</dc:creator>
  <dc:description/>
  <dc:language>en-US</dc:language>
  <cp:lastModifiedBy>Лабушев Владимир Георгиевич</cp:lastModifiedBy>
  <dcterms:modified xsi:type="dcterms:W3CDTF">2002-12-23T14:49:12Z</dcterms:modified>
  <cp:revision>60</cp:revision>
  <dc:subject/>
  <dc:title>Презентация PowerPoint</dc:title>
</cp:coreProperties>
</file>