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315200" cy="9907588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567-1811-41E0-A06E-67077D6E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991-D940-41C9-B7DB-F127DEFA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A9C2-17B2-4271-A1F1-7A03EB07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4E6-D50E-4904-B154-C4A0485F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2AFC-C86B-42A6-AFEB-F4392EAF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9BB0-C4B9-4514-86C7-72EDC5FA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E667-40A6-4E3E-8E25-5C146F5A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C920-5510-4969-BE48-D928070B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693D-E221-4D5E-80A1-C3D12C86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21F1-2FE0-4399-B692-4B3853F2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6DEE-0762-4634-9D25-D379E2FC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40A-F9C0-4DBD-97E4-5F32EAA1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F99C-7835-404B-8D9E-1E848013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DF82-D366-47D4-8BD5-357A7A1B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DA14-9A6E-48C7-A9CE-AF61F019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9629-B2A6-46CF-B245-F0DAD639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7CF2-E120-4FC6-BFDB-757BCDF2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D043-10B9-45DB-A982-682B02C8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86B-5015-4883-9AB3-53068CF1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71A-763F-4220-99BF-0BE49EB7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DBED-FCC0-4AE7-9BC4-F71A77D0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FB0-F8E5-4FD7-B2F4-D2DDEE4F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8B4-7E6B-4597-98C7-36E79FC5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EF7E-103C-4E5E-AEA2-9DBE3F2E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1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12520" y="2311200"/>
              <a:ext cx="61974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92000" y="8805960"/>
            <a:ext cx="1524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43200" y="8805960"/>
            <a:ext cx="2316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486040" y="8805960"/>
            <a:ext cx="1523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15F3-5F6B-4746-840A-BFBEB1624D93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46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9680" y="2781360"/>
            <a:ext cx="62182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9680" y="8811720"/>
            <a:ext cx="1523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720880" y="8811720"/>
            <a:ext cx="2316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5464080" y="8811720"/>
            <a:ext cx="1524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AFA5-DC54-4C6D-A5C1-3CEF3F4D3211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228600"/>
            <a:ext cx="6502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33"/>
                </a:solidFill>
                <a:latin typeface="Times New Roman"/>
              </a:rPr>
              <a:t>Московский государственный колледж информационных технологий</a:t>
            </a:r>
            <a:endParaRPr b="0" lang="en-US" sz="1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7098840"/>
            <a:ext cx="30477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выполни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Студент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гр. П-406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Коновалов С.Г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57280" y="2558880"/>
            <a:ext cx="304812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31840" y="2724120"/>
            <a:ext cx="30481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925720" y="4057560"/>
            <a:ext cx="2349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УРСОВАЯ РАБОТ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57600" y="4800600"/>
            <a:ext cx="7952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а тему:</a:t>
            </a:r>
            <a:endParaRPr b="0" lang="en-US" sz="16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44760" y="5460840"/>
            <a:ext cx="49575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ОПТИМИЗАЦИЯ ПРОИЗВОДСТВЕННОЙ ПРОГРАММЫ 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57280" y="5791320"/>
            <a:ext cx="32292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АДАННОЙ КОМПЛЕКТНОСТИ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9600" y="7016760"/>
            <a:ext cx="30477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провери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преподавате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Р.Н. Капусти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С.Б. Токаре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38320" y="2438280"/>
            <a:ext cx="54450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Times New Roman"/>
              </a:rPr>
              <a:t>Языки программирования и технологии разработки программного обеспечения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8600" y="8832960"/>
            <a:ext cx="1057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9" name="M0Q7M7N8" descr=""/>
          <p:cNvPicPr/>
          <p:nvPr/>
        </p:nvPicPr>
        <p:blipFill>
          <a:blip r:embed="rId1"/>
          <a:stretch/>
        </p:blipFill>
        <p:spPr>
          <a:xfrm>
            <a:off x="1951200" y="990720"/>
            <a:ext cx="140940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M0Q7M7RV" descr=""/>
          <p:cNvPicPr/>
          <p:nvPr/>
        </p:nvPicPr>
        <p:blipFill>
          <a:blip r:embed="rId2"/>
          <a:stretch/>
        </p:blipFill>
        <p:spPr>
          <a:xfrm>
            <a:off x="4470480" y="990720"/>
            <a:ext cx="138096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M0Q7M7LU" descr=""/>
          <p:cNvPicPr/>
          <p:nvPr/>
        </p:nvPicPr>
        <p:blipFill>
          <a:blip r:embed="rId3"/>
          <a:stretch/>
        </p:blipFill>
        <p:spPr>
          <a:xfrm>
            <a:off x="6502320" y="380880"/>
            <a:ext cx="568440" cy="1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9T12:26:24Z</dcterms:created>
  <dc:creator>Сергей</dc:creator>
  <dc:description/>
  <dc:language>en-US</dc:language>
  <cp:lastModifiedBy>Сергей</cp:lastModifiedBy>
  <cp:lastPrinted>1997-12-03T17:51:02Z</cp:lastPrinted>
  <dcterms:modified xsi:type="dcterms:W3CDTF">1997-12-03T17:54:02Z</dcterms:modified>
  <cp:revision>6</cp:revision>
  <dc:subject/>
  <dc:title>Московский государственный колледж информационных технологий</dc:title>
</cp:coreProperties>
</file>