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155-FFF4-4A02-A6D8-5B6004BD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1D7-6D83-447C-A6CD-B3DA63AE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ED4-3B42-4633-93BD-98FB819B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12D-8AA9-47A8-9DA8-06CFBA7C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69D-9E6B-4FD3-AA25-3B074CA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C1D-7F5F-4BB1-97FF-1F75171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C3C-EDC5-47A3-8C92-C7E8A27C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74C-EABB-428D-9464-B229848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7FE-89B8-4401-9290-2CFCBE5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607-C61E-46DE-8748-8B4DA12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E0B-8A0E-4890-826E-688493A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9FD-53D2-433A-9730-C7A767E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AD0-FF1E-4A61-8618-CBBC0DDA1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9600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4140000" cy="278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450072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2760" y="1268280"/>
            <a:ext cx="4791240" cy="558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sb_cable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ug_a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ug_b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b2_cable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niUSB_c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9:41:05Z</dcterms:created>
  <dc:creator>Данил</dc:creator>
  <dc:description/>
  <dc:language>en-US</dc:language>
  <cp:lastModifiedBy>Данил</cp:lastModifiedBy>
  <dcterms:modified xsi:type="dcterms:W3CDTF">2003-01-14T19:54:36Z</dcterms:modified>
  <cp:revision>2</cp:revision>
  <dc:subject/>
  <dc:title>Слайд 1</dc:title>
</cp:coreProperties>
</file>