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6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E85-867D-4E77-B410-2224E810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ADB-1FC1-4AD5-BC68-539CCEF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7F5-32A8-4527-9B16-271B48F5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8DA-26F2-43E8-8CEA-76D28C1F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E9B6-B75F-4337-83BF-3AE6DAC0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52C2-008A-4397-9388-A75E547D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357A-9209-4BAE-A215-EADEA666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5A46-BB8C-4187-AA16-1CE3A1AD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7F47-19FF-44EA-9B42-91D778B9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9D0-08A5-4204-AA1B-F9ACAB68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1B0F-9690-4F98-9925-2D876B0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C3D-15FC-41D3-AFBD-8029C418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C5A9-4AE6-4C41-A3BD-9243022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15F9-EE4C-47C7-997B-1CC4F139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DB6C-5A4B-419D-A521-392AA6CA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0C26-3C77-4DB8-9355-4C4E09EA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0D8-CEB3-4125-A298-5BA4602E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7A8-2BA4-447B-BCAF-E4AE77B3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E4E-B0B2-42F5-84B3-771734D1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298-5342-47B7-9AFA-C461E717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BC9-4514-48B4-B5BE-3731D033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6C5-E239-4556-8D9B-FF8186C6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78E-7DF0-4CE4-81E0-7CA9963E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D13-9680-4C51-B64B-AFCAA90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C4F4-2134-4BBC-A85B-69EE07BD3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F335-EDC3-49A2-BAE7-0B5270A7E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2.jpeg"/><Relationship Id="rId4" Type="http://schemas.openxmlformats.org/officeDocument/2006/relationships/image" Target="../media/image3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image" Target="../media/image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438280" y="53352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1295280"/>
            <a:ext cx="81532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йные устройства можно разделить на несколько груп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ункциональному назначению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 ввода-вывод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информац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 вывод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 ввод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П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i2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1257120" cy="885960"/>
          </a:xfrm>
          <a:prstGeom prst="rect">
            <a:avLst/>
          </a:prstGeom>
          <a:ln w="0">
            <a:noFill/>
          </a:ln>
        </p:spPr>
      </p:pic>
      <p:pic>
        <p:nvPicPr>
          <p:cNvPr id="327" name="i4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1295280" cy="833400"/>
          </a:xfrm>
          <a:prstGeom prst="rect">
            <a:avLst/>
          </a:prstGeom>
          <a:ln w="0">
            <a:noFill/>
          </a:ln>
        </p:spPr>
      </p:pic>
      <p:pic>
        <p:nvPicPr>
          <p:cNvPr id="328" name="ispimage2" descr=""/>
          <p:cNvPicPr/>
          <p:nvPr/>
        </p:nvPicPr>
        <p:blipFill>
          <a:blip r:embed="rId3"/>
          <a:stretch/>
        </p:blipFill>
        <p:spPr>
          <a:xfrm>
            <a:off x="2362320" y="5105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329" name="i" descr=""/>
          <p:cNvPicPr/>
          <p:nvPr/>
        </p:nvPicPr>
        <p:blipFill>
          <a:blip r:embed="rId4"/>
          <a:stretch/>
        </p:blipFill>
        <p:spPr>
          <a:xfrm>
            <a:off x="5715000" y="4876920"/>
            <a:ext cx="1371600" cy="1249200"/>
          </a:xfrm>
          <a:prstGeom prst="rect">
            <a:avLst/>
          </a:prstGeom>
          <a:ln w="0">
            <a:noFill/>
          </a:ln>
        </p:spPr>
      </p:pic>
      <p:pic>
        <p:nvPicPr>
          <p:cNvPr id="330" name="i" descr=""/>
          <p:cNvPicPr/>
          <p:nvPr/>
        </p:nvPicPr>
        <p:blipFill>
          <a:blip r:embed="rId5"/>
          <a:stretch/>
        </p:blipFill>
        <p:spPr>
          <a:xfrm>
            <a:off x="6781680" y="3962520"/>
            <a:ext cx="1371600" cy="1106280"/>
          </a:xfrm>
          <a:prstGeom prst="rect">
            <a:avLst/>
          </a:prstGeom>
          <a:ln w="0">
            <a:noFill/>
          </a:ln>
        </p:spPr>
      </p:pic>
      <p:pic>
        <p:nvPicPr>
          <p:cNvPr id="331" name="Планшетный" descr=""/>
          <p:cNvPicPr/>
          <p:nvPr/>
        </p:nvPicPr>
        <p:blipFill>
          <a:blip r:embed="rId6"/>
          <a:stretch/>
        </p:blipFill>
        <p:spPr>
          <a:xfrm>
            <a:off x="7238880" y="2971800"/>
            <a:ext cx="1371600" cy="1236600"/>
          </a:xfrm>
          <a:prstGeom prst="rect">
            <a:avLst/>
          </a:prstGeom>
          <a:ln w="0">
            <a:noFill/>
          </a:ln>
        </p:spPr>
      </p:pic>
      <p:pic>
        <p:nvPicPr>
          <p:cNvPr id="332" name="photo02" descr=""/>
          <p:cNvPicPr/>
          <p:nvPr/>
        </p:nvPicPr>
        <p:blipFill>
          <a:blip r:embed="rId7"/>
          <a:stretch/>
        </p:blipFill>
        <p:spPr>
          <a:xfrm>
            <a:off x="228600" y="5410080"/>
            <a:ext cx="1447920" cy="1317600"/>
          </a:xfrm>
          <a:prstGeom prst="rect">
            <a:avLst/>
          </a:prstGeom>
          <a:ln w="0">
            <a:noFill/>
          </a:ln>
        </p:spPr>
      </p:pic>
      <p:pic>
        <p:nvPicPr>
          <p:cNvPr id="333" name="421l" descr=""/>
          <p:cNvPicPr/>
          <p:nvPr/>
        </p:nvPicPr>
        <p:blipFill>
          <a:blip r:embed="rId8"/>
          <a:stretch/>
        </p:blipFill>
        <p:spPr>
          <a:xfrm>
            <a:off x="7467480" y="5257800"/>
            <a:ext cx="1447920" cy="1376280"/>
          </a:xfrm>
          <a:prstGeom prst="rect">
            <a:avLst/>
          </a:prstGeom>
          <a:ln w="0">
            <a:noFill/>
          </a:ln>
        </p:spPr>
      </p:pic>
      <p:pic>
        <p:nvPicPr>
          <p:cNvPr id="334" name="ispimage" descr=""/>
          <p:cNvPicPr/>
          <p:nvPr/>
        </p:nvPicPr>
        <p:blipFill>
          <a:blip r:embed="rId9"/>
          <a:stretch/>
        </p:blipFill>
        <p:spPr>
          <a:xfrm>
            <a:off x="3962520" y="50292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Монитор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2514600"/>
            <a:ext cx="4572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уществуют несколько типов монитор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монитор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овые монитор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частотные монитор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кристаллические дисплеи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плазменные мониторы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0880" y="167652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 является необходимым устройством вывода информации. Монитор (или дисплей) позволяет вывести на экран алфавитно-цифровую или графическую информацию в удобном для чтения и контроля пользователем виде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242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hoto02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1828800" cy="16639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40147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eizo_685ex_bs" descr=""/>
          <p:cNvPicPr/>
          <p:nvPr/>
        </p:nvPicPr>
        <p:blipFill>
          <a:blip r:embed="rId2"/>
          <a:stretch/>
        </p:blipFill>
        <p:spPr>
          <a:xfrm>
            <a:off x="4038480" y="4495680"/>
            <a:ext cx="1524240" cy="20574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397656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i2" descr=""/>
          <p:cNvPicPr/>
          <p:nvPr/>
        </p:nvPicPr>
        <p:blipFill>
          <a:blip r:embed="rId3"/>
          <a:stretch/>
        </p:blipFill>
        <p:spPr>
          <a:xfrm>
            <a:off x="6858000" y="4191120"/>
            <a:ext cx="1828800" cy="1477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Принтер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828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тер это широко распространенное устройство вывода информации на бумагу, его название образовано от английского глагола to print - печатать. Принтер не входит в базовую конфигурацию ПК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уществуют различные типы принтер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3352680"/>
            <a:ext cx="43434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ой принте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ает аналогично электрической печатающей машинке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ричные (игольчатые) принтер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амые дешевые аппараты, обеспечивающие удовлетворительное качество печати для широкого круга рутинных операций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йные принтер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более высокое качество печати. Они особенно удобны для вывода цветных графических изображений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3276720"/>
            <a:ext cx="41148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ерные принтеры 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етодиодные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теры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льтернатива лазерным. Разработчик - фирма OK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Принтер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956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i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09572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i" descr=""/>
          <p:cNvPicPr/>
          <p:nvPr/>
        </p:nvPicPr>
        <p:blipFill>
          <a:blip r:embed="rId2"/>
          <a:stretch/>
        </p:blipFill>
        <p:spPr>
          <a:xfrm>
            <a:off x="6553080" y="1676520"/>
            <a:ext cx="2057400" cy="1873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398628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i1" descr=""/>
          <p:cNvPicPr/>
          <p:nvPr/>
        </p:nvPicPr>
        <p:blipFill>
          <a:blip r:embed="rId3"/>
          <a:stretch/>
        </p:blipFill>
        <p:spPr>
          <a:xfrm>
            <a:off x="3429000" y="32767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09480" y="3581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зер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трич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3505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уй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2438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ипы принт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590920" y="2819520"/>
            <a:ext cx="1218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2819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Плоттер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905120"/>
            <a:ext cx="8077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устройство применяется только в определенных областях: чертежи, схемы, графики, диаграммы и т.п. Широкое применение нашли плоттеры совместно с программами систем автоматического проектирования, где частью результатов работы программы становится конструкторская или технологическая документация. Незаменимы плоттеры и при разработках архитектурных проек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lotter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62120" y="5410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 черчения плоттера соответствует форматам А0-А4, хотя есть устройства, работающие с рулоном  не ограничивающие длину выводимого чертежа (он может иметь длину несколько метров). То есть различают планшетные и барабанные плоттер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Проекционная техника и аудиосистема.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1752480"/>
            <a:ext cx="579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а-проекторы прочно вошли в нашу жизнь в конце XX столетия, и сейчас без них невозможно представить многие сферы человеческо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ятельности. Это учебный процесс, презентации, шоу-бизнес и домашнее к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i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286000" cy="18446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57200" y="396252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пользователи не ограничиваются просмотром видеофильмов и играми с объемным звучанием. Настоящие аудиофилы предпочитают качественный стереозвук 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помим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ог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н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убоким басом, не говоря уже об энтузиастах, которые занимаются созданием музыки при помощи своих персональных компьютеров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i" descr=""/>
          <p:cNvPicPr/>
          <p:nvPr/>
        </p:nvPicPr>
        <p:blipFill>
          <a:blip r:embed="rId2"/>
          <a:stretch/>
        </p:blipFill>
        <p:spPr>
          <a:xfrm>
            <a:off x="5867280" y="3962520"/>
            <a:ext cx="2667240" cy="2241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Периферийные устройства ввода информации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4344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2" descr=""/>
          <p:cNvPicPr/>
          <p:nvPr/>
        </p:nvPicPr>
        <p:blipFill>
          <a:blip r:embed="rId1"/>
          <a:stretch/>
        </p:blipFill>
        <p:spPr>
          <a:xfrm>
            <a:off x="685800" y="1355760"/>
            <a:ext cx="2514600" cy="21146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0338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Планшетный" descr=""/>
          <p:cNvPicPr/>
          <p:nvPr/>
        </p:nvPicPr>
        <p:blipFill>
          <a:blip r:embed="rId2"/>
          <a:stretch/>
        </p:blipFill>
        <p:spPr>
          <a:xfrm>
            <a:off x="838080" y="3778200"/>
            <a:ext cx="2362320" cy="21319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9146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i2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133360" cy="13446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93876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Барабанный" descr=""/>
          <p:cNvPicPr/>
          <p:nvPr/>
        </p:nvPicPr>
        <p:blipFill>
          <a:blip r:embed="rId4"/>
          <a:stretch/>
        </p:blipFill>
        <p:spPr>
          <a:xfrm>
            <a:off x="5334120" y="1522440"/>
            <a:ext cx="2666880" cy="21445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276720" y="3352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тройства выв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3124080"/>
            <a:ext cx="2133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3048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91320" y="3505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5715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5867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афический планш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Клавиатура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920" y="1752480"/>
            <a:ext cx="853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лавным устройством   ввода  большинства  компьютерных систем является  </a:t>
            </a:r>
            <a:r>
              <a:rPr b="1" i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авиатура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До  тех  пор,  пока   система  распознавания голоса не смогут надежно воспринимать человеческую речь,  главенствующее положение клавиатуры  вряд  ли измен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2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2286000" cy="19224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971800" y="3200400"/>
            <a:ext cx="586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 недавнего времени использовалась стандартная клавиатура, 101/102 клавиши (первая модель клавиатуры содержала лишь 83 клавиши), но с развитием персональных компьютеров производители старались развивать и основное устройство ввода информац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920" y="457200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и привело к созданию мультимедийных клавиатур, с гораздо большим количеством кнопок, которые в наши дни все больше и больше набирают популярно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Сканер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1523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посредственного считывания графической информации с бумажного или иного носителя в ПК применяется оптические сканеры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Лазерный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752480" y="2514600"/>
            <a:ext cx="647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ые сканер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амые простые и дешевые. Основной недостаток в том, что человек сам перемещает сканер по объекту, и качество полученного изображения зависит от умения и твердости руки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426708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нные сканер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именяются в профессиональной типографической деятельности. Принцип заключается в том, что оригинал на барабане освещается источником света, а фотосенсоры переводят отраженное излучение в цифровое значение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3876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Барабанный" descr=""/>
          <p:cNvPicPr/>
          <p:nvPr/>
        </p:nvPicPr>
        <p:blipFill>
          <a:blip r:embed="rId2"/>
          <a:stretch/>
        </p:blipFill>
        <p:spPr>
          <a:xfrm>
            <a:off x="6858000" y="3886200"/>
            <a:ext cx="2286000" cy="1838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Сканер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2971800"/>
            <a:ext cx="3733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3048120"/>
            <a:ext cx="723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шетные сканеры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нируемый объект помещается на стеклянный лист, изображение построчно с равномерной скоростью считывается головкой чтения с CCD - сенсорами, расположенной сниз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338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Планшетный" descr=""/>
          <p:cNvPicPr/>
          <p:nvPr/>
        </p:nvPicPr>
        <p:blipFill>
          <a:blip r:embed="rId1"/>
          <a:stretch/>
        </p:blipFill>
        <p:spPr>
          <a:xfrm>
            <a:off x="7238880" y="2819520"/>
            <a:ext cx="1676520" cy="1512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411012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Проекционный ручн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1449360" cy="15242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133720" y="472428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ционные сканер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носительно новое направление. Цветной проекционный сканер является мощным многофункциональным средством для ввода в компьютер любых цветных изображений, включая трехмерные. Он вполне может заменить фотоаппарат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4920" y="160020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стовые сканеры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Их основное отличие от двух предыдущих в том, что при сканировании неподвижно закреплена линейка с CCD - элементами, а лист со сканируемым изображением движется относительно нее с помощью специальных вал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Графический планшет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1676520"/>
            <a:ext cx="8305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ольные компьютеры для конструкторских и дизайнерских работ уже более десяти лет комплектуются графическими планшетами. Это устройство значительно упрощает ввод в ПК чертежей, схем и рисунков. Сначала планшеты были дорогими приспособлениями и поэтому были рассчитаны на сугубо профессиональное использование. Но уже лет пять выпускаются дешевые домашние модел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146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i2" descr=""/>
          <p:cNvPicPr/>
          <p:nvPr/>
        </p:nvPicPr>
        <p:blipFill>
          <a:blip r:embed="rId1"/>
          <a:stretch/>
        </p:blipFill>
        <p:spPr>
          <a:xfrm>
            <a:off x="3581280" y="3200400"/>
            <a:ext cx="1981440" cy="12492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838080" y="4876920"/>
            <a:ext cx="7696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фический планшет позволяет легко и быстро рисовать изображения в окне графического редакто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зрачная пленка, покрывающая планшет, позволяет выполнять трассировку оригиналов – т.е. под нее можно положить картинку и, обводя наконечником пера ее линии, повторить рисунок в окне редакто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95040"/>
            <a:ext cx="77724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Устройства ввода-вывода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информации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44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периферийным устройствам ввода-вывода можно отн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5335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i2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2133720" cy="1503360"/>
          </a:xfrm>
          <a:prstGeom prst="rect">
            <a:avLst/>
          </a:prstGeom>
          <a:ln w="0">
            <a:noFill/>
          </a:ln>
        </p:spPr>
      </p:pic>
      <p:pic>
        <p:nvPicPr>
          <p:cNvPr id="339" name="i4" descr=""/>
          <p:cNvPicPr/>
          <p:nvPr/>
        </p:nvPicPr>
        <p:blipFill>
          <a:blip r:embed="rId2"/>
          <a:stretch/>
        </p:blipFill>
        <p:spPr>
          <a:xfrm>
            <a:off x="3733920" y="4419720"/>
            <a:ext cx="2209680" cy="1422360"/>
          </a:xfrm>
          <a:prstGeom prst="rect">
            <a:avLst/>
          </a:prstGeom>
          <a:ln w="0">
            <a:noFill/>
          </a:ln>
        </p:spPr>
      </p:pic>
      <p:pic>
        <p:nvPicPr>
          <p:cNvPr id="340" name="ispimage2" descr=""/>
          <p:cNvPicPr/>
          <p:nvPr/>
        </p:nvPicPr>
        <p:blipFill>
          <a:blip r:embed="rId3"/>
          <a:stretch/>
        </p:blipFill>
        <p:spPr>
          <a:xfrm>
            <a:off x="6400800" y="3048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09600" y="24382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е накоп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9920" y="35812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д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9840" y="25146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яя пам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Дополнительные периферийные устройства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93876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133360" cy="15876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1860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1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155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1" name="ispimage" descr=""/>
          <p:cNvPicPr/>
          <p:nvPr/>
        </p:nvPicPr>
        <p:blipFill>
          <a:blip r:embed="rId3"/>
          <a:stretch/>
        </p:blipFill>
        <p:spPr>
          <a:xfrm>
            <a:off x="685800" y="4876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267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2" descr=""/>
          <p:cNvPicPr/>
          <p:nvPr/>
        </p:nvPicPr>
        <p:blipFill>
          <a:blip r:embed="rId4"/>
          <a:stretch/>
        </p:blipFill>
        <p:spPr>
          <a:xfrm>
            <a:off x="3962520" y="3276720"/>
            <a:ext cx="1393560" cy="1676160"/>
          </a:xfrm>
          <a:prstGeom prst="rect">
            <a:avLst/>
          </a:prstGeom>
          <a:ln w="0">
            <a:noFill/>
          </a:ln>
        </p:spPr>
      </p:pic>
      <p:pic>
        <p:nvPicPr>
          <p:cNvPr id="504" name="421l" descr=""/>
          <p:cNvPicPr/>
          <p:nvPr/>
        </p:nvPicPr>
        <p:blipFill>
          <a:blip r:embed="rId5"/>
          <a:stretch/>
        </p:blipFill>
        <p:spPr>
          <a:xfrm>
            <a:off x="6172200" y="4495680"/>
            <a:ext cx="1905120" cy="18129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276720" y="1905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нипуля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514600" y="22860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209320" y="2286000"/>
            <a:ext cx="221004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22860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м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562720" y="56383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Мышь и джойстик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175248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Мышь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 развитием операционных систем с графическим интерфейсом этот манипулятор стал просто «незаменимой» частью персонального компьютера. Манипулятор «мышь» обеспечивает простое и удобное управление многими функциями ОС и прикладных програм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2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133720" cy="1587240"/>
          </a:xfrm>
          <a:prstGeom prst="rect">
            <a:avLst/>
          </a:prstGeom>
          <a:ln w="0">
            <a:noFill/>
          </a:ln>
        </p:spPr>
      </p:pic>
      <p:pic>
        <p:nvPicPr>
          <p:cNvPr id="516" name="ispimage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666880" y="4267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йстик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подвижную рукоять (или руль) с несколькими кнопками. Это устройство ввода наиболее распространено в области компьютерных иг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Web-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камера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16765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существует большое количество профессиональных цифровых систем видеонаблюдения, решающих разные задачи и соответственно имеющих различные возможности и цену. Но вполне работоспособную систему можно реализовать и на дешевы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ерах с интерфейсо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B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8620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421l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2209680" cy="21016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743200" y="3657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еры можно быстро «отсканировать» рисунок или текст, а текст даже впоследствии «распознать» и сохранить в алфавитно-цифровом вид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541008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доступ в Интернет, то можно использовать стандартные программки типа Windows Messenger или NetMeeting и общаться с собеседником на другом конце света, видя его изображ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7467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Внешние накопители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8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Магнитные (ленточные) накопители или стриме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394344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2209680"/>
            <a:ext cx="426708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ические характеристики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есткий прочный корпу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кост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ассе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т 4 Гб до 2 Тб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передачи данных: до 36 Мб/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время доступа: 44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а совершения ошибок: меньше 1 на 10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читанных би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время между сбоями: 200 000 час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ый режим работы: +10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+4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ый режим для хранения или перевозки: -40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+6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имость с операционными системами: Windows 3.1x, 9х, NT, 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481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1247760" cy="857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4038480"/>
            <a:ext cx="35812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ще всего используются в рамках устройств резервного копирования данных на предприятиях и в крупных компаниях (хранят резервные копии баз данных и другой важной информ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533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1006200"/>
            <a:ext cx="77724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Магнитооптические накопители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905120"/>
            <a:ext cx="3886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воды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VD-R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21337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1973160"/>
            <a:ext cx="4114800" cy="46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ческие характерист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D-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гут записывать только болванки тип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D-R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появлением приводов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D-RW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чти исчезли с рын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D-RW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еют возможность записи болванок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D-R/RW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возможностью перезаписи дисков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D-R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Скорость записи : для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D-R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 2х до 52х, для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D-RW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 2х до 24х. Скорость чтения 52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VD-R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зводят запись на болванк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VD-R 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на одно- так и на двухсторонние). Скорость чтения: от 16х до 40х. Скорость записи: от 4х до 16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VD-RW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зводят запись на диски тип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VD-R/R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 возможностью перезаписи дисков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VD-R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еют два формата запис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-RW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+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Скорость чтения: от 16х до 40х. Скорость запис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записи: от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2x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 16х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10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43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i2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1257120" cy="885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1148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i4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52280" y="4038480"/>
            <a:ext cx="426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могут использоваться в качестве устройств резервного копирования, но, в отличие от стримеров, обладают гораздо меньшей вместимостью данных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700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х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VD-RW до 4.7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19520" y="5335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Модемы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21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существуют два вида модемов: аналоговые и цифровые (технолог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S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3848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i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1295280" cy="9475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43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i4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447920" cy="931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752480" y="3733920"/>
            <a:ext cx="52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овые модем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в основном для выхода в сет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а ц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фровы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мы используются для высокоскоростны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динений с сетью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для организации локальной сети на больших расстояния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962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налогов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3800" y="5410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ифров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5335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Модемы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xDSL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53352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1219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ществуют несколько типов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SL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демо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1523880"/>
            <a:ext cx="8305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SL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синхронный. Работает в асинхронном режиме приема-передачи данны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DSL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нхронный. Работает в синхронном режиме приема-передачи данны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DSL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окоскоростной мод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SL 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от англ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y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чень высокоскоростной мод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2971800"/>
            <a:ext cx="853452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DSL представляет собой систему двухсторонней симметричной передачи данных, которая позволяет передавать данные со скоростью 1,544 Мбит/с или 2,048 Мбит/с по нескольким парам проводов сети доступа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Технология ADS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 Она была разработана для предоставления таких услуг, которые требуют асимметричной передачи данных, например, видео по запросу, когда требуется передавать большой поток данных в сторону пользователя, а в сторону сети от пользователя передается гораздо меньший объем данны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Технология VDSL предназначена для передачи данных на расстояниях в пределах 1,2 – 1,4 километра, обеспечивая на этих дальностях полнодуплексную скорость от 6 до 16 – 18 Мбит/с. При этом общая пропускная способность канала может достигать 34 Мбит/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метричная или двухпроводная линия DSL (SDSL) с точки зрения требований, является следующей ступенью развития данных технологий. Данная технология является симметричной и базируется на более ранней технологии HDSL, но имеет целый ряд усовершенствований, которые позволяют более гибко организовать передачу данных по одной паре проводов.</a:t>
            </a:r>
            <a:r>
              <a:rPr b="1" lang="en-US" sz="1400" spc="-1" strike="noStrike">
                <a:solidFill>
                  <a:srgbClr val="29005a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Аналоговые модемы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5335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2286000"/>
            <a:ext cx="731520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овые модемы более популярны из-за своей дешевизны и используются в основном для выхода в сеть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только иногда (из-за невысокой (до 56 Кбит/с) скорости передачи данных) для связи с другими ПК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демы имеют несколько типов соединений с ПК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или (для цифровых модемов) посредством сетевой карты. Модем, соединение которого идет через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порт, требует дополнительного источника (блока) питания, а при соединении при помощ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порта потребность в блоке питания отпадает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DSL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модемы также требуют дополнительного источника пит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i2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1295280" cy="947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Флэш-карты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1676520"/>
            <a:ext cx="556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лэш-карты – это м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росхемы, сохраняющие данные после отключения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соединении с персональным компьютером при помощи порт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B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пределяются как съемный диск. На них можно без трудностей записывать любую информацию, и также легко стирать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5120" y="289548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ческие характерист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421080"/>
            <a:ext cx="65534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онезависимость – т.е. не нуж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тс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батарейках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ктн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ь, удобство и надежность транспортировк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ь – совместимость со многими современными устройства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вечн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ь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 памяти от 64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b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 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ispimage2" descr=""/>
          <p:cNvPicPr/>
          <p:nvPr/>
        </p:nvPicPr>
        <p:blipFill>
          <a:blip r:embed="rId1"/>
          <a:stretch/>
        </p:blipFill>
        <p:spPr>
          <a:xfrm>
            <a:off x="632448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87" name="ispimage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1371600" cy="1141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Периферийные устройства вывода информации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5335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иферийные устройства П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1676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 периферийным устройствам ввода относя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133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ни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242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hoto02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2057400" cy="1873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429000" y="3200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интеры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9572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i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1904760" cy="173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400800" y="2133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оттеры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5280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lotter" descr=""/>
          <p:cNvPicPr/>
          <p:nvPr/>
        </p:nvPicPr>
        <p:blipFill>
          <a:blip r:embed="rId3"/>
          <a:stretch/>
        </p:blipFill>
        <p:spPr>
          <a:xfrm>
            <a:off x="7010280" y="26668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екционная тех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4267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удио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052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i" descr=""/>
          <p:cNvPicPr/>
          <p:nvPr/>
        </p:nvPicPr>
        <p:blipFill>
          <a:blip r:embed="rId4"/>
          <a:stretch/>
        </p:blipFill>
        <p:spPr>
          <a:xfrm>
            <a:off x="914400" y="4724280"/>
            <a:ext cx="1981080" cy="1598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8862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i" descr=""/>
          <p:cNvPicPr/>
          <p:nvPr/>
        </p:nvPicPr>
        <p:blipFill>
          <a:blip r:embed="rId5"/>
          <a:stretch/>
        </p:blipFill>
        <p:spPr>
          <a:xfrm>
            <a:off x="6477120" y="4724280"/>
            <a:ext cx="2057400" cy="1729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6:05:31Z</dcterms:created>
  <dc:creator>qaz</dc:creator>
  <dc:description/>
  <dc:language>en-US</dc:language>
  <cp:lastModifiedBy>FREEMAN</cp:lastModifiedBy>
  <dcterms:modified xsi:type="dcterms:W3CDTF">2004-06-19T15:41:57Z</dcterms:modified>
  <cp:revision>40</cp:revision>
  <dc:subject/>
  <dc:title>Презентация PowerPoint</dc:title>
</cp:coreProperties>
</file>