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7C6-9D62-4A67-A038-078183DF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ED1-49ED-458C-A026-DFA6E556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98E-5FE3-4292-9556-7804BAE3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70C-7845-4CA8-9C7A-89337BFD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4EA-F121-4E87-ACC4-297C6D32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F298-B9B0-4776-A9C3-C8101FFC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A50-E377-45C1-8971-95485A9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35CF-411E-4165-A9AB-DB1A6738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817-AF3F-44E6-8402-7C25E84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CCD-9FD2-4BA6-B1B6-53EAE019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FAE4-9913-4E92-8826-75C6C68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B19-56F8-46EF-B6EA-92CB4C8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A53-59AC-41DC-969C-5B8EDD0B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50C5-100E-4E72-99EF-448C5DE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4944-84D6-48A9-A335-A47A1E9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46F-8419-4710-9142-F473E836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508-696D-4335-B062-D01C8881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7BC-A391-412C-9BF8-CEDDC06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086-D87D-45D4-BD32-0CDED0F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FB8-865F-49E6-9FE7-B6EDCA7F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DBA-20C1-4957-B466-52158D17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C2D-9678-4B33-993B-F680721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4DF-0F5A-49D8-BC46-6097DE6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7A3-9143-42C4-AB45-A0A37DC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FC2-1AB4-45DF-8DDC-73B4EF94A5E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52B-7538-47AC-B2E0-DBFA250F639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55640" y="62064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3b"/>
                    </a:gs>
                    <a:gs pos="50000">
                      <a:srgbClr val="008080"/>
                    </a:gs>
                    <a:gs pos="100000">
                      <a:srgbClr val="003b3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Бендер-Задунайский О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55736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Система поддержки принятия маркетинговых решений в торговом предприятии на основе методов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ata Mining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1640" y="4508640"/>
            <a:ext cx="4697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3b"/>
                    </a:gs>
                    <a:gs pos="50000">
                      <a:srgbClr val="008080"/>
                    </a:gs>
                    <a:gs pos="100000">
                      <a:srgbClr val="003b3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уководитель - Воробьянинов К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3b"/>
                    </a:gs>
                    <a:gs pos="50000">
                      <a:srgbClr val="008080"/>
                    </a:gs>
                    <a:gs pos="100000">
                      <a:srgbClr val="003b3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федра И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3b"/>
                    </a:gs>
                    <a:gs pos="50000">
                      <a:srgbClr val="008080"/>
                    </a:gs>
                    <a:gs pos="100000">
                      <a:srgbClr val="003b3b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руппа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1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Дипломная работ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ременных ряд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84464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Прогнозирования временных рядов осуществляется по следующей основной методик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2708280"/>
            <a:ext cx="8497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ожение временного ряда на компонент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настройка предикторных схе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гнозирование значений временного ряд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941720"/>
            <a:ext cx="856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Задача предсказания значений временного ряда может быть сведена к типовой задаче аппроксимации функции многих переменных по заданной выборке с помощью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процедуры погружения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этого ряда в многомерное пространство.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ременных ряд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42920" y="5084640"/>
            <a:ext cx="6985080" cy="127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2637" t="6299" r="2637" b="8398"/>
          <a:stretch/>
        </p:blipFill>
        <p:spPr>
          <a:xfrm>
            <a:off x="1258920" y="1700280"/>
            <a:ext cx="6616800" cy="2495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443700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Разложение временного ряда на компонент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ременных ряд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413000"/>
            <a:ext cx="84960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дним из наиболее перспективных подходов к построению прогнозирующих систем является применение математического аппарата искусственных нейронных сете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НС используется тогда, когда неизвестен точный вид связей между входами и выходами. Зависимость между значениями входных и выходных переменных находится в процессе обучения сети. Если сеть обучена правильно, она приобретает  способность моделировать неизвестную функцию, связывающую значения входных и выходных переменных, и впоследствии такую сеть можно использовать для прогнозирования в ситуации, когда выходные значения неизвестны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На НС задача прогнозирования формализуется через задачу распознавания образов.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Решение задач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060640"/>
            <a:ext cx="849636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Aft>
                <a:spcPts val="751"/>
              </a:spcAft>
              <a:buClr>
                <a:srgbClr val="3333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ую обработку данных (прогноз) производить в подключаемом внешнем модуле, для чего разработать по технологии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ctiveX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омпонент, содержащий программный код обработк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Aft>
                <a:spcPts val="751"/>
              </a:spcAft>
              <a:buClr>
                <a:srgbClr val="3333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качестве адаптивного предиктора для прогнозирования использовать трехслойную ИНС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Aft>
                <a:spcPts val="751"/>
              </a:spcAft>
              <a:buClr>
                <a:srgbClr val="3333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учение сети проводить по алгоритму обратного распространения ошибк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Aft>
                <a:spcPts val="751"/>
              </a:spcAft>
              <a:buClr>
                <a:srgbClr val="3333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- и пост прецессионную обработку данных, а также представление результатов прогнозирования проводить имеющимися средствами системы программ «1С: Предприятие 7.7», для чего дополнительно реализовать форму внешнего отчета, содержащего методы подготовки данных, создания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M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ъекта  и передачи в него данных для обработк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90792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сходя из общих требований к системе, спецификации программы «1С:Предприятие 7.7» и теоретической части предполагается следующий подход к решению данной задачи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Архитектура нейронной сети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0920" y="1197000"/>
            <a:ext cx="8642160" cy="5159160"/>
            <a:chOff x="250920" y="1197000"/>
            <a:chExt cx="8642160" cy="5159160"/>
          </a:xfrm>
        </p:grpSpPr>
        <p:cxnSp>
          <p:nvCxnSpPr>
            <p:cNvPr id="171" name=""/>
            <p:cNvCxnSpPr>
              <a:stCxn id="172" idx="3"/>
              <a:endCxn id="173" idx="2"/>
            </p:cNvCxnSpPr>
            <p:nvPr/>
          </p:nvCxnSpPr>
          <p:spPr>
            <a:xfrm flipV="1">
              <a:off x="2009520" y="1653480"/>
              <a:ext cx="21848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5" idx="3"/>
              <a:endCxn id="173" idx="2"/>
            </p:cNvCxnSpPr>
            <p:nvPr/>
          </p:nvCxnSpPr>
          <p:spPr>
            <a:xfrm flipV="1">
              <a:off x="2009520" y="1653840"/>
              <a:ext cx="2184840" cy="74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77" idx="3"/>
              <a:endCxn id="173" idx="2"/>
            </p:cNvCxnSpPr>
            <p:nvPr/>
          </p:nvCxnSpPr>
          <p:spPr>
            <a:xfrm flipV="1">
              <a:off x="2009520" y="1653480"/>
              <a:ext cx="2184840" cy="11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9" idx="3"/>
              <a:endCxn id="173" idx="2"/>
            </p:cNvCxnSpPr>
            <p:nvPr/>
          </p:nvCxnSpPr>
          <p:spPr>
            <a:xfrm flipV="1">
              <a:off x="2008080" y="1653480"/>
              <a:ext cx="2186640" cy="191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>
              <a:stCxn id="181" idx="3"/>
              <a:endCxn id="173" idx="2"/>
            </p:cNvCxnSpPr>
            <p:nvPr/>
          </p:nvCxnSpPr>
          <p:spPr>
            <a:xfrm flipV="1">
              <a:off x="2008080" y="1653480"/>
              <a:ext cx="2186640" cy="264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83" idx="3"/>
              <a:endCxn id="173" idx="2"/>
            </p:cNvCxnSpPr>
            <p:nvPr/>
          </p:nvCxnSpPr>
          <p:spPr>
            <a:xfrm flipV="1">
              <a:off x="2008080" y="1653840"/>
              <a:ext cx="2186640" cy="300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2" idx="3"/>
              <a:endCxn id="185" idx="2"/>
            </p:cNvCxnSpPr>
            <p:nvPr/>
          </p:nvCxnSpPr>
          <p:spPr>
            <a:xfrm>
              <a:off x="2009520" y="2020680"/>
              <a:ext cx="2184840" cy="10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5" idx="3"/>
              <a:endCxn id="185" idx="2"/>
            </p:cNvCxnSpPr>
            <p:nvPr/>
          </p:nvCxnSpPr>
          <p:spPr>
            <a:xfrm flipV="1">
              <a:off x="2009520" y="2126880"/>
              <a:ext cx="218484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7" idx="3"/>
              <a:endCxn id="185" idx="2"/>
            </p:cNvCxnSpPr>
            <p:nvPr/>
          </p:nvCxnSpPr>
          <p:spPr>
            <a:xfrm flipV="1">
              <a:off x="2009520" y="2126520"/>
              <a:ext cx="218484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79" idx="3"/>
              <a:endCxn id="185" idx="2"/>
            </p:cNvCxnSpPr>
            <p:nvPr/>
          </p:nvCxnSpPr>
          <p:spPr>
            <a:xfrm flipV="1">
              <a:off x="2008080" y="2126520"/>
              <a:ext cx="2186640" cy="143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1" idx="3"/>
              <a:endCxn id="185" idx="2"/>
            </p:cNvCxnSpPr>
            <p:nvPr/>
          </p:nvCxnSpPr>
          <p:spPr>
            <a:xfrm flipV="1">
              <a:off x="2008080" y="2126520"/>
              <a:ext cx="2186640" cy="21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3" idx="3"/>
              <a:endCxn id="185" idx="2"/>
            </p:cNvCxnSpPr>
            <p:nvPr/>
          </p:nvCxnSpPr>
          <p:spPr>
            <a:xfrm flipV="1">
              <a:off x="2008080" y="2126880"/>
              <a:ext cx="2186640" cy="252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72" idx="3"/>
              <a:endCxn id="192" idx="2"/>
            </p:cNvCxnSpPr>
            <p:nvPr/>
          </p:nvCxnSpPr>
          <p:spPr>
            <a:xfrm>
              <a:off x="2009520" y="2020680"/>
              <a:ext cx="2184840" cy="57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75" idx="3"/>
              <a:endCxn id="192" idx="2"/>
            </p:cNvCxnSpPr>
            <p:nvPr/>
          </p:nvCxnSpPr>
          <p:spPr>
            <a:xfrm>
              <a:off x="2009520" y="2397240"/>
              <a:ext cx="218484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77" idx="3"/>
              <a:endCxn id="192" idx="2"/>
            </p:cNvCxnSpPr>
            <p:nvPr/>
          </p:nvCxnSpPr>
          <p:spPr>
            <a:xfrm flipV="1">
              <a:off x="2009520" y="2599560"/>
              <a:ext cx="2184840" cy="17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5" name=""/>
            <p:cNvCxnSpPr>
              <a:stCxn id="179" idx="3"/>
              <a:endCxn id="192" idx="2"/>
            </p:cNvCxnSpPr>
            <p:nvPr/>
          </p:nvCxnSpPr>
          <p:spPr>
            <a:xfrm flipV="1">
              <a:off x="2008080" y="2599560"/>
              <a:ext cx="2186640" cy="96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>
              <a:stCxn id="181" idx="3"/>
              <a:endCxn id="192" idx="2"/>
            </p:cNvCxnSpPr>
            <p:nvPr/>
          </p:nvCxnSpPr>
          <p:spPr>
            <a:xfrm flipV="1">
              <a:off x="2008080" y="2599560"/>
              <a:ext cx="2186640" cy="169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>
              <a:stCxn id="183" idx="3"/>
              <a:endCxn id="192" idx="2"/>
            </p:cNvCxnSpPr>
            <p:nvPr/>
          </p:nvCxnSpPr>
          <p:spPr>
            <a:xfrm flipV="1">
              <a:off x="2008080" y="2599920"/>
              <a:ext cx="2186640" cy="20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72" idx="3"/>
              <a:endCxn id="199" idx="2"/>
            </p:cNvCxnSpPr>
            <p:nvPr/>
          </p:nvCxnSpPr>
          <p:spPr>
            <a:xfrm>
              <a:off x="2009520" y="2021040"/>
              <a:ext cx="2183400" cy="380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5" idx="3"/>
              <a:endCxn id="199" idx="2"/>
            </p:cNvCxnSpPr>
            <p:nvPr/>
          </p:nvCxnSpPr>
          <p:spPr>
            <a:xfrm>
              <a:off x="2009520" y="2396880"/>
              <a:ext cx="2183400" cy="342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77" idx="3"/>
              <a:endCxn id="199" idx="2"/>
            </p:cNvCxnSpPr>
            <p:nvPr/>
          </p:nvCxnSpPr>
          <p:spPr>
            <a:xfrm>
              <a:off x="2009520" y="2774880"/>
              <a:ext cx="2183400" cy="305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2" name=""/>
            <p:cNvCxnSpPr>
              <a:stCxn id="179" idx="3"/>
              <a:endCxn id="199" idx="2"/>
            </p:cNvCxnSpPr>
            <p:nvPr/>
          </p:nvCxnSpPr>
          <p:spPr>
            <a:xfrm>
              <a:off x="2008080" y="3564000"/>
              <a:ext cx="2185200" cy="22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81" idx="3"/>
              <a:endCxn id="199" idx="2"/>
            </p:cNvCxnSpPr>
            <p:nvPr/>
          </p:nvCxnSpPr>
          <p:spPr>
            <a:xfrm>
              <a:off x="2008080" y="4294080"/>
              <a:ext cx="2185200" cy="153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83" idx="3"/>
              <a:endCxn id="199" idx="2"/>
            </p:cNvCxnSpPr>
            <p:nvPr/>
          </p:nvCxnSpPr>
          <p:spPr>
            <a:xfrm>
              <a:off x="2008080" y="4654080"/>
              <a:ext cx="2185200" cy="117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73" idx="6"/>
              <a:endCxn id="206" idx="2"/>
            </p:cNvCxnSpPr>
            <p:nvPr/>
          </p:nvCxnSpPr>
          <p:spPr>
            <a:xfrm>
              <a:off x="4549320" y="1653840"/>
              <a:ext cx="591120" cy="23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85" idx="6"/>
              <a:endCxn id="206" idx="2"/>
            </p:cNvCxnSpPr>
            <p:nvPr/>
          </p:nvCxnSpPr>
          <p:spPr>
            <a:xfrm flipV="1">
              <a:off x="4549320" y="1890000"/>
              <a:ext cx="591120" cy="23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>
              <a:stCxn id="192" idx="6"/>
              <a:endCxn id="206" idx="2"/>
            </p:cNvCxnSpPr>
            <p:nvPr/>
          </p:nvCxnSpPr>
          <p:spPr>
            <a:xfrm flipV="1">
              <a:off x="4549320" y="1890000"/>
              <a:ext cx="591120" cy="71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9" name=""/>
            <p:cNvCxnSpPr>
              <a:stCxn id="199" idx="6"/>
              <a:endCxn id="206" idx="2"/>
            </p:cNvCxnSpPr>
            <p:nvPr/>
          </p:nvCxnSpPr>
          <p:spPr>
            <a:xfrm flipV="1">
              <a:off x="4547880" y="1890360"/>
              <a:ext cx="592920" cy="39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73" idx="6"/>
              <a:endCxn id="211" idx="2"/>
            </p:cNvCxnSpPr>
            <p:nvPr/>
          </p:nvCxnSpPr>
          <p:spPr>
            <a:xfrm>
              <a:off x="4549680" y="1653840"/>
              <a:ext cx="596160" cy="71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85" idx="6"/>
              <a:endCxn id="211" idx="2"/>
            </p:cNvCxnSpPr>
            <p:nvPr/>
          </p:nvCxnSpPr>
          <p:spPr>
            <a:xfrm>
              <a:off x="4549680" y="2126880"/>
              <a:ext cx="596160" cy="23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185" idx="6"/>
              <a:endCxn id="214" idx="2"/>
            </p:cNvCxnSpPr>
            <p:nvPr/>
          </p:nvCxnSpPr>
          <p:spPr>
            <a:xfrm>
              <a:off x="4549680" y="2126880"/>
              <a:ext cx="596160" cy="71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"/>
            <p:cNvCxnSpPr>
              <a:stCxn id="185" idx="6"/>
              <a:endCxn id="216" idx="2"/>
            </p:cNvCxnSpPr>
            <p:nvPr/>
          </p:nvCxnSpPr>
          <p:spPr>
            <a:xfrm>
              <a:off x="4549320" y="2127240"/>
              <a:ext cx="568800" cy="346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>
              <a:stCxn id="173" idx="6"/>
              <a:endCxn id="214" idx="2"/>
            </p:cNvCxnSpPr>
            <p:nvPr/>
          </p:nvCxnSpPr>
          <p:spPr>
            <a:xfrm>
              <a:off x="4549680" y="1653840"/>
              <a:ext cx="596160" cy="118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>
              <a:stCxn id="173" idx="6"/>
              <a:endCxn id="216" idx="2"/>
            </p:cNvCxnSpPr>
            <p:nvPr/>
          </p:nvCxnSpPr>
          <p:spPr>
            <a:xfrm>
              <a:off x="4549320" y="1654200"/>
              <a:ext cx="568800" cy="393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192" idx="6"/>
              <a:endCxn id="211" idx="2"/>
            </p:cNvCxnSpPr>
            <p:nvPr/>
          </p:nvCxnSpPr>
          <p:spPr>
            <a:xfrm flipV="1">
              <a:off x="4549680" y="2364480"/>
              <a:ext cx="596160" cy="23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"/>
            <p:cNvCxnSpPr>
              <a:stCxn id="192" idx="6"/>
              <a:endCxn id="214" idx="2"/>
            </p:cNvCxnSpPr>
            <p:nvPr/>
          </p:nvCxnSpPr>
          <p:spPr>
            <a:xfrm>
              <a:off x="4549680" y="2599920"/>
              <a:ext cx="596160" cy="23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192" idx="6"/>
              <a:endCxn id="216" idx="2"/>
            </p:cNvCxnSpPr>
            <p:nvPr/>
          </p:nvCxnSpPr>
          <p:spPr>
            <a:xfrm>
              <a:off x="4549320" y="2600280"/>
              <a:ext cx="568800" cy="29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199" idx="6"/>
              <a:endCxn id="211" idx="2"/>
            </p:cNvCxnSpPr>
            <p:nvPr/>
          </p:nvCxnSpPr>
          <p:spPr>
            <a:xfrm flipV="1">
              <a:off x="4548240" y="2364840"/>
              <a:ext cx="597600" cy="346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" name=""/>
            <p:cNvCxnSpPr>
              <a:stCxn id="199" idx="6"/>
              <a:endCxn id="214" idx="2"/>
            </p:cNvCxnSpPr>
            <p:nvPr/>
          </p:nvCxnSpPr>
          <p:spPr>
            <a:xfrm flipV="1">
              <a:off x="4548240" y="2836440"/>
              <a:ext cx="597600" cy="29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" name=""/>
            <p:cNvCxnSpPr>
              <a:stCxn id="199" idx="6"/>
              <a:endCxn id="216" idx="2"/>
            </p:cNvCxnSpPr>
            <p:nvPr/>
          </p:nvCxnSpPr>
          <p:spPr>
            <a:xfrm flipV="1">
              <a:off x="4547880" y="5589000"/>
              <a:ext cx="570600" cy="23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" name=""/>
            <p:cNvCxnSpPr>
              <a:stCxn id="185" idx="4"/>
            </p:cNvCxnSpPr>
            <p:nvPr/>
          </p:nvCxnSpPr>
          <p:spPr>
            <a:xfrm rot="5400000">
              <a:off x="2331360" y="3539880"/>
              <a:ext cx="3261240" cy="819720"/>
            </a:xfrm>
            <a:prstGeom prst="bentConnector3">
              <a:avLst>
                <a:gd name="adj1" fmla="val 16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" name=""/>
            <p:cNvCxnSpPr>
              <a:stCxn id="192" idx="4"/>
            </p:cNvCxnSpPr>
            <p:nvPr/>
          </p:nvCxnSpPr>
          <p:spPr>
            <a:xfrm rot="5400000">
              <a:off x="2566800" y="3954960"/>
              <a:ext cx="2969280" cy="640440"/>
            </a:xfrm>
            <a:prstGeom prst="bentConnector3">
              <a:avLst>
                <a:gd name="adj1" fmla="val 18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173" idx="4"/>
            </p:cNvCxnSpPr>
            <p:nvPr/>
          </p:nvCxnSpPr>
          <p:spPr>
            <a:xfrm rot="5400000">
              <a:off x="2096280" y="3120840"/>
              <a:ext cx="3552120" cy="999000"/>
            </a:xfrm>
            <a:prstGeom prst="bentConnector3">
              <a:avLst>
                <a:gd name="adj1" fmla="val 110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" name=""/>
            <p:cNvCxnSpPr>
              <a:stCxn id="199" idx="4"/>
            </p:cNvCxnSpPr>
            <p:nvPr/>
          </p:nvCxnSpPr>
          <p:spPr>
            <a:xfrm rot="5400000">
              <a:off x="3173400" y="4872960"/>
              <a:ext cx="54720" cy="2342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4206960" y="147492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6960" y="194940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6960" y="2419200"/>
              <a:ext cx="330120" cy="35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5646600"/>
              <a:ext cx="331920" cy="357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3880" y="3144960"/>
              <a:ext cx="1440" cy="21193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83120" y="1197000"/>
              <a:ext cx="577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I Сло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51600" y="1711440"/>
              <a:ext cx="33156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6280" y="2184480"/>
              <a:ext cx="322200" cy="35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56280" y="2657520"/>
              <a:ext cx="32220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0720" y="5410080"/>
              <a:ext cx="330120" cy="35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304960" y="3382920"/>
              <a:ext cx="1800" cy="16351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97520" y="1197000"/>
              <a:ext cx="7398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II Сло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1946160"/>
              <a:ext cx="330480" cy="35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2419200"/>
              <a:ext cx="330480" cy="357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5880" y="2892600"/>
              <a:ext cx="33048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5175360"/>
              <a:ext cx="33048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261120" y="3571920"/>
              <a:ext cx="1440" cy="12826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38920" y="1197000"/>
              <a:ext cx="712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III Сло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16" idx="6"/>
              <a:endCxn id="233" idx="2"/>
            </p:cNvCxnSpPr>
            <p:nvPr/>
          </p:nvCxnSpPr>
          <p:spPr>
            <a:xfrm flipV="1">
              <a:off x="5473440" y="2125440"/>
              <a:ext cx="610200" cy="346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0" name=""/>
            <p:cNvCxnSpPr>
              <a:stCxn id="216" idx="6"/>
              <a:endCxn id="234" idx="2"/>
            </p:cNvCxnSpPr>
            <p:nvPr/>
          </p:nvCxnSpPr>
          <p:spPr>
            <a:xfrm flipV="1">
              <a:off x="5473440" y="2596320"/>
              <a:ext cx="610200" cy="299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"/>
            <p:cNvCxnSpPr>
              <a:stCxn id="216" idx="6"/>
              <a:endCxn id="235" idx="2"/>
            </p:cNvCxnSpPr>
            <p:nvPr/>
          </p:nvCxnSpPr>
          <p:spPr>
            <a:xfrm flipV="1">
              <a:off x="5473440" y="3069360"/>
              <a:ext cx="610200" cy="252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2" name=""/>
            <p:cNvCxnSpPr>
              <a:stCxn id="216" idx="6"/>
              <a:endCxn id="236" idx="2"/>
            </p:cNvCxnSpPr>
            <p:nvPr/>
          </p:nvCxnSpPr>
          <p:spPr>
            <a:xfrm flipV="1">
              <a:off x="5473440" y="5353920"/>
              <a:ext cx="610200" cy="23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"/>
            <p:cNvCxnSpPr>
              <a:stCxn id="206" idx="6"/>
              <a:endCxn id="233" idx="2"/>
            </p:cNvCxnSpPr>
            <p:nvPr/>
          </p:nvCxnSpPr>
          <p:spPr>
            <a:xfrm>
              <a:off x="5494320" y="1890360"/>
              <a:ext cx="589680" cy="235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>
              <a:stCxn id="206" idx="6"/>
              <a:endCxn id="234" idx="2"/>
            </p:cNvCxnSpPr>
            <p:nvPr/>
          </p:nvCxnSpPr>
          <p:spPr>
            <a:xfrm>
              <a:off x="5494320" y="1890720"/>
              <a:ext cx="589680" cy="70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06" idx="6"/>
              <a:endCxn id="235" idx="2"/>
            </p:cNvCxnSpPr>
            <p:nvPr/>
          </p:nvCxnSpPr>
          <p:spPr>
            <a:xfrm>
              <a:off x="5494320" y="1890720"/>
              <a:ext cx="589680" cy="118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06" idx="6"/>
              <a:endCxn id="236" idx="2"/>
            </p:cNvCxnSpPr>
            <p:nvPr/>
          </p:nvCxnSpPr>
          <p:spPr>
            <a:xfrm>
              <a:off x="5494320" y="1890720"/>
              <a:ext cx="589680" cy="346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11" idx="6"/>
              <a:endCxn id="233" idx="2"/>
            </p:cNvCxnSpPr>
            <p:nvPr/>
          </p:nvCxnSpPr>
          <p:spPr>
            <a:xfrm flipV="1">
              <a:off x="5489280" y="2125080"/>
              <a:ext cx="59436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"/>
            <p:cNvCxnSpPr>
              <a:stCxn id="211" idx="6"/>
              <a:endCxn id="234" idx="2"/>
            </p:cNvCxnSpPr>
            <p:nvPr/>
          </p:nvCxnSpPr>
          <p:spPr>
            <a:xfrm>
              <a:off x="5489280" y="2365200"/>
              <a:ext cx="594360" cy="2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"/>
            <p:cNvCxnSpPr>
              <a:stCxn id="211" idx="6"/>
              <a:endCxn id="235" idx="2"/>
            </p:cNvCxnSpPr>
            <p:nvPr/>
          </p:nvCxnSpPr>
          <p:spPr>
            <a:xfrm>
              <a:off x="5489280" y="2365200"/>
              <a:ext cx="594360" cy="70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"/>
            <p:cNvCxnSpPr>
              <a:stCxn id="211" idx="6"/>
              <a:endCxn id="236" idx="2"/>
            </p:cNvCxnSpPr>
            <p:nvPr/>
          </p:nvCxnSpPr>
          <p:spPr>
            <a:xfrm>
              <a:off x="5489280" y="2365200"/>
              <a:ext cx="594360" cy="29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>
              <a:stCxn id="214" idx="6"/>
              <a:endCxn id="233" idx="2"/>
            </p:cNvCxnSpPr>
            <p:nvPr/>
          </p:nvCxnSpPr>
          <p:spPr>
            <a:xfrm flipV="1">
              <a:off x="5489280" y="2125080"/>
              <a:ext cx="594360" cy="71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14" idx="6"/>
              <a:endCxn id="234" idx="2"/>
            </p:cNvCxnSpPr>
            <p:nvPr/>
          </p:nvCxnSpPr>
          <p:spPr>
            <a:xfrm flipV="1">
              <a:off x="5489280" y="2596680"/>
              <a:ext cx="594360" cy="24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>
              <a:stCxn id="214" idx="6"/>
              <a:endCxn id="235" idx="2"/>
            </p:cNvCxnSpPr>
            <p:nvPr/>
          </p:nvCxnSpPr>
          <p:spPr>
            <a:xfrm>
              <a:off x="5489280" y="2836800"/>
              <a:ext cx="594360" cy="23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4" idx="6"/>
              <a:endCxn id="236" idx="2"/>
            </p:cNvCxnSpPr>
            <p:nvPr/>
          </p:nvCxnSpPr>
          <p:spPr>
            <a:xfrm>
              <a:off x="5489280" y="2836800"/>
              <a:ext cx="594360" cy="251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5" name=""/>
            <p:cNvSpPr/>
            <p:nvPr/>
          </p:nvSpPr>
          <p:spPr>
            <a:xfrm>
              <a:off x="1406520" y="2981160"/>
              <a:ext cx="3240" cy="4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33" idx="6"/>
              <a:endCxn id="257" idx="1"/>
            </p:cNvCxnSpPr>
            <p:nvPr/>
          </p:nvCxnSpPr>
          <p:spPr>
            <a:xfrm>
              <a:off x="6438960" y="2125800"/>
              <a:ext cx="621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8" name=""/>
            <p:cNvCxnSpPr>
              <a:stCxn id="234" idx="6"/>
              <a:endCxn id="259" idx="1"/>
            </p:cNvCxnSpPr>
            <p:nvPr/>
          </p:nvCxnSpPr>
          <p:spPr>
            <a:xfrm>
              <a:off x="6436800" y="2596680"/>
              <a:ext cx="62316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35" idx="6"/>
              <a:endCxn id="261" idx="1"/>
            </p:cNvCxnSpPr>
            <p:nvPr/>
          </p:nvCxnSpPr>
          <p:spPr>
            <a:xfrm>
              <a:off x="6436800" y="3069720"/>
              <a:ext cx="62316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36" idx="6"/>
              <a:endCxn id="263" idx="1"/>
            </p:cNvCxnSpPr>
            <p:nvPr/>
          </p:nvCxnSpPr>
          <p:spPr>
            <a:xfrm flipV="1">
              <a:off x="6436800" y="5352840"/>
              <a:ext cx="623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7" name=""/>
            <p:cNvSpPr/>
            <p:nvPr/>
          </p:nvSpPr>
          <p:spPr>
            <a:xfrm>
              <a:off x="7059600" y="2011320"/>
              <a:ext cx="1211400" cy="22860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 t+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59600" y="2955960"/>
              <a:ext cx="1211400" cy="23184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 t+3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9600" y="2482920"/>
              <a:ext cx="1211400" cy="23004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 t+2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59600" y="5237280"/>
              <a:ext cx="1211400" cy="23148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 t+14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8265600" y="1920960"/>
              <a:ext cx="287640" cy="36129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22680 h 3612960"/>
                <a:gd name="textAreaBottom" fmla="*/ 3590280 h 36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0"/>
                    <a:pt x="10800" y="440"/>
                  </a:cubicBezTo>
                  <a:lnTo>
                    <a:pt x="10800" y="10360"/>
                  </a:lnTo>
                  <a:cubicBezTo>
                    <a:pt x="10800" y="10580"/>
                    <a:pt x="5400" y="10800"/>
                    <a:pt x="0" y="10800"/>
                  </a:cubicBezTo>
                  <a:cubicBezTo>
                    <a:pt x="5400" y="10800"/>
                    <a:pt x="10800" y="11020"/>
                    <a:pt x="10800" y="11240"/>
                  </a:cubicBezTo>
                  <a:lnTo>
                    <a:pt x="10800" y="21160"/>
                  </a:lnTo>
                  <a:cubicBezTo>
                    <a:pt x="10800" y="2138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07600" y="3589200"/>
              <a:ext cx="2854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33"/>
                  </a:solidFill>
                  <a:latin typeface="Times New Roman"/>
                </a:rPr>
                <a:t>W</a:t>
              </a:r>
              <a:r>
                <a:rPr b="1" lang="en-US" sz="18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66" name=""/>
            <p:cNvCxnSpPr/>
            <p:nvPr/>
          </p:nvCxnSpPr>
          <p:spPr>
            <a:xfrm flipH="1">
              <a:off x="2014200" y="5579640"/>
              <a:ext cx="152136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797040" y="4538520"/>
              <a:ext cx="1211040" cy="23040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Month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7040" y="4179960"/>
              <a:ext cx="1211040" cy="23004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Day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480" y="1905120"/>
              <a:ext cx="1211400" cy="23148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480" y="2281320"/>
              <a:ext cx="1211400" cy="23184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ru-RU" sz="1000" spc="-1" strike="noStrike" baseline="-25000">
                  <a:solidFill>
                    <a:srgbClr val="333333"/>
                  </a:solidFill>
                  <a:latin typeface="Courier New"/>
                </a:rPr>
                <a:t>t+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480" y="2660760"/>
              <a:ext cx="1211400" cy="23004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en-US" sz="1000" spc="-1" strike="noStrike" baseline="-25000">
                  <a:solidFill>
                    <a:srgbClr val="333333"/>
                  </a:solidFill>
                  <a:latin typeface="Courier New"/>
                </a:rPr>
                <a:t>t+2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7040" y="3449520"/>
              <a:ext cx="1211040" cy="23040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Courier New"/>
                </a:rPr>
                <a:t>Quantity</a:t>
              </a:r>
              <a:r>
                <a:rPr b="1" lang="en-US" sz="1000" spc="-1" strike="noStrike" baseline="-25000">
                  <a:solidFill>
                    <a:srgbClr val="333333"/>
                  </a:solidFill>
                  <a:latin typeface="Courier New"/>
                </a:rPr>
                <a:t>t+13∆t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400" y="1811160"/>
              <a:ext cx="241560" cy="1952640"/>
            </a:xfrm>
            <a:custGeom>
              <a:avLst/>
              <a:gdLst>
                <a:gd name="textAreaLeft" fmla="*/ 154440 w 241560"/>
                <a:gd name="textAreaRight" fmla="*/ 241920 w 241560"/>
                <a:gd name="textAreaTop" fmla="*/ 24840 h 1952640"/>
                <a:gd name="textAreaBottom" fmla="*/ 1927800 h 19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42"/>
                    <a:pt x="10800" y="884"/>
                  </a:cubicBezTo>
                  <a:lnTo>
                    <a:pt x="10800" y="9916"/>
                  </a:lnTo>
                  <a:cubicBezTo>
                    <a:pt x="10800" y="10358"/>
                    <a:pt x="5400" y="10800"/>
                    <a:pt x="0" y="10800"/>
                  </a:cubicBezTo>
                  <a:cubicBezTo>
                    <a:pt x="5400" y="10800"/>
                    <a:pt x="10800" y="11242"/>
                    <a:pt x="10800" y="11684"/>
                  </a:cubicBezTo>
                  <a:lnTo>
                    <a:pt x="10800" y="20716"/>
                  </a:lnTo>
                  <a:cubicBezTo>
                    <a:pt x="10800" y="2115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0920" y="2620800"/>
              <a:ext cx="284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33"/>
                  </a:solidFill>
                  <a:latin typeface="Times New Roman"/>
                </a:rPr>
                <a:t>W</a:t>
              </a:r>
              <a:r>
                <a:rPr b="1" i="1" lang="ru-RU" sz="1800" spc="-1" strike="noStrike" baseline="-25000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1276200" y="5628960"/>
              <a:ext cx="1211400" cy="243000"/>
            </a:xfrm>
            <a:prstGeom prst="flowChartTermina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Courier New"/>
                </a:rPr>
                <a:t>I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360" y="5365800"/>
              <a:ext cx="9334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Двоичный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код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0 –  -0,5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Times New Roman"/>
                </a:rPr>
                <a:t>1 –  +0,5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69" idx="2"/>
            </p:cNvCxnSpPr>
            <p:nvPr/>
          </p:nvCxnSpPr>
          <p:spPr>
            <a:xfrm>
              <a:off x="2017440" y="5753160"/>
              <a:ext cx="171180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/>
            <p:nvPr/>
          </p:nvCxnSpPr>
          <p:spPr>
            <a:xfrm>
              <a:off x="2014200" y="5397480"/>
              <a:ext cx="1338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 flipH="1">
              <a:off x="7664040" y="3619440"/>
              <a:ext cx="1800" cy="12812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ервый этап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13000"/>
            <a:ext cx="84960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борка необходимых данных и исторических сведений из БД посредством языка запросов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QL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пределение минимального и максимального значения прогнозируемой переменн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пределяется горизонт прогнозирования (по умолчанию ½ срока хранения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ходя из п.2 проводится нормализация данных, необходимых для обучения се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здается в памяти объект обработк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нные, необходимые для обработки, передаются в созданный объек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торой этап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170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413000"/>
            <a:ext cx="828036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создается экземпляр нейронной се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водится процедура обучения се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атрица значений весов сохраняется в файл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остроится прогноз в единичном базисе с необходимым горизонто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значения переменной прогнозирования в единичном базисе за весь период прогноза суммируются (будущий объем продаж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63600" indent="-3636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результаты прогноза возвращаются в вызывающую процедуру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Третий этап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1341360"/>
            <a:ext cx="8496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водится обратное шкалирование выходных данных сети в естественный диапазон значений переменной прогнозирова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 каждого объема будущих продаж вычитается величина остатков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лученное количество округляется в меньшую сторону до целого числа тарных мест минимальной заводской упаковк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пределяется среднее значение наценки по каждому пункту номенклатур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числяется произведение значений, полученных в п.3 и 4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ходя из величины значения полученного в п.5 произведения, кортежи таблицы сортируются по убыванию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аблица с отсортированными кортежами сохраняется в БД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Aft>
                <a:spcPts val="751"/>
              </a:spcAft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зультаты в предусмотренной форме отчета предоставляются ЛПР для дальнейшего принятия ре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Разработка программного продукта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557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Исходя из содержания теоретической части, описывающей алгоритм прогнозирования с применением НС, её функционирования и обучения, весь процесс был и запрограммирован в терминах и операциях матричной алгебры с применением объектно-ориентированного (ОО) подход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Иерархия классов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65360" y="1713960"/>
            <a:ext cx="7551360" cy="3720960"/>
            <a:chOff x="765360" y="1713960"/>
            <a:chExt cx="7551360" cy="3720960"/>
          </a:xfrm>
        </p:grpSpPr>
        <p:grpSp>
          <p:nvGrpSpPr>
            <p:cNvPr id="285" name=""/>
            <p:cNvGrpSpPr/>
            <p:nvPr/>
          </p:nvGrpSpPr>
          <p:grpSpPr>
            <a:xfrm>
              <a:off x="765360" y="1713960"/>
              <a:ext cx="7551360" cy="3720960"/>
              <a:chOff x="765360" y="1713960"/>
              <a:chExt cx="7551360" cy="3720960"/>
            </a:xfrm>
          </p:grpSpPr>
          <p:sp>
            <p:nvSpPr>
              <p:cNvPr id="286" name=""/>
              <p:cNvSpPr/>
              <p:nvPr/>
            </p:nvSpPr>
            <p:spPr>
              <a:xfrm>
                <a:off x="3992400" y="4953600"/>
                <a:ext cx="2165760" cy="4813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NeuralNetBP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92400" y="2666880"/>
                <a:ext cx="2165760" cy="4798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LayerFF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0960" y="1713960"/>
                <a:ext cx="2165760" cy="47880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NeuralNet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1400" y="1713960"/>
                <a:ext cx="2167200" cy="4777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Neur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92400" y="3619800"/>
                <a:ext cx="2165760" cy="4813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LayerBP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11400" y="3619800"/>
                <a:ext cx="2167200" cy="480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NeuronBP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3560" y="2666880"/>
                <a:ext cx="2165760" cy="47880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7800" bIns="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33"/>
                    </a:solidFill>
                    <a:latin typeface="Courier New"/>
                  </a:rPr>
                  <a:t>TNeuronFF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cxnSp>
            <p:nvCxnSpPr>
              <p:cNvPr id="293" name=""/>
              <p:cNvCxnSpPr>
                <a:stCxn id="289" idx="2"/>
                <a:endCxn id="292" idx="0"/>
              </p:cNvCxnSpPr>
              <p:nvPr/>
            </p:nvCxnSpPr>
            <p:spPr>
              <a:xfrm>
                <a:off x="2294640" y="2206440"/>
                <a:ext cx="3240" cy="44532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94" name=""/>
              <p:cNvCxnSpPr>
                <a:stCxn id="292" idx="2"/>
                <a:endCxn id="291" idx="0"/>
              </p:cNvCxnSpPr>
              <p:nvPr/>
            </p:nvCxnSpPr>
            <p:spPr>
              <a:xfrm flipH="1">
                <a:off x="2294280" y="3160800"/>
                <a:ext cx="3240" cy="4438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95" name=""/>
              <p:cNvCxnSpPr>
                <a:stCxn id="292" idx="3"/>
                <a:endCxn id="287" idx="1"/>
              </p:cNvCxnSpPr>
              <p:nvPr/>
            </p:nvCxnSpPr>
            <p:spPr>
              <a:xfrm>
                <a:off x="3395160" y="2905920"/>
                <a:ext cx="582480" cy="180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91" idx="3"/>
                <a:endCxn id="290" idx="1"/>
              </p:cNvCxnSpPr>
              <p:nvPr/>
            </p:nvCxnSpPr>
            <p:spPr>
              <a:xfrm>
                <a:off x="3393720" y="3860280"/>
                <a:ext cx="583560" cy="180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>
                <a:stCxn id="287" idx="2"/>
                <a:endCxn id="290" idx="0"/>
              </p:cNvCxnSpPr>
              <p:nvPr/>
            </p:nvCxnSpPr>
            <p:spPr>
              <a:xfrm>
                <a:off x="5075640" y="3161880"/>
                <a:ext cx="1800" cy="44244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98" name=""/>
              <p:cNvCxnSpPr>
                <a:stCxn id="290" idx="2"/>
                <a:endCxn id="286" idx="0"/>
              </p:cNvCxnSpPr>
              <p:nvPr/>
            </p:nvCxnSpPr>
            <p:spPr>
              <a:xfrm>
                <a:off x="5075640" y="4116600"/>
                <a:ext cx="1800" cy="82224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299" name=""/>
              <p:cNvCxnSpPr>
                <a:stCxn id="288" idx="2"/>
                <a:endCxn id="286" idx="3"/>
              </p:cNvCxnSpPr>
              <p:nvPr/>
            </p:nvCxnSpPr>
            <p:spPr>
              <a:xfrm rot="5400000">
                <a:off x="5210280" y="3170520"/>
                <a:ext cx="2986920" cy="1061640"/>
              </a:xfrm>
              <a:prstGeom prst="bentConnector2">
                <a:avLst/>
              </a:prstGeom>
              <a:ln w="50760">
                <a:solidFill>
                  <a:srgbClr val="000000"/>
                </a:solidFill>
                <a:prstDash val="dash"/>
                <a:miter/>
              </a:ln>
            </p:spPr>
          </p:cxnSp>
          <p:grpSp>
            <p:nvGrpSpPr>
              <p:cNvPr id="300" name=""/>
              <p:cNvGrpSpPr/>
              <p:nvPr/>
            </p:nvGrpSpPr>
            <p:grpSpPr>
              <a:xfrm>
                <a:off x="765360" y="4572720"/>
                <a:ext cx="2662560" cy="686160"/>
                <a:chOff x="765360" y="4572720"/>
                <a:chExt cx="2662560" cy="68616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765720" y="4572720"/>
                  <a:ext cx="2412000" cy="305640"/>
                  <a:chOff x="765720" y="4572720"/>
                  <a:chExt cx="2412000" cy="305640"/>
                </a:xfrm>
              </p:grpSpPr>
              <p:cxnSp>
                <p:nvCxnSpPr>
                  <p:cNvPr id="302" name=""/>
                  <p:cNvCxnSpPr>
                    <a:endCxn id="303" idx="1"/>
                  </p:cNvCxnSpPr>
                  <p:nvPr/>
                </p:nvCxnSpPr>
                <p:spPr>
                  <a:xfrm>
                    <a:off x="765720" y="4723920"/>
                    <a:ext cx="762480" cy="3600"/>
                  </a:xfrm>
                  <a:prstGeom prst="straightConnector1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303" name=""/>
                  <p:cNvSpPr/>
                  <p:nvPr/>
                </p:nvSpPr>
                <p:spPr>
                  <a:xfrm>
                    <a:off x="1527480" y="4572720"/>
                    <a:ext cx="165024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988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333333"/>
                        </a:solidFill>
                        <a:latin typeface="Courier New"/>
                      </a:rPr>
                      <a:t>вхождение</a:t>
                    </a:r>
                    <a:endParaRPr b="0" lang="en-US" sz="18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65360" y="4953240"/>
                  <a:ext cx="2662560" cy="305640"/>
                  <a:chOff x="765360" y="4953240"/>
                  <a:chExt cx="2662560" cy="305640"/>
                </a:xfrm>
              </p:grpSpPr>
              <p:cxnSp>
                <p:nvCxnSpPr>
                  <p:cNvPr id="305" name=""/>
                  <p:cNvCxnSpPr>
                    <a:endCxn id="306" idx="1"/>
                  </p:cNvCxnSpPr>
                  <p:nvPr/>
                </p:nvCxnSpPr>
                <p:spPr>
                  <a:xfrm>
                    <a:off x="765360" y="5104440"/>
                    <a:ext cx="761400" cy="2160"/>
                  </a:xfrm>
                  <a:prstGeom prst="straightConnector1">
                    <a:avLst/>
                  </a:prstGeom>
                  <a:ln w="50760">
                    <a:solidFill>
                      <a:srgbClr val="000000"/>
                    </a:solidFill>
                    <a:prstDash val="dash"/>
                    <a:miter/>
                  </a:ln>
                </p:spPr>
              </p:cxnSp>
              <p:sp>
                <p:nvSpPr>
                  <p:cNvPr id="306" name=""/>
                  <p:cNvSpPr/>
                  <p:nvPr/>
                </p:nvSpPr>
                <p:spPr>
                  <a:xfrm>
                    <a:off x="1526400" y="4953240"/>
                    <a:ext cx="1901520" cy="3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2988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333333"/>
                        </a:solidFill>
                        <a:latin typeface="Courier New"/>
                      </a:rPr>
                      <a:t>наследование</a:t>
                    </a:r>
                    <a:endParaRPr b="0" lang="en-US" sz="18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боснование целесообразности разработ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7002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Результаты работы носят прикладной характер и основанием для ее выполнения послужил целевой заказ на разработку системы прогнозирования и поддержки процесса принятия решений в частном предприятии оптово-розничной торговли, специализирующегося на рынке фармацевтических препарат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Результаты тестирования системы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rcRect l="540" t="1672" r="1080" b="6689"/>
          <a:stretch/>
        </p:blipFill>
        <p:spPr>
          <a:xfrm>
            <a:off x="611280" y="1197000"/>
            <a:ext cx="7932600" cy="2127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rcRect l="540" t="1680" r="1080" b="6719"/>
          <a:stretch/>
        </p:blipFill>
        <p:spPr>
          <a:xfrm>
            <a:off x="611280" y="3716280"/>
            <a:ext cx="7932600" cy="215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616572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сновные элементы интерфейса пользователя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6912000" cy="5085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55640" y="616572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2b"/>
                </a:solidFill>
                <a:latin typeface="Times New Roman"/>
              </a:rPr>
              <a:t>Главное окно программы и экранная форма вызова внешнего отчета</a:t>
            </a:r>
            <a:r>
              <a:rPr b="0" lang="en-US" sz="18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сновные элементы интерфейса пользователя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4653000"/>
            <a:ext cx="575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2b"/>
                </a:solidFill>
                <a:latin typeface="Times New Roman"/>
              </a:rPr>
              <a:t>Основная экранная форма с элементами настройки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244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сновные элементы интерфейса пользователя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68360" y="5445000"/>
            <a:ext cx="489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2b"/>
                </a:solidFill>
                <a:latin typeface="Times New Roman"/>
              </a:rPr>
              <a:t>Унифицированная форма внешнего отчет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569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Экономическая часть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1484280"/>
            <a:ext cx="8496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6400" indent="-361800" algn="just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 экономической части дипломного работы используются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806400" indent="-3618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элементы бизнес-плана, включающие расчеты по определению емкости рынка, его сегментации по параметрам, потребителям, ценовому фактору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806400" indent="-3618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оставление сметы затрат на разработку программного продукта, его тиражирование и сбыт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806400" indent="-3618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расчет договорной цены и чистого дох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806400" indent="-3618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остроение графика безубыточности по расчетным данны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4920" y="3049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График достижения безубыточно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73760" y="1330200"/>
            <a:ext cx="8202960" cy="4538160"/>
            <a:chOff x="473760" y="1330200"/>
            <a:chExt cx="8202960" cy="4538160"/>
          </a:xfrm>
        </p:grpSpPr>
        <p:sp>
          <p:nvSpPr>
            <p:cNvPr id="324" name=""/>
            <p:cNvSpPr/>
            <p:nvPr/>
          </p:nvSpPr>
          <p:spPr>
            <a:xfrm>
              <a:off x="1397160" y="384480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97160" y="4175280"/>
              <a:ext cx="16668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97160" y="3506760"/>
              <a:ext cx="16668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62200" y="4103640"/>
              <a:ext cx="871560" cy="33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480" y="3600360"/>
              <a:ext cx="1284120" cy="506520"/>
            </a:xfrm>
            <a:custGeom>
              <a:avLst/>
              <a:gdLst/>
              <a:ahLst/>
              <a:rect l="l" t="t" r="r" b="b"/>
              <a:pathLst>
                <a:path w="3237" h="1278">
                  <a:moveTo>
                    <a:pt x="0" y="0"/>
                  </a:moveTo>
                  <a:lnTo>
                    <a:pt x="195" y="77"/>
                  </a:lnTo>
                  <a:lnTo>
                    <a:pt x="391" y="155"/>
                  </a:lnTo>
                  <a:lnTo>
                    <a:pt x="642" y="255"/>
                  </a:lnTo>
                  <a:lnTo>
                    <a:pt x="3237" y="12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86120" y="3952800"/>
              <a:ext cx="1036800" cy="371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76600" y="542916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7">
                  <a:moveTo>
                    <a:pt x="0" y="0"/>
                  </a:moveTo>
                  <a:lnTo>
                    <a:pt x="0" y="202"/>
                  </a:lnTo>
                  <a:lnTo>
                    <a:pt x="0" y="4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9960" y="542124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7160" y="450684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38640" y="5425920"/>
              <a:ext cx="1800" cy="176400"/>
            </a:xfrm>
            <a:custGeom>
              <a:avLst/>
              <a:gdLst/>
              <a:ahLst/>
              <a:rect l="l" t="t" r="r" b="b"/>
              <a:pathLst>
                <a:path w="0" h="445">
                  <a:moveTo>
                    <a:pt x="0" y="0"/>
                  </a:moveTo>
                  <a:lnTo>
                    <a:pt x="0" y="212"/>
                  </a:lnTo>
                  <a:lnTo>
                    <a:pt x="0" y="4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77040" y="5424480"/>
              <a:ext cx="1440" cy="177840"/>
            </a:xfrm>
            <a:custGeom>
              <a:avLst/>
              <a:gdLst/>
              <a:ahLst/>
              <a:rect l="l" t="t" r="r" b="b"/>
              <a:pathLst>
                <a:path w="0" h="445">
                  <a:moveTo>
                    <a:pt x="0" y="445"/>
                  </a:moveTo>
                  <a:lnTo>
                    <a:pt x="0" y="21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11840" y="5429160"/>
              <a:ext cx="1440" cy="17640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0"/>
                  </a:moveTo>
                  <a:lnTo>
                    <a:pt x="0" y="203"/>
                  </a:lnTo>
                  <a:lnTo>
                    <a:pt x="0" y="4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43760" y="5421240"/>
              <a:ext cx="144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80000" y="542124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0"/>
                  </a:moveTo>
                  <a:lnTo>
                    <a:pt x="0" y="223"/>
                  </a:lnTo>
                  <a:lnTo>
                    <a:pt x="0" y="4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10080" y="3462480"/>
              <a:ext cx="1476360" cy="534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32280" y="3246480"/>
              <a:ext cx="1644840" cy="612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11920" y="542124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5124240" y="3049560"/>
              <a:ext cx="1858680" cy="666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375160" y="2877840"/>
              <a:ext cx="2005200" cy="726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643720" y="2696760"/>
              <a:ext cx="1738080" cy="701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003720" y="2453760"/>
              <a:ext cx="1377720" cy="621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267240" y="2276280"/>
              <a:ext cx="1114200" cy="487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97160" y="219852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2120" y="4761000"/>
              <a:ext cx="308160" cy="112680"/>
            </a:xfrm>
            <a:custGeom>
              <a:avLst/>
              <a:gdLst/>
              <a:ahLst/>
              <a:rect l="l" t="t" r="r" b="b"/>
              <a:pathLst>
                <a:path w="778" h="285">
                  <a:moveTo>
                    <a:pt x="0" y="0"/>
                  </a:moveTo>
                  <a:lnTo>
                    <a:pt x="47" y="16"/>
                  </a:lnTo>
                  <a:lnTo>
                    <a:pt x="778" y="28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97160" y="190332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283680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97160" y="2505240"/>
              <a:ext cx="16668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97160" y="317484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4640" y="4656240"/>
              <a:ext cx="376560" cy="147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60440" y="4968720"/>
              <a:ext cx="147960" cy="34920"/>
            </a:xfrm>
            <a:custGeom>
              <a:avLst/>
              <a:gdLst/>
              <a:ahLst/>
              <a:rect l="l" t="t" r="r" b="b"/>
              <a:pathLst>
                <a:path w="370" h="90">
                  <a:moveTo>
                    <a:pt x="0" y="0"/>
                  </a:moveTo>
                  <a:lnTo>
                    <a:pt x="37" y="10"/>
                  </a:lnTo>
                  <a:lnTo>
                    <a:pt x="370" y="9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047840" y="3774960"/>
              <a:ext cx="1184040" cy="433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08400" y="4867200"/>
              <a:ext cx="217440" cy="76320"/>
            </a:xfrm>
            <a:custGeom>
              <a:avLst/>
              <a:gdLst/>
              <a:ahLst/>
              <a:rect l="l" t="t" r="r" b="b"/>
              <a:pathLst>
                <a:path w="550" h="189">
                  <a:moveTo>
                    <a:pt x="0" y="0"/>
                  </a:moveTo>
                  <a:lnTo>
                    <a:pt x="40" y="13"/>
                  </a:lnTo>
                  <a:lnTo>
                    <a:pt x="550" y="18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97160" y="4849920"/>
              <a:ext cx="16668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420" y="0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95360" y="5173560"/>
              <a:ext cx="1666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214" y="0"/>
                  </a:lnTo>
                  <a:lnTo>
                    <a:pt x="42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5480" y="4701960"/>
              <a:ext cx="52560" cy="314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30240" y="542772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0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6880" y="4525920"/>
              <a:ext cx="477720" cy="19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336840" y="4255920"/>
              <a:ext cx="720720" cy="28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41800" y="5424480"/>
              <a:ext cx="1440" cy="17640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5200" y="5419800"/>
              <a:ext cx="1800" cy="177840"/>
            </a:xfrm>
            <a:custGeom>
              <a:avLst/>
              <a:gdLst/>
              <a:ahLst/>
              <a:rect l="l" t="t" r="r" b="b"/>
              <a:pathLst>
                <a:path w="0" h="445">
                  <a:moveTo>
                    <a:pt x="0" y="0"/>
                  </a:moveTo>
                  <a:lnTo>
                    <a:pt x="0" y="226"/>
                  </a:lnTo>
                  <a:lnTo>
                    <a:pt x="0" y="4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52800" y="5424480"/>
              <a:ext cx="1440" cy="17640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0"/>
                  </a:moveTo>
                  <a:lnTo>
                    <a:pt x="0" y="216"/>
                  </a:lnTo>
                  <a:lnTo>
                    <a:pt x="0" y="4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27320" y="4398840"/>
              <a:ext cx="57456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41720" y="5427720"/>
              <a:ext cx="144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0"/>
                  </a:moveTo>
                  <a:lnTo>
                    <a:pt x="0" y="207"/>
                  </a:lnTo>
                  <a:lnTo>
                    <a:pt x="0" y="4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03680" y="5435640"/>
              <a:ext cx="1440" cy="177840"/>
            </a:xfrm>
            <a:custGeom>
              <a:avLst/>
              <a:gdLst/>
              <a:ahLst/>
              <a:rect l="l" t="t" r="r" b="b"/>
              <a:pathLst>
                <a:path w="0" h="447">
                  <a:moveTo>
                    <a:pt x="0" y="0"/>
                  </a:moveTo>
                  <a:lnTo>
                    <a:pt x="0" y="186"/>
                  </a:lnTo>
                  <a:lnTo>
                    <a:pt x="0" y="4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75000" y="5432400"/>
              <a:ext cx="1440" cy="17640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19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75080" y="5427720"/>
              <a:ext cx="1440" cy="177840"/>
            </a:xfrm>
            <a:custGeom>
              <a:avLst/>
              <a:gdLst/>
              <a:ahLst/>
              <a:rect l="l" t="t" r="r" b="b"/>
              <a:pathLst>
                <a:path w="0" h="446">
                  <a:moveTo>
                    <a:pt x="0" y="446"/>
                  </a:moveTo>
                  <a:lnTo>
                    <a:pt x="0" y="20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79600" y="5510160"/>
              <a:ext cx="5832360" cy="1800"/>
            </a:xfrm>
            <a:custGeom>
              <a:avLst/>
              <a:gdLst/>
              <a:ahLst/>
              <a:rect l="l" t="t" r="r" b="b"/>
              <a:pathLst>
                <a:path w="14692" h="0">
                  <a:moveTo>
                    <a:pt x="14692" y="0"/>
                  </a:moveTo>
                  <a:lnTo>
                    <a:pt x="13435" y="0"/>
                  </a:lnTo>
                  <a:lnTo>
                    <a:pt x="12598" y="0"/>
                  </a:lnTo>
                  <a:lnTo>
                    <a:pt x="11749" y="0"/>
                  </a:lnTo>
                  <a:lnTo>
                    <a:pt x="10912" y="0"/>
                  </a:lnTo>
                  <a:lnTo>
                    <a:pt x="10071" y="0"/>
                  </a:lnTo>
                  <a:lnTo>
                    <a:pt x="9220" y="0"/>
                  </a:lnTo>
                  <a:lnTo>
                    <a:pt x="8390" y="0"/>
                  </a:lnTo>
                  <a:lnTo>
                    <a:pt x="7550" y="0"/>
                  </a:lnTo>
                  <a:lnTo>
                    <a:pt x="6707" y="0"/>
                  </a:lnTo>
                  <a:lnTo>
                    <a:pt x="5856" y="0"/>
                  </a:lnTo>
                  <a:lnTo>
                    <a:pt x="5026" y="0"/>
                  </a:lnTo>
                  <a:lnTo>
                    <a:pt x="4186" y="0"/>
                  </a:lnTo>
                  <a:lnTo>
                    <a:pt x="3335" y="0"/>
                  </a:lnTo>
                  <a:lnTo>
                    <a:pt x="2505" y="0"/>
                  </a:lnTo>
                  <a:lnTo>
                    <a:pt x="1694" y="0"/>
                  </a:lnTo>
                  <a:lnTo>
                    <a:pt x="1564" y="0"/>
                  </a:lnTo>
                  <a:lnTo>
                    <a:pt x="88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9600" y="1390680"/>
              <a:ext cx="1440" cy="4119480"/>
            </a:xfrm>
            <a:custGeom>
              <a:avLst/>
              <a:gdLst/>
              <a:ahLst/>
              <a:rect l="l" t="t" r="r" b="b"/>
              <a:pathLst>
                <a:path w="0" h="10379">
                  <a:moveTo>
                    <a:pt x="0" y="0"/>
                  </a:moveTo>
                  <a:lnTo>
                    <a:pt x="0" y="1294"/>
                  </a:lnTo>
                  <a:lnTo>
                    <a:pt x="0" y="2038"/>
                  </a:lnTo>
                  <a:lnTo>
                    <a:pt x="0" y="2807"/>
                  </a:lnTo>
                  <a:lnTo>
                    <a:pt x="0" y="3645"/>
                  </a:lnTo>
                  <a:lnTo>
                    <a:pt x="0" y="4496"/>
                  </a:lnTo>
                  <a:lnTo>
                    <a:pt x="0" y="5332"/>
                  </a:lnTo>
                  <a:lnTo>
                    <a:pt x="0" y="6183"/>
                  </a:lnTo>
                  <a:lnTo>
                    <a:pt x="0" y="7016"/>
                  </a:lnTo>
                  <a:lnTo>
                    <a:pt x="0" y="7854"/>
                  </a:lnTo>
                  <a:lnTo>
                    <a:pt x="0" y="8715"/>
                  </a:lnTo>
                  <a:lnTo>
                    <a:pt x="0" y="9532"/>
                  </a:lnTo>
                  <a:lnTo>
                    <a:pt x="0" y="9868"/>
                  </a:lnTo>
                  <a:lnTo>
                    <a:pt x="0" y="1037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314000" y="5510160"/>
              <a:ext cx="1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479600" y="5509800"/>
              <a:ext cx="14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0160" y="5011560"/>
              <a:ext cx="158760" cy="157320"/>
            </a:xfrm>
            <a:custGeom>
              <a:avLst/>
              <a:gdLst/>
              <a:ahLst/>
              <a:rect l="l" t="t" r="r" b="b"/>
              <a:pathLst>
                <a:path w="399" h="400">
                  <a:moveTo>
                    <a:pt x="122" y="15"/>
                  </a:moveTo>
                  <a:lnTo>
                    <a:pt x="104" y="22"/>
                  </a:lnTo>
                  <a:lnTo>
                    <a:pt x="88" y="32"/>
                  </a:lnTo>
                  <a:lnTo>
                    <a:pt x="71" y="43"/>
                  </a:lnTo>
                  <a:lnTo>
                    <a:pt x="57" y="58"/>
                  </a:lnTo>
                  <a:lnTo>
                    <a:pt x="43" y="72"/>
                  </a:lnTo>
                  <a:lnTo>
                    <a:pt x="32" y="88"/>
                  </a:lnTo>
                  <a:lnTo>
                    <a:pt x="21" y="104"/>
                  </a:lnTo>
                  <a:lnTo>
                    <a:pt x="14" y="123"/>
                  </a:lnTo>
                  <a:lnTo>
                    <a:pt x="7" y="140"/>
                  </a:lnTo>
                  <a:lnTo>
                    <a:pt x="3" y="159"/>
                  </a:lnTo>
                  <a:lnTo>
                    <a:pt x="0" y="179"/>
                  </a:lnTo>
                  <a:lnTo>
                    <a:pt x="0" y="200"/>
                  </a:lnTo>
                  <a:lnTo>
                    <a:pt x="3" y="235"/>
                  </a:lnTo>
                  <a:lnTo>
                    <a:pt x="6" y="251"/>
                  </a:lnTo>
                  <a:lnTo>
                    <a:pt x="12" y="268"/>
                  </a:lnTo>
                  <a:lnTo>
                    <a:pt x="19" y="286"/>
                  </a:lnTo>
                  <a:lnTo>
                    <a:pt x="29" y="304"/>
                  </a:lnTo>
                  <a:lnTo>
                    <a:pt x="40" y="320"/>
                  </a:lnTo>
                  <a:lnTo>
                    <a:pt x="54" y="337"/>
                  </a:lnTo>
                  <a:lnTo>
                    <a:pt x="55" y="338"/>
                  </a:lnTo>
                  <a:lnTo>
                    <a:pt x="57" y="340"/>
                  </a:lnTo>
                  <a:lnTo>
                    <a:pt x="71" y="353"/>
                  </a:lnTo>
                  <a:lnTo>
                    <a:pt x="88" y="365"/>
                  </a:lnTo>
                  <a:lnTo>
                    <a:pt x="104" y="375"/>
                  </a:lnTo>
                  <a:lnTo>
                    <a:pt x="122" y="385"/>
                  </a:lnTo>
                  <a:lnTo>
                    <a:pt x="140" y="391"/>
                  </a:lnTo>
                  <a:lnTo>
                    <a:pt x="159" y="396"/>
                  </a:lnTo>
                  <a:lnTo>
                    <a:pt x="178" y="399"/>
                  </a:lnTo>
                  <a:lnTo>
                    <a:pt x="200" y="400"/>
                  </a:lnTo>
                  <a:lnTo>
                    <a:pt x="206" y="399"/>
                  </a:lnTo>
                  <a:lnTo>
                    <a:pt x="213" y="399"/>
                  </a:lnTo>
                  <a:lnTo>
                    <a:pt x="227" y="398"/>
                  </a:lnTo>
                  <a:lnTo>
                    <a:pt x="233" y="396"/>
                  </a:lnTo>
                  <a:lnTo>
                    <a:pt x="233" y="395"/>
                  </a:lnTo>
                  <a:lnTo>
                    <a:pt x="234" y="395"/>
                  </a:lnTo>
                  <a:lnTo>
                    <a:pt x="236" y="395"/>
                  </a:lnTo>
                  <a:lnTo>
                    <a:pt x="240" y="395"/>
                  </a:lnTo>
                  <a:lnTo>
                    <a:pt x="255" y="392"/>
                  </a:lnTo>
                  <a:lnTo>
                    <a:pt x="277" y="383"/>
                  </a:lnTo>
                  <a:lnTo>
                    <a:pt x="287" y="376"/>
                  </a:lnTo>
                  <a:lnTo>
                    <a:pt x="289" y="374"/>
                  </a:lnTo>
                  <a:lnTo>
                    <a:pt x="289" y="373"/>
                  </a:lnTo>
                  <a:lnTo>
                    <a:pt x="290" y="373"/>
                  </a:lnTo>
                  <a:lnTo>
                    <a:pt x="292" y="373"/>
                  </a:lnTo>
                  <a:lnTo>
                    <a:pt x="298" y="371"/>
                  </a:lnTo>
                  <a:lnTo>
                    <a:pt x="319" y="356"/>
                  </a:lnTo>
                  <a:lnTo>
                    <a:pt x="339" y="340"/>
                  </a:lnTo>
                  <a:lnTo>
                    <a:pt x="345" y="332"/>
                  </a:lnTo>
                  <a:lnTo>
                    <a:pt x="348" y="328"/>
                  </a:lnTo>
                  <a:lnTo>
                    <a:pt x="352" y="325"/>
                  </a:lnTo>
                  <a:lnTo>
                    <a:pt x="365" y="309"/>
                  </a:lnTo>
                  <a:lnTo>
                    <a:pt x="375" y="292"/>
                  </a:lnTo>
                  <a:lnTo>
                    <a:pt x="384" y="276"/>
                  </a:lnTo>
                  <a:lnTo>
                    <a:pt x="390" y="257"/>
                  </a:lnTo>
                  <a:lnTo>
                    <a:pt x="395" y="239"/>
                  </a:lnTo>
                  <a:lnTo>
                    <a:pt x="396" y="229"/>
                  </a:lnTo>
                  <a:lnTo>
                    <a:pt x="398" y="220"/>
                  </a:lnTo>
                  <a:lnTo>
                    <a:pt x="398" y="209"/>
                  </a:lnTo>
                  <a:lnTo>
                    <a:pt x="398" y="204"/>
                  </a:lnTo>
                  <a:lnTo>
                    <a:pt x="399" y="200"/>
                  </a:lnTo>
                  <a:lnTo>
                    <a:pt x="398" y="180"/>
                  </a:lnTo>
                  <a:lnTo>
                    <a:pt x="395" y="160"/>
                  </a:lnTo>
                  <a:lnTo>
                    <a:pt x="388" y="137"/>
                  </a:lnTo>
                  <a:lnTo>
                    <a:pt x="381" y="116"/>
                  </a:lnTo>
                  <a:lnTo>
                    <a:pt x="372" y="99"/>
                  </a:lnTo>
                  <a:lnTo>
                    <a:pt x="362" y="85"/>
                  </a:lnTo>
                  <a:lnTo>
                    <a:pt x="351" y="71"/>
                  </a:lnTo>
                  <a:lnTo>
                    <a:pt x="339" y="58"/>
                  </a:lnTo>
                  <a:lnTo>
                    <a:pt x="324" y="43"/>
                  </a:lnTo>
                  <a:lnTo>
                    <a:pt x="309" y="32"/>
                  </a:lnTo>
                  <a:lnTo>
                    <a:pt x="291" y="22"/>
                  </a:lnTo>
                  <a:lnTo>
                    <a:pt x="275" y="15"/>
                  </a:lnTo>
                  <a:lnTo>
                    <a:pt x="257" y="8"/>
                  </a:lnTo>
                  <a:lnTo>
                    <a:pt x="238" y="4"/>
                  </a:lnTo>
                  <a:lnTo>
                    <a:pt x="219" y="0"/>
                  </a:lnTo>
                  <a:lnTo>
                    <a:pt x="200" y="0"/>
                  </a:lnTo>
                  <a:lnTo>
                    <a:pt x="178" y="0"/>
                  </a:lnTo>
                  <a:lnTo>
                    <a:pt x="159" y="4"/>
                  </a:lnTo>
                  <a:lnTo>
                    <a:pt x="140" y="8"/>
                  </a:lnTo>
                  <a:lnTo>
                    <a:pt x="122" y="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9600" y="5307120"/>
              <a:ext cx="5789520" cy="1440"/>
            </a:xfrm>
            <a:custGeom>
              <a:avLst/>
              <a:gdLst/>
              <a:ahLst/>
              <a:rect l="l" t="t" r="r" b="b"/>
              <a:pathLst>
                <a:path w="14588" h="0">
                  <a:moveTo>
                    <a:pt x="14588" y="0"/>
                  </a:moveTo>
                  <a:lnTo>
                    <a:pt x="1814" y="0"/>
                  </a:lnTo>
                  <a:lnTo>
                    <a:pt x="1564" y="0"/>
                  </a:lnTo>
                  <a:lnTo>
                    <a:pt x="756" y="0"/>
                  </a:lnTo>
                  <a:lnTo>
                    <a:pt x="0" y="0"/>
                  </a:lnTo>
                </a:path>
              </a:pathLst>
            </a:custGeom>
            <a:noFill/>
            <a:ln w="42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9600" y="1522440"/>
              <a:ext cx="5902200" cy="3987720"/>
            </a:xfrm>
            <a:custGeom>
              <a:avLst/>
              <a:gdLst/>
              <a:ahLst/>
              <a:rect l="l" t="t" r="r" b="b"/>
              <a:pathLst>
                <a:path w="14872" h="10047">
                  <a:moveTo>
                    <a:pt x="14872" y="0"/>
                  </a:moveTo>
                  <a:lnTo>
                    <a:pt x="12063" y="1898"/>
                  </a:lnTo>
                  <a:lnTo>
                    <a:pt x="11399" y="2348"/>
                  </a:lnTo>
                  <a:lnTo>
                    <a:pt x="10490" y="2961"/>
                  </a:lnTo>
                  <a:lnTo>
                    <a:pt x="9815" y="3418"/>
                  </a:lnTo>
                  <a:lnTo>
                    <a:pt x="9180" y="3847"/>
                  </a:lnTo>
                  <a:lnTo>
                    <a:pt x="8446" y="4343"/>
                  </a:lnTo>
                  <a:lnTo>
                    <a:pt x="7636" y="4889"/>
                  </a:lnTo>
                  <a:lnTo>
                    <a:pt x="7316" y="5106"/>
                  </a:lnTo>
                  <a:lnTo>
                    <a:pt x="7125" y="5235"/>
                  </a:lnTo>
                  <a:lnTo>
                    <a:pt x="6470" y="5677"/>
                  </a:lnTo>
                  <a:lnTo>
                    <a:pt x="5809" y="6123"/>
                  </a:lnTo>
                  <a:lnTo>
                    <a:pt x="5245" y="6504"/>
                  </a:lnTo>
                  <a:lnTo>
                    <a:pt x="4676" y="6889"/>
                  </a:lnTo>
                  <a:lnTo>
                    <a:pt x="4149" y="7247"/>
                  </a:lnTo>
                  <a:lnTo>
                    <a:pt x="3671" y="7568"/>
                  </a:lnTo>
                  <a:lnTo>
                    <a:pt x="3185" y="7896"/>
                  </a:lnTo>
                  <a:lnTo>
                    <a:pt x="2771" y="8176"/>
                  </a:lnTo>
                  <a:lnTo>
                    <a:pt x="2376" y="8442"/>
                  </a:lnTo>
                  <a:lnTo>
                    <a:pt x="2005" y="8692"/>
                  </a:lnTo>
                  <a:lnTo>
                    <a:pt x="1690" y="8906"/>
                  </a:lnTo>
                  <a:lnTo>
                    <a:pt x="1564" y="8990"/>
                  </a:lnTo>
                  <a:lnTo>
                    <a:pt x="1363" y="9127"/>
                  </a:lnTo>
                  <a:lnTo>
                    <a:pt x="756" y="9536"/>
                  </a:lnTo>
                  <a:lnTo>
                    <a:pt x="0" y="10047"/>
                  </a:lnTo>
                </a:path>
              </a:pathLst>
            </a:custGeom>
            <a:noFill/>
            <a:ln w="428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79600" y="3848040"/>
              <a:ext cx="5902200" cy="1662120"/>
            </a:xfrm>
            <a:custGeom>
              <a:avLst/>
              <a:gdLst/>
              <a:ahLst/>
              <a:rect l="l" t="t" r="r" b="b"/>
              <a:pathLst>
                <a:path w="14872" h="4186">
                  <a:moveTo>
                    <a:pt x="14872" y="0"/>
                  </a:moveTo>
                  <a:lnTo>
                    <a:pt x="1814" y="3675"/>
                  </a:lnTo>
                  <a:lnTo>
                    <a:pt x="1564" y="3746"/>
                  </a:lnTo>
                  <a:lnTo>
                    <a:pt x="0" y="4186"/>
                  </a:lnTo>
                </a:path>
              </a:pathLst>
            </a:custGeom>
            <a:noFill/>
            <a:ln w="42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3360" y="3597120"/>
              <a:ext cx="5902200" cy="1662120"/>
            </a:xfrm>
            <a:custGeom>
              <a:avLst/>
              <a:gdLst/>
              <a:ahLst/>
              <a:rect l="l" t="t" r="r" b="b"/>
              <a:pathLst>
                <a:path w="14871" h="4186">
                  <a:moveTo>
                    <a:pt x="14871" y="0"/>
                  </a:moveTo>
                  <a:lnTo>
                    <a:pt x="14807" y="19"/>
                  </a:lnTo>
                  <a:lnTo>
                    <a:pt x="13808" y="299"/>
                  </a:lnTo>
                  <a:lnTo>
                    <a:pt x="12531" y="659"/>
                  </a:lnTo>
                  <a:lnTo>
                    <a:pt x="11296" y="1007"/>
                  </a:lnTo>
                  <a:lnTo>
                    <a:pt x="10304" y="1285"/>
                  </a:lnTo>
                  <a:lnTo>
                    <a:pt x="9395" y="1541"/>
                  </a:lnTo>
                  <a:lnTo>
                    <a:pt x="8363" y="1831"/>
                  </a:lnTo>
                  <a:lnTo>
                    <a:pt x="7384" y="2108"/>
                  </a:lnTo>
                  <a:lnTo>
                    <a:pt x="6435" y="2374"/>
                  </a:lnTo>
                  <a:lnTo>
                    <a:pt x="5539" y="2628"/>
                  </a:lnTo>
                  <a:lnTo>
                    <a:pt x="4816" y="2831"/>
                  </a:lnTo>
                  <a:lnTo>
                    <a:pt x="4077" y="3040"/>
                  </a:lnTo>
                  <a:lnTo>
                    <a:pt x="3444" y="3217"/>
                  </a:lnTo>
                  <a:lnTo>
                    <a:pt x="2828" y="3390"/>
                  </a:lnTo>
                  <a:lnTo>
                    <a:pt x="2280" y="3544"/>
                  </a:lnTo>
                  <a:lnTo>
                    <a:pt x="1646" y="3722"/>
                  </a:lnTo>
                  <a:lnTo>
                    <a:pt x="1506" y="3762"/>
                  </a:lnTo>
                  <a:lnTo>
                    <a:pt x="1263" y="3830"/>
                  </a:lnTo>
                  <a:lnTo>
                    <a:pt x="0" y="4186"/>
                  </a:lnTo>
                </a:path>
              </a:pathLst>
            </a:custGeom>
            <a:noFill/>
            <a:ln w="42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4800" y="3548160"/>
              <a:ext cx="195120" cy="195120"/>
            </a:xfrm>
            <a:custGeom>
              <a:avLst/>
              <a:gdLst/>
              <a:ahLst/>
              <a:rect l="l" t="t" r="r" b="b"/>
              <a:pathLst>
                <a:path w="493" h="492">
                  <a:moveTo>
                    <a:pt x="59" y="86"/>
                  </a:moveTo>
                  <a:lnTo>
                    <a:pt x="38" y="112"/>
                  </a:lnTo>
                  <a:lnTo>
                    <a:pt x="21" y="141"/>
                  </a:lnTo>
                  <a:lnTo>
                    <a:pt x="10" y="173"/>
                  </a:lnTo>
                  <a:lnTo>
                    <a:pt x="4" y="206"/>
                  </a:lnTo>
                  <a:lnTo>
                    <a:pt x="1" y="226"/>
                  </a:lnTo>
                  <a:lnTo>
                    <a:pt x="0" y="246"/>
                  </a:lnTo>
                  <a:lnTo>
                    <a:pt x="1" y="271"/>
                  </a:lnTo>
                  <a:lnTo>
                    <a:pt x="4" y="295"/>
                  </a:lnTo>
                  <a:lnTo>
                    <a:pt x="9" y="317"/>
                  </a:lnTo>
                  <a:lnTo>
                    <a:pt x="17" y="340"/>
                  </a:lnTo>
                  <a:lnTo>
                    <a:pt x="27" y="360"/>
                  </a:lnTo>
                  <a:lnTo>
                    <a:pt x="40" y="382"/>
                  </a:lnTo>
                  <a:lnTo>
                    <a:pt x="55" y="401"/>
                  </a:lnTo>
                  <a:lnTo>
                    <a:pt x="72" y="420"/>
                  </a:lnTo>
                  <a:lnTo>
                    <a:pt x="90" y="436"/>
                  </a:lnTo>
                  <a:lnTo>
                    <a:pt x="109" y="451"/>
                  </a:lnTo>
                  <a:lnTo>
                    <a:pt x="129" y="462"/>
                  </a:lnTo>
                  <a:lnTo>
                    <a:pt x="151" y="473"/>
                  </a:lnTo>
                  <a:lnTo>
                    <a:pt x="172" y="481"/>
                  </a:lnTo>
                  <a:lnTo>
                    <a:pt x="196" y="487"/>
                  </a:lnTo>
                  <a:lnTo>
                    <a:pt x="220" y="490"/>
                  </a:lnTo>
                  <a:lnTo>
                    <a:pt x="246" y="492"/>
                  </a:lnTo>
                  <a:lnTo>
                    <a:pt x="271" y="490"/>
                  </a:lnTo>
                  <a:lnTo>
                    <a:pt x="295" y="487"/>
                  </a:lnTo>
                  <a:lnTo>
                    <a:pt x="318" y="481"/>
                  </a:lnTo>
                  <a:lnTo>
                    <a:pt x="340" y="473"/>
                  </a:lnTo>
                  <a:lnTo>
                    <a:pt x="360" y="462"/>
                  </a:lnTo>
                  <a:lnTo>
                    <a:pt x="371" y="456"/>
                  </a:lnTo>
                  <a:lnTo>
                    <a:pt x="373" y="454"/>
                  </a:lnTo>
                  <a:lnTo>
                    <a:pt x="374" y="453"/>
                  </a:lnTo>
                  <a:lnTo>
                    <a:pt x="376" y="453"/>
                  </a:lnTo>
                  <a:lnTo>
                    <a:pt x="382" y="451"/>
                  </a:lnTo>
                  <a:lnTo>
                    <a:pt x="391" y="443"/>
                  </a:lnTo>
                  <a:lnTo>
                    <a:pt x="401" y="436"/>
                  </a:lnTo>
                  <a:lnTo>
                    <a:pt x="410" y="428"/>
                  </a:lnTo>
                  <a:lnTo>
                    <a:pt x="421" y="420"/>
                  </a:lnTo>
                  <a:lnTo>
                    <a:pt x="437" y="402"/>
                  </a:lnTo>
                  <a:lnTo>
                    <a:pt x="451" y="384"/>
                  </a:lnTo>
                  <a:lnTo>
                    <a:pt x="460" y="367"/>
                  </a:lnTo>
                  <a:lnTo>
                    <a:pt x="468" y="352"/>
                  </a:lnTo>
                  <a:lnTo>
                    <a:pt x="468" y="349"/>
                  </a:lnTo>
                  <a:lnTo>
                    <a:pt x="469" y="347"/>
                  </a:lnTo>
                  <a:lnTo>
                    <a:pt x="471" y="343"/>
                  </a:lnTo>
                  <a:lnTo>
                    <a:pt x="476" y="335"/>
                  </a:lnTo>
                  <a:lnTo>
                    <a:pt x="482" y="318"/>
                  </a:lnTo>
                  <a:lnTo>
                    <a:pt x="486" y="300"/>
                  </a:lnTo>
                  <a:lnTo>
                    <a:pt x="490" y="283"/>
                  </a:lnTo>
                  <a:lnTo>
                    <a:pt x="492" y="264"/>
                  </a:lnTo>
                  <a:lnTo>
                    <a:pt x="493" y="246"/>
                  </a:lnTo>
                  <a:lnTo>
                    <a:pt x="491" y="220"/>
                  </a:lnTo>
                  <a:lnTo>
                    <a:pt x="488" y="195"/>
                  </a:lnTo>
                  <a:lnTo>
                    <a:pt x="482" y="172"/>
                  </a:lnTo>
                  <a:lnTo>
                    <a:pt x="475" y="150"/>
                  </a:lnTo>
                  <a:lnTo>
                    <a:pt x="463" y="128"/>
                  </a:lnTo>
                  <a:lnTo>
                    <a:pt x="451" y="108"/>
                  </a:lnTo>
                  <a:lnTo>
                    <a:pt x="436" y="88"/>
                  </a:lnTo>
                  <a:lnTo>
                    <a:pt x="421" y="71"/>
                  </a:lnTo>
                  <a:lnTo>
                    <a:pt x="401" y="54"/>
                  </a:lnTo>
                  <a:lnTo>
                    <a:pt x="391" y="45"/>
                  </a:lnTo>
                  <a:lnTo>
                    <a:pt x="382" y="39"/>
                  </a:lnTo>
                  <a:lnTo>
                    <a:pt x="360" y="26"/>
                  </a:lnTo>
                  <a:lnTo>
                    <a:pt x="340" y="17"/>
                  </a:lnTo>
                  <a:lnTo>
                    <a:pt x="318" y="9"/>
                  </a:lnTo>
                  <a:lnTo>
                    <a:pt x="295" y="4"/>
                  </a:lnTo>
                  <a:lnTo>
                    <a:pt x="271" y="1"/>
                  </a:lnTo>
                  <a:lnTo>
                    <a:pt x="246" y="0"/>
                  </a:lnTo>
                  <a:lnTo>
                    <a:pt x="220" y="1"/>
                  </a:lnTo>
                  <a:lnTo>
                    <a:pt x="196" y="4"/>
                  </a:lnTo>
                  <a:lnTo>
                    <a:pt x="172" y="9"/>
                  </a:lnTo>
                  <a:lnTo>
                    <a:pt x="151" y="17"/>
                  </a:lnTo>
                  <a:lnTo>
                    <a:pt x="129" y="26"/>
                  </a:lnTo>
                  <a:lnTo>
                    <a:pt x="109" y="39"/>
                  </a:lnTo>
                  <a:lnTo>
                    <a:pt x="90" y="54"/>
                  </a:lnTo>
                  <a:lnTo>
                    <a:pt x="72" y="71"/>
                  </a:lnTo>
                  <a:lnTo>
                    <a:pt x="59" y="86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406400" y="3583080"/>
              <a:ext cx="55800" cy="777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2635200"/>
              <a:ext cx="672840" cy="947880"/>
            </a:xfrm>
            <a:custGeom>
              <a:avLst/>
              <a:gdLst/>
              <a:ahLst/>
              <a:rect l="l" t="t" r="r" b="b"/>
              <a:pathLst>
                <a:path w="1695" h="2390">
                  <a:moveTo>
                    <a:pt x="1695" y="2390"/>
                  </a:moveTo>
                  <a:lnTo>
                    <a:pt x="1636" y="2304"/>
                  </a:lnTo>
                  <a:lnTo>
                    <a:pt x="0" y="0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00240" y="5091120"/>
              <a:ext cx="1440" cy="419040"/>
            </a:xfrm>
            <a:custGeom>
              <a:avLst/>
              <a:gdLst/>
              <a:ahLst/>
              <a:rect l="l" t="t" r="r" b="b"/>
              <a:pathLst>
                <a:path w="0" h="1057">
                  <a:moveTo>
                    <a:pt x="0" y="1057"/>
                  </a:moveTo>
                  <a:lnTo>
                    <a:pt x="0" y="617"/>
                  </a:lnTo>
                  <a:lnTo>
                    <a:pt x="0" y="546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41160" y="55767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4480" y="5584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56520" y="5584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3240" y="5578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79160" y="55864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20320" y="55785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20480" y="55864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88840" y="55911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39240" y="50896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7960" y="47530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2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7960" y="44179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8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5000" y="40831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4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5000" y="37465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30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5000" y="34113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36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5000" y="30765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42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5000" y="27399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48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5000" y="24051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54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83520" y="4521240"/>
              <a:ext cx="2584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ru-RU" sz="1300" spc="-1" strike="noStrike" baseline="-25000">
                  <a:solidFill>
                    <a:srgbClr val="000000"/>
                  </a:solidFill>
                  <a:latin typeface="Times New Roman"/>
                </a:rPr>
                <a:t>без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57200" y="5330880"/>
              <a:ext cx="67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Объем  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5040" y="55166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продаж, 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66920" y="57006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ед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9520" y="13302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Доходы и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3760" y="151452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urier New"/>
                </a:rPr>
                <a:t>затраты, грн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67680" y="5102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З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67040" y="5186520"/>
              <a:ext cx="41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пост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37600" y="3701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З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39480" y="378612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пер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64240" y="334008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</a:rPr>
                <a:t>З</a:t>
              </a:r>
              <a:endParaRPr b="0" lang="en-US" sz="1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59280" y="3409920"/>
              <a:ext cx="41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пост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09280" y="329868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27720" y="340992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40760" y="3325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З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40840" y="340992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пер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6800" y="148284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Доход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55680" y="20955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Зона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67920" y="239220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прибыльности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5000" y="211464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0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0320" y="18273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600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храна труда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1700280"/>
            <a:ext cx="80010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 этой части дипломной работы рассматриваются вопрос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обеспечения необходимых условий тру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техники безопасности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роизводственной санитарии и гигиен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меры пожарной профилактики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Aft>
                <a:spcPts val="1199"/>
              </a:spcAft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осуществляется расчет освещенности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170028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Разработанный программный продукт предназначен для использования в составе учетно-аналитической системы программ «1С: Предприятие 7.7» и может быть применен в качестве СППР при осуществлении хозяйственной деятельности, связанной с ведением оптово-розничной торговл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рименение данной системы при планировании закупок повышает эффективность распределения средств и снижает вероятность финансовых потерь, что, в конечном итоге, выражается в положительном экономическом результат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Обоснование целесообразности разработ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5720" y="1710360"/>
            <a:ext cx="7900920" cy="3956400"/>
            <a:chOff x="765720" y="1710360"/>
            <a:chExt cx="7900920" cy="3956400"/>
          </a:xfrm>
        </p:grpSpPr>
        <p:grpSp>
          <p:nvGrpSpPr>
            <p:cNvPr id="91" name=""/>
            <p:cNvGrpSpPr/>
            <p:nvPr/>
          </p:nvGrpSpPr>
          <p:grpSpPr>
            <a:xfrm>
              <a:off x="765720" y="1710360"/>
              <a:ext cx="7900920" cy="3956400"/>
              <a:chOff x="765720" y="1710360"/>
              <a:chExt cx="7900920" cy="3956400"/>
            </a:xfrm>
          </p:grpSpPr>
          <p:sp>
            <p:nvSpPr>
              <p:cNvPr id="92" name=""/>
              <p:cNvSpPr/>
              <p:nvPr/>
            </p:nvSpPr>
            <p:spPr>
              <a:xfrm>
                <a:off x="6777360" y="1710360"/>
                <a:ext cx="1889280" cy="6962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260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</a:rPr>
                  <a:t>БУХГАЛТЕРИЯ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56440" y="1711800"/>
                <a:ext cx="2898360" cy="694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260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АДМИНИСТРАЦИЯ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0320" y="3156840"/>
                <a:ext cx="2549880" cy="127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060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СКЛАД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90840" y="3156840"/>
                <a:ext cx="1274040" cy="127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2160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</a:rPr>
                  <a:t>ОТДЕЛ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</a:rPr>
                  <a:t>ЗАКУПОК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5720" y="3156840"/>
                <a:ext cx="1275480" cy="127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2160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</a:rPr>
                  <a:t>ОТДЕЛ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Times New Roman"/>
                  </a:rPr>
                  <a:t>ПРОДАЖ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cxnSp>
            <p:nvCxnSpPr>
              <p:cNvPr id="97" name=""/>
              <p:cNvCxnSpPr>
                <a:stCxn id="96" idx="3"/>
                <a:endCxn id="94" idx="1"/>
              </p:cNvCxnSpPr>
              <p:nvPr/>
            </p:nvCxnSpPr>
            <p:spPr>
              <a:xfrm>
                <a:off x="2040840" y="3795120"/>
                <a:ext cx="78948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98" name=""/>
              <p:cNvCxnSpPr>
                <a:stCxn id="95" idx="1"/>
                <a:endCxn id="94" idx="3"/>
              </p:cNvCxnSpPr>
              <p:nvPr/>
            </p:nvCxnSpPr>
            <p:spPr>
              <a:xfrm flipH="1">
                <a:off x="5379840" y="3795120"/>
                <a:ext cx="711360" cy="216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99" name=""/>
              <p:cNvCxnSpPr>
                <a:stCxn id="93" idx="2"/>
                <a:endCxn id="94" idx="0"/>
              </p:cNvCxnSpPr>
              <p:nvPr/>
            </p:nvCxnSpPr>
            <p:spPr>
              <a:xfrm flipH="1">
                <a:off x="4103640" y="2406240"/>
                <a:ext cx="1800" cy="750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00" name=""/>
              <p:cNvCxnSpPr>
                <a:stCxn id="93" idx="2"/>
                <a:endCxn id="96" idx="0"/>
              </p:cNvCxnSpPr>
              <p:nvPr/>
            </p:nvCxnSpPr>
            <p:spPr>
              <a:xfrm flipH="1">
                <a:off x="1403640" y="2406240"/>
                <a:ext cx="2702160" cy="750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01" name=""/>
              <p:cNvCxnSpPr>
                <a:stCxn id="93" idx="2"/>
                <a:endCxn id="95" idx="0"/>
              </p:cNvCxnSpPr>
              <p:nvPr/>
            </p:nvCxnSpPr>
            <p:spPr>
              <a:xfrm>
                <a:off x="4105440" y="2406240"/>
                <a:ext cx="2622240" cy="750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02" name=""/>
              <p:cNvCxnSpPr>
                <a:stCxn id="93" idx="3"/>
                <a:endCxn id="92" idx="1"/>
              </p:cNvCxnSpPr>
              <p:nvPr/>
            </p:nvCxnSpPr>
            <p:spPr>
              <a:xfrm>
                <a:off x="5555160" y="2058840"/>
                <a:ext cx="1222200" cy="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cxnSp>
            <p:nvCxnSpPr>
              <p:cNvPr id="103" name=""/>
              <p:cNvCxnSpPr>
                <a:stCxn id="95" idx="3"/>
                <a:endCxn id="92" idx="2"/>
              </p:cNvCxnSpPr>
              <p:nvPr/>
            </p:nvCxnSpPr>
            <p:spPr>
              <a:xfrm flipV="1">
                <a:off x="7365240" y="2406240"/>
                <a:ext cx="356400" cy="138888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</p:cxnSp>
          <p:sp>
            <p:nvSpPr>
              <p:cNvPr id="104" name=""/>
              <p:cNvSpPr/>
              <p:nvPr/>
            </p:nvSpPr>
            <p:spPr>
              <a:xfrm rot="5400000">
                <a:off x="3064320" y="4675320"/>
                <a:ext cx="831240" cy="399240"/>
              </a:xfrm>
              <a:custGeom>
                <a:avLst/>
                <a:gdLst>
                  <a:gd name="textAreaLeft" fmla="*/ 129600 w 831240"/>
                  <a:gd name="textAreaRight" fmla="*/ 727560 w 831240"/>
                  <a:gd name="textAreaTop" fmla="*/ 99720 h 399240"/>
                  <a:gd name="textAreaBottom" fmla="*/ 299520 h 39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6200000">
                <a:off x="4314240" y="4676400"/>
                <a:ext cx="831240" cy="396360"/>
              </a:xfrm>
              <a:custGeom>
                <a:avLst/>
                <a:gdLst>
                  <a:gd name="textAreaLeft" fmla="*/ 129600 w 831240"/>
                  <a:gd name="textAreaRight" fmla="*/ 727560 w 831240"/>
                  <a:gd name="textAreaTop" fmla="*/ 99000 h 396360"/>
                  <a:gd name="textAreaBottom" fmla="*/ 29736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44840" y="5357160"/>
                <a:ext cx="774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прием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73320" y="5361480"/>
                <a:ext cx="774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отпуск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0000" y="5950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труктура предприят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11280" y="1989000"/>
            <a:ext cx="8097840" cy="3400560"/>
            <a:chOff x="611280" y="1989000"/>
            <a:chExt cx="8097840" cy="3400560"/>
          </a:xfrm>
        </p:grpSpPr>
        <p:sp>
          <p:nvSpPr>
            <p:cNvPr id="111" name=""/>
            <p:cNvSpPr/>
            <p:nvPr/>
          </p:nvSpPr>
          <p:spPr>
            <a:xfrm>
              <a:off x="4786200" y="4941720"/>
              <a:ext cx="20876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горизонт прогнозирования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4960" y="2082960"/>
              <a:ext cx="1101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Количество продаж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99040" y="3192120"/>
              <a:ext cx="1440" cy="14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280" y="4622760"/>
              <a:ext cx="790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11280" y="1989000"/>
              <a:ext cx="1440" cy="26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7440" y="3776760"/>
              <a:ext cx="1365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кривая динамики продаж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3672000"/>
              <a:ext cx="1536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прогнозируемый объем продаж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62560" y="2205000"/>
              <a:ext cx="17272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кривая прогноза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28000" y="4797360"/>
              <a:ext cx="681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время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3156120"/>
              <a:ext cx="33480" cy="44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6280" y="3176640"/>
              <a:ext cx="34920" cy="44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41680" y="3184560"/>
              <a:ext cx="31680" cy="44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6120" y="3156120"/>
              <a:ext cx="33120" cy="457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3192480"/>
              <a:ext cx="31680" cy="460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01840" y="3191040"/>
              <a:ext cx="28440" cy="457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92320" y="3191040"/>
              <a:ext cx="33120" cy="457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38360" y="3092400"/>
              <a:ext cx="32040" cy="460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30560" y="3203640"/>
              <a:ext cx="30240" cy="460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59360" y="3127320"/>
              <a:ext cx="28440" cy="47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8800" y="3127320"/>
              <a:ext cx="33120" cy="47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3071880"/>
              <a:ext cx="33480" cy="44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8200" y="3106800"/>
              <a:ext cx="31680" cy="44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6240" y="3092400"/>
              <a:ext cx="29880" cy="47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09800" y="3156120"/>
              <a:ext cx="33480" cy="457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7040" y="3098880"/>
              <a:ext cx="28440" cy="47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05160" y="3184560"/>
              <a:ext cx="30240" cy="460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36720" y="3092400"/>
              <a:ext cx="4162320" cy="195480"/>
            </a:xfrm>
            <a:custGeom>
              <a:avLst/>
              <a:gdLst/>
              <a:ahLst/>
              <a:rect l="l" t="t" r="r" b="b"/>
              <a:pathLst>
                <a:path w="1680" h="168">
                  <a:moveTo>
                    <a:pt x="0" y="43"/>
                  </a:moveTo>
                  <a:cubicBezTo>
                    <a:pt x="65" y="0"/>
                    <a:pt x="77" y="15"/>
                    <a:pt x="170" y="23"/>
                  </a:cubicBezTo>
                  <a:cubicBezTo>
                    <a:pt x="272" y="57"/>
                    <a:pt x="253" y="61"/>
                    <a:pt x="380" y="73"/>
                  </a:cubicBezTo>
                  <a:cubicBezTo>
                    <a:pt x="521" y="113"/>
                    <a:pt x="515" y="119"/>
                    <a:pt x="740" y="83"/>
                  </a:cubicBezTo>
                  <a:cubicBezTo>
                    <a:pt x="771" y="78"/>
                    <a:pt x="790" y="43"/>
                    <a:pt x="820" y="33"/>
                  </a:cubicBezTo>
                  <a:cubicBezTo>
                    <a:pt x="840" y="26"/>
                    <a:pt x="860" y="20"/>
                    <a:pt x="880" y="13"/>
                  </a:cubicBezTo>
                  <a:cubicBezTo>
                    <a:pt x="890" y="10"/>
                    <a:pt x="910" y="3"/>
                    <a:pt x="910" y="3"/>
                  </a:cubicBezTo>
                  <a:cubicBezTo>
                    <a:pt x="1025" y="32"/>
                    <a:pt x="1144" y="14"/>
                    <a:pt x="1260" y="43"/>
                  </a:cubicBezTo>
                  <a:cubicBezTo>
                    <a:pt x="1293" y="65"/>
                    <a:pt x="1302" y="90"/>
                    <a:pt x="1340" y="103"/>
                  </a:cubicBezTo>
                  <a:cubicBezTo>
                    <a:pt x="1669" y="93"/>
                    <a:pt x="1585" y="168"/>
                    <a:pt x="1680" y="7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11640" y="2954160"/>
              <a:ext cx="2730600" cy="447840"/>
            </a:xfrm>
            <a:custGeom>
              <a:avLst/>
              <a:gdLst/>
              <a:ahLst/>
              <a:rect l="l" t="t" r="r" b="b"/>
              <a:pathLst>
                <a:path w="2000" h="386">
                  <a:moveTo>
                    <a:pt x="0" y="190"/>
                  </a:moveTo>
                  <a:cubicBezTo>
                    <a:pt x="38" y="177"/>
                    <a:pt x="57" y="152"/>
                    <a:pt x="90" y="130"/>
                  </a:cubicBezTo>
                  <a:cubicBezTo>
                    <a:pt x="177" y="0"/>
                    <a:pt x="403" y="102"/>
                    <a:pt x="560" y="110"/>
                  </a:cubicBezTo>
                  <a:cubicBezTo>
                    <a:pt x="640" y="119"/>
                    <a:pt x="720" y="145"/>
                    <a:pt x="800" y="150"/>
                  </a:cubicBezTo>
                  <a:cubicBezTo>
                    <a:pt x="880" y="155"/>
                    <a:pt x="960" y="157"/>
                    <a:pt x="1040" y="160"/>
                  </a:cubicBezTo>
                  <a:cubicBezTo>
                    <a:pt x="1161" y="190"/>
                    <a:pt x="1287" y="188"/>
                    <a:pt x="1410" y="200"/>
                  </a:cubicBezTo>
                  <a:cubicBezTo>
                    <a:pt x="1455" y="211"/>
                    <a:pt x="1494" y="222"/>
                    <a:pt x="1540" y="230"/>
                  </a:cubicBezTo>
                  <a:cubicBezTo>
                    <a:pt x="1696" y="386"/>
                    <a:pt x="1586" y="310"/>
                    <a:pt x="2000" y="31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773840" y="3308400"/>
              <a:ext cx="1800" cy="130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9160" y="3156120"/>
              <a:ext cx="31680" cy="457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785960" y="3231720"/>
              <a:ext cx="48960" cy="45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940360" y="2508120"/>
              <a:ext cx="520560" cy="5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686640" y="4675320"/>
              <a:ext cx="10443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Цель работы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70028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Целью данной дипломной работы является разработка и внедрение на предприятии оптово-розничной торговли фармацевтическими препаратами оригинальной информационной системы поддержки принятия решений, позволяющей повысить эффективности хозяйственной деятельности предприятия путем снижения объема статистического учета, уменьшения издержек товарооборота и рационального использования денежных  ресурсов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остановка задач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14400"/>
            <a:ext cx="8512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сходя из цели данной дипломной работы были поставлены следующие задачи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существить анализ хозяйственной деятельности предприятия оптово-розничной торговли, специализирующегося на продаже фармацевтических препаратов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выявить спецификацию процессов принятия маркетинговых решений на предприятии, их иерархию, взаимосвязь и область приме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пределить проблематику процессов принятия решен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существить обзор существующих технологий и систем, относящихся к данной проблемной област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вести сравнительный анализ и осуществить выбор методов решения поставленной задачи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пределить требования, предъявляемые к систем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разработать логическую структуру системы и алгоритмы обработки данных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1434960" indent="-355320" algn="just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разработать программный продукт и провести тестировани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052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нтерес решения задачи лежит в определении будущих продаж товара. Полагая именно такую направлен­ность и учитывая особенности ведения бухгалтерского учета на предприятии, определены основные принципы решения проблемы проектирования СППР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565360"/>
            <a:ext cx="856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ектируемая система должна осуществлять выявление и интерполяцию скрытых закономерностей потребительского спроса из исторических данных динамики продаж, а также обладать функцией прогноза количества продаж в единичном базисе на период до половины срока годности препарат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на основании прогноза продаж, закупочной цены и с учетом остатка товарного запаса на момент принятия решения система должна предлагать ЛПР наиболее подходящий вариант закупок по количеству и ассортименту, исходя из максимума прибыли предприят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гнозирующая система должна идентифицировать постоянные изменения и подстраивать модель прогнозирования под изменения в процесс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268280"/>
            <a:ext cx="8569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гнозирующая система также не должна реагировать на необычные, экстраординарные наблюд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система должна обладать простым и интуитивно-понятным интерфейсом, быть легкой в эксплуатации и ориентированной на непрограммирующего пользовател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система должна иметь не большой объем и низкую стоимость, а также должна быть совместима с уже используемой учетно-аналитической системой.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Прогнозирование</a:t>
            </a:r>
            <a:r>
              <a:rPr b="0" lang="en-US" sz="3200" spc="-1" strike="noStrike" u="sng">
                <a:solidFill>
                  <a:srgbClr val="004c2b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4c2b"/>
                </a:solidFill>
                <a:uFillTx/>
                <a:latin typeface="Times New Roman"/>
              </a:rPr>
              <a:t>временных ряд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708280"/>
            <a:ext cx="8497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Aft>
                <a:spcPts val="499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будущая динамика временного ряда зависит от его предыстори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499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зависимость временного ряда может со временем меняться, но на некоторых участках она сохраняет определенное постоянство или невысокую скорость изменения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499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огут появляться участки смены закономерности, на которых зависимости сильно изменяютс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499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существуют участки временного ряда, на которых действуют одинаковые или близкие зависимости (история повторяется)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63520" indent="-263520">
              <a:spcAft>
                <a:spcPts val="60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существуют участки временного ряда, для которых существует принципиальная возможность построения предикторов.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41300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Основной парадигмой прогнозирования временных рядов являются фундаментальные предположения о природе временного ряда, в рамках которых применяется та или иная схема прогнозирования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00:13Z</dcterms:created>
  <dc:creator>Fireman</dc:creator>
  <dc:description/>
  <dc:language>en-US</dc:language>
  <cp:lastModifiedBy/>
  <dcterms:modified xsi:type="dcterms:W3CDTF">2005-08-30T09:02:29Z</dcterms:modified>
  <cp:revision>154</cp:revision>
  <dc:subject/>
  <dc:title/>
</cp:coreProperties>
</file>