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17E-5818-433E-A84A-95F9837E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4FB-1677-4F96-B620-D8BA0DB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E30-F4CE-41FA-8B2C-392F6EDD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D34-51E6-4B1A-AB83-48219875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CDCE-EF27-4497-A9F8-89AFB8D7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416-AB6D-48CD-8749-B34582E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716C-0E12-4AAB-BC4F-399E0FA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964C-71D2-4924-850F-C66FE3B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C97D-DE14-4780-B394-B74945A0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15A-A6FA-4100-A080-3CB0993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6232-2042-4B2E-92B4-A0DEFA0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C6E-8231-4B04-800A-16A08EB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A81-D7A8-470B-B468-E1A1868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4426-165F-4F66-AB6E-C0C07EF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D7F-52D5-457A-82CC-3593771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06A-C937-48A0-9FBF-DC09D173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0CB-11D6-4811-AA2A-E186F019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4B7-9E89-4E5B-9A56-2E1D8C0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5A9-11AD-4CA2-A54D-F0A903BF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D5F-C02B-4279-A1D8-4C3E4F4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960-B783-4559-930A-3C7CAC9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9CC-87D3-46BF-A6D3-8DB3BF4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08D-3094-4397-8124-4F16DD6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0E7-895D-4A26-A25D-2613BB8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2032-3C69-43E3-871B-EA51201DCFF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1F21-0E1E-44C8-8812-686A7D31986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100;&#1102;&#1090;&#1086;&#1085;,_&#1048;&#1089;&#1072;&#1072;&#1082;" TargetMode="External"/><Relationship Id="rId2" Type="http://schemas.openxmlformats.org/officeDocument/2006/relationships/hyperlink" Target="http://ru.wikipedia.org/wiki/&#1047;&#1072;&#1082;&#1086;&#1085;_&#1074;&#1089;&#1077;&#1084;&#1080;&#1088;&#1085;&#1086;&#1075;&#1086;_&#1090;&#1103;&#1075;&#1086;&#1090;&#1077;&#1085;&#1080;&#1103;" TargetMode="External"/><Relationship Id="rId3" Type="http://schemas.openxmlformats.org/officeDocument/2006/relationships/hyperlink" Target="http://ru.wikipedia.org/wiki/&#1060;&#1080;&#1079;&#1080;&#1082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lementy.ru/trefil/newton_laws_of_motio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аучная работа по физике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а тему: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Баллистическое движение тел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ыполнили ученики 10 г  класс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ознесенский Дмитр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врилов Артё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енри Кавендиш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5" descr="cavendish"/>
          <p:cNvPicPr/>
          <p:nvPr/>
        </p:nvPicPr>
        <p:blipFill>
          <a:blip r:embed="rId1"/>
          <a:stretch/>
        </p:blipFill>
        <p:spPr>
          <a:xfrm>
            <a:off x="3203640" y="2362320"/>
            <a:ext cx="2960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ыт Г.Кавендиш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52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становление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Ньютоном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закона всемирного тяготен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явилось важнейшим событием в истории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физик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Его значение определяется прежде всего универсальностью гравитационного взаимодействия. На законе всемирного тяготения основывается один из центральных разделов астрономии — небесная механика. Мы ощущаем силу притяжения к Земле, однако притяжение малых тел друг к другу неощутимо. Требовалось экспериментально доказать справедливость закона всемирного тяготения и для обычных тел. Именно это и сделал Г.Кавендиш, попутно определив среднюю плотность Земл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Рисунок 3" descr="http://upload.wikimedia.org/wikipedia/commons/d/de/Torsion_balance.gif"/>
          <p:cNvPicPr/>
          <p:nvPr/>
        </p:nvPicPr>
        <p:blipFill>
          <a:blip r:embed="rId4"/>
          <a:stretch/>
        </p:blipFill>
        <p:spPr>
          <a:xfrm>
            <a:off x="5987880" y="2362320"/>
            <a:ext cx="1527480" cy="2074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G=\frac{3 g} {4 \pi \rho R} "/>
          <p:cNvPicPr/>
          <p:nvPr/>
        </p:nvPicPr>
        <p:blipFill>
          <a:blip r:embed="rId5"/>
          <a:stretch/>
        </p:blipFill>
        <p:spPr>
          <a:xfrm>
            <a:off x="5435640" y="4797360"/>
            <a:ext cx="1955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ы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b110c9e129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ктическая ча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нение баллистики на практ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519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увеличением угла вылета снаряда, при одинаковой начальной скорости, дальность полёта уменьшается, а высота увеличивает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Содержимое 5" descr="51082~108.jpg"/>
          <p:cNvPicPr/>
          <p:nvPr/>
        </p:nvPicPr>
        <p:blipFill>
          <a:blip r:embed="rId1"/>
          <a:stretch/>
        </p:blipFill>
        <p:spPr>
          <a:xfrm>
            <a:off x="3357720" y="2357280"/>
            <a:ext cx="5500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ругой слу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448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с увеличением начальной скорости вылета снаряда, при одинаковом угле вылета, дальность и высота полёта снаряда увеличивают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Содержимое 5" descr="51082~110.jpg"/>
          <p:cNvPicPr/>
          <p:nvPr/>
        </p:nvPicPr>
        <p:blipFill>
          <a:blip r:embed="rId1"/>
          <a:stretch/>
        </p:blipFill>
        <p:spPr>
          <a:xfrm>
            <a:off x="3286080" y="2286000"/>
            <a:ext cx="581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346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 увеличением угла вылета снаряда, при одинаковой начальной скорости, дальность полёта уменьшается, а высота увеличивается, а с увеличением начальной скорости вылета снаряда, при одинаковом угле вылета, дальность и высота полёта снаряда увеличивают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аектория баллистической раке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Содержимое 14" descr="BrD2037.jpg"/>
          <p:cNvPicPr/>
          <p:nvPr/>
        </p:nvPicPr>
        <p:blipFill>
          <a:blip r:embed="rId1"/>
          <a:stretch/>
        </p:blipFill>
        <p:spPr>
          <a:xfrm>
            <a:off x="2143080" y="2428920"/>
            <a:ext cx="5214960" cy="4174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аектория управляемых снаряд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Содержимое 5" descr="451adbbc718b9a87db737541ba1_prev.jpg"/>
          <p:cNvPicPr/>
          <p:nvPr/>
        </p:nvPicPr>
        <p:blipFill>
          <a:blip r:embed="rId1"/>
          <a:stretch/>
        </p:blipFill>
        <p:spPr>
          <a:xfrm>
            <a:off x="785880" y="2309760"/>
            <a:ext cx="8358120" cy="4548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оординаты, определяющие положение ракеты в пространстве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Содержимое 5" descr="DSC00089.JPG"/>
          <p:cNvPicPr/>
          <p:nvPr/>
        </p:nvPicPr>
        <p:blipFill>
          <a:blip r:embed="rId1"/>
          <a:stretch/>
        </p:blipFill>
        <p:spPr>
          <a:xfrm>
            <a:off x="857160" y="2571840"/>
            <a:ext cx="3643560" cy="39351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6" descr="DSC00090.JPG"/>
          <p:cNvPicPr/>
          <p:nvPr/>
        </p:nvPicPr>
        <p:blipFill>
          <a:blip r:embed="rId2"/>
          <a:stretch/>
        </p:blipFill>
        <p:spPr>
          <a:xfrm>
            <a:off x="5357880" y="2635200"/>
            <a:ext cx="3595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тическая ча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весом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весо́мос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 — состояние, наблюдаемое нами, когда сила взаимодействия тела с опорой (вес тела), возникающая в связи с гравитационным притяжением, действием других массовых сил, в частности силы инерции, возникающей при ускоренном движении тела, отсутств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Содержимое 5" descr="cf36d8a81a6cfefeef4fccccae10962c_213bf4be6957b3a194ec45b1a24b22aa.jpg"/>
          <p:cNvPicPr/>
          <p:nvPr/>
        </p:nvPicPr>
        <p:blipFill>
          <a:blip r:embed="rId1"/>
          <a:stretch/>
        </p:blipFill>
        <p:spPr>
          <a:xfrm>
            <a:off x="5072040" y="2357280"/>
            <a:ext cx="2928960" cy="1965600"/>
          </a:xfrm>
          <a:prstGeom prst="rect">
            <a:avLst/>
          </a:prstGeom>
          <a:ln w="0">
            <a:noFill/>
          </a:ln>
        </p:spPr>
      </p:pic>
      <p:pic>
        <p:nvPicPr>
          <p:cNvPr id="154" name="Содержимое 6" descr="photo-2885.jpg"/>
          <p:cNvPicPr/>
          <p:nvPr/>
        </p:nvPicPr>
        <p:blipFill>
          <a:blip r:embed="rId2"/>
          <a:stretch/>
        </p:blipFill>
        <p:spPr>
          <a:xfrm>
            <a:off x="4786200" y="471492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груз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грузка-увеличение веса тела, вызванное ускоренным движением опоры или подв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Содержимое 5" descr="600x600,fs-PUSHKAREV,11-10,Push-10-31.jpg"/>
          <p:cNvPicPr/>
          <p:nvPr/>
        </p:nvPicPr>
        <p:blipFill>
          <a:blip r:embed="rId1"/>
          <a:stretch/>
        </p:blipFill>
        <p:spPr>
          <a:xfrm>
            <a:off x="4786200" y="2428920"/>
            <a:ext cx="4048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аллистические ракеты подводных лод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аллистические ракеты подводных лодок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БРПЛ) —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аллистические раке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размещаемые на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дводных лодках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БПЛ  СССР\Рос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85920" y="2500200"/>
            <a:ext cx="735804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БПЛ  СШ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57200" y="2643120"/>
            <a:ext cx="7215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С-18, межконтинентальная баллистическая раке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85880" y="2362320"/>
            <a:ext cx="42861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 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кета РС-18 — одна из наиболее совершенных межконтинентальных баллистических ракет России. Ее создание началось в 1967 году в конструкторском бюро МПО Машиностроения, расположенном в подмосковном Реуто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  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инята на вооружение 17 декабря 1980 года. Под эту ракету создавалась шахтная пусковая установка повышенной защищенности, а также новый комплекс средств преодоления противоракетной обороны. В январе 1981 года первые полки с УР-100Н УТТХ заступили на боевое дежурство. Всего было поставлено на боевое дежурство 360 шахтных пусковых установок РС-18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Содержимое 5" descr="1180562008.jpg"/>
          <p:cNvPicPr/>
          <p:nvPr/>
        </p:nvPicPr>
        <p:blipFill>
          <a:blip r:embed="rId1"/>
          <a:stretch/>
        </p:blipFill>
        <p:spPr>
          <a:xfrm>
            <a:off x="5072040" y="2428920"/>
            <a:ext cx="3929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76064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рия возникновения баллистического движ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многочисленных войнах на протяжении всей истории человечества враждующие стороны, доказывая своё превосходство, использовали сначала камни, копья , и стрелы, а затем ядра, пули, снаряды, и бомб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пех сражения во многом определялся точностью попадания в цель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 этом точный бросок камня, поражение противника летящим копьём или стрелой фиксировались воином визуально. Это позволяло при соответствующей тренировке повторять свой успех в следующем сражении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чительно возросшая с развитием техники скорость и дальность полёта снарядов и пуль сделали возможным дистанционные сражения. Однако навыка война, разрешающей способности его глаза было недостаточно для точного попадания в цель артиллерийской дуэли перв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Желание побеждать стимулировало появление баллистики (от греческого слова ballo-бросаю)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6" descr="img_00272"/>
          <p:cNvPicPr/>
          <p:nvPr/>
        </p:nvPicPr>
        <p:blipFill>
          <a:blip r:embed="rId1"/>
          <a:stretch/>
        </p:blipFill>
        <p:spPr>
          <a:xfrm>
            <a:off x="5105520" y="2362320"/>
            <a:ext cx="30686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0e5ba9bd4deb"/>
          <p:cNvPicPr/>
          <p:nvPr/>
        </p:nvPicPr>
        <p:blipFill>
          <a:blip r:embed="rId2"/>
          <a:stretch/>
        </p:blipFill>
        <p:spPr>
          <a:xfrm>
            <a:off x="5003640" y="4292640"/>
            <a:ext cx="33134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аллистика как нау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листика-наука о движении снарядов, мин, пуль, неуправляемых ракет при стрельбе (пуске). Основные разделы баллистики: внутренняя баллистика и внешняя баллистика. Исследованием реальных процессов, происходящих при горении пороха, движении снарядов, ракет (или их моделей) и т. д., занимается эксперимент баллистики. Внешняя баллистика изучает движение снарядов, мин, пуль, неуправляемых ракет и др. после прекращения их силового взаимодействия со стволом оружия (пусковой установкой), а также факторы, влияющие на это движение. Основные разделы внешней баллистики: изучение сил и моментов, действующих на снаряд в полёте; изучение движения центра масс снаряда для расчета элементов траектории, а также движение снаряда относит. Центра масс с целью определения его устойчивости и характеристик рассеивания. Разделами внешней баллистики являются также теория поправок, разработка методов получения данных для составления таблиц стрельбы и внешнебаллистическое проектирование. Движение снарядов в особых случаях изучается специальными разделами внешней баллистики, авиационной баллистикой, подводной баллистикой и др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8" descr="ballistika"/>
          <p:cNvPicPr/>
          <p:nvPr/>
        </p:nvPicPr>
        <p:blipFill>
          <a:blip r:embed="rId1"/>
          <a:stretch/>
        </p:blipFill>
        <p:spPr>
          <a:xfrm>
            <a:off x="826920" y="2997360"/>
            <a:ext cx="4608720" cy="32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термины балл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нешняя баллист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нутренняя баллист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ая гибкость оруж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ая ракет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ая трасс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ие условия стрельб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ие характеристик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ий вычислител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ий спуск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ое подоби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ий коэффициент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Баллистическая фотокамер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он всемирного тяго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аллистическое движение – движение за счёт силы тяжести при котором тело движется с учётом сил сопротивления с ускорением. А законы движения изучал Исаак Ньюто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аак Ньют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7" descr="d07b6cf1ab492d28c91799c35bf"/>
          <p:cNvPicPr/>
          <p:nvPr/>
        </p:nvPicPr>
        <p:blipFill>
          <a:blip r:embed="rId1"/>
          <a:stretch/>
        </p:blipFill>
        <p:spPr>
          <a:xfrm>
            <a:off x="2484360" y="2637000"/>
            <a:ext cx="410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крытие закона И.Ньютон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 склоне своих дней Исаак Ньютон рассказал, как это произошло: он гулял по яблоневому саду в поместье своих родителей и вдруг увидел луну в дневном небе. И тут же на его глазах с ветки оторвалось и упало на землю яблоко. Поскольку Ньютон в это самое время работал над законами движения (</a:t>
            </a:r>
            <a:r>
              <a:rPr b="0" i="1" lang="ru-RU" sz="1400" spc="-1" strike="noStrike">
                <a:solidFill>
                  <a:srgbClr val="003366"/>
                </a:solidFill>
                <a:latin typeface="Arial"/>
              </a:rPr>
              <a:t>см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Законы механики Ньютона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), он уже знал, что яблоко упало под воздействием гравитационного поля Земли. Знал он и о том, что Луна не просто висит в небе, а вращается по орбите вокруг Земли, и, следовательно, на нее воздействует какая-то сила, которая удерживает ее от того, чтобы сорваться с орбиты и улететь по прямой прочь, в открытый космос. Тут ему и пришло в голову, что, возможно, это одна и та же сила заставляет и яблоко падать на землю, и Луну оставаться на околоземной орбите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9" descr="i"/>
          <p:cNvPicPr/>
          <p:nvPr/>
        </p:nvPicPr>
        <p:blipFill>
          <a:blip r:embed="rId2"/>
          <a:stretch/>
        </p:blipFill>
        <p:spPr>
          <a:xfrm>
            <a:off x="4932360" y="3068640"/>
            <a:ext cx="32418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з зак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зультаты ньютоновских расчетов теперь называют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законом всемирного тяготе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Ньютона. Согласно этому закону между любой парой тел во Вселенной действует сила взаимного притяжения. Как и все физические законы, он облечен в форму математического уравнения. Есл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 m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— массы двух тел, а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D —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стояние между ними, тогда сила 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заимного гравитационного притяжения между ними равн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F 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 GMm/D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G —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равитационная константа, определяемая экспериментально. В единицах СИ ее значение составляет приблизительно 6,67 × 10–11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36:04Z</dcterms:created>
  <dc:creator>Soft</dc:creator>
  <dc:description/>
  <dc:language>en-US</dc:language>
  <cp:lastModifiedBy>Диман</cp:lastModifiedBy>
  <dcterms:modified xsi:type="dcterms:W3CDTF">2010-04-19T19:04:42Z</dcterms:modified>
  <cp:revision>17</cp:revision>
  <dc:subject/>
  <dc:title>Научная работа по физике  на тему  Баллистическое движение тел </dc:title>
</cp:coreProperties>
</file>