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2DF1-6815-43F9-8F77-D9F92AB9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5417A-E1A2-40FB-AFD4-12260710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1415-6331-4932-BEE9-609ED1EC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726FF-C71F-40A3-8D9E-3A089687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DBFD-FB57-41BD-8CDF-219ABBC1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AE73-A3F9-4027-82D7-D077B9F0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5A8F-BB80-41D6-A024-1972A645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7688-2206-43F5-AFF0-9A5584B9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E3D1-6D63-45AC-A7DC-FA08D7CA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D450-F5DC-491C-8AAF-A8F3B296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C488-20D0-4CCB-AB80-807F65EA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9E89-5F0E-41E9-9CE0-2653EAB6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FBA3-69F0-4620-A2F4-9CFB0444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E09A-C9B6-47E6-AA1B-A9074102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7FD9-38AA-45AD-98FC-E42DFBAE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3ED8-389B-481F-BD45-0C8152AD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5F37-4A78-456D-88A0-829AD624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128EE-5AC0-442E-B54F-2912FCA2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5A1D-F9DE-4526-B62F-97B8CD3D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B55A5-697D-4697-A2E9-462EFCE2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D683-FA40-4DDF-8D84-3ED5CCFD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6275-2673-403E-972C-F0519076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548A5-C1CE-44CB-B65E-92719759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D4CED-8FA9-460F-843F-31CF5EA2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9D0F-48D1-4B10-9EE6-CABEA63821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0C2F-A7A2-41EF-BECF-2A9BA9E048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fdef6"/>
                </a:solidFill>
                <a:latin typeface="Times New Roman"/>
              </a:rPr>
              <a:t>Искусственные силикаты</a:t>
            </a:r>
            <a:endParaRPr b="0" lang="en-US" sz="72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20120" cy="47246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403280" y="5073480"/>
            <a:ext cx="713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ля изготовления цемента сначала добывают известняк и глину из карьер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619760" cy="464796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900000" y="4748760"/>
            <a:ext cx="748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йдя предварительную обработку, исходные материалы поступают в мельницу мокрого самоизмельчения, где перерабатываются в шлам. Затем шлам домалывается в сырьевых мельницах и усредняется в шламбассейнах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7620120" cy="491472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660240" y="5037840"/>
            <a:ext cx="873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заводе находится специальная лаборатория, в которой производят постоянный контроль качества и дозировку сырьевых материалов и добавок. И в том числе проводят тестирование конечного продукта на прочность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620120" cy="48387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684360" y="4975560"/>
            <a:ext cx="81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тем тонкомолотый сырьевой шлам вводится во вращающуюся печь (длиной около 200 м и диаметром 4 м) и обжигается при температуре 1450 градусов Цельси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900000" y="136440"/>
            <a:ext cx="7620120" cy="487692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684360" y="5011560"/>
            <a:ext cx="82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 обжиге частички сырья сплавляются между собой, образуя клинкер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620120" cy="47242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1042920" y="4821840"/>
            <a:ext cx="70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чь для обжига представляет собой вращающийся металлический цилиндр, который наклонен к горизонтальной плоскости под углом 3-4 градуса, чтобы обеспечить возможность движения материала вдоль печ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619760" cy="43624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900000" y="4866840"/>
            <a:ext cx="73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ученный клинкер охлаждается в холодильниках, дробится и подается транспортерами в бункеры цементных мельниц для помол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620120" cy="48672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1763640" y="5155560"/>
            <a:ext cx="576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Электрофильтры на вращающихся печах позволяют сократить выбросы пыли в атмосферу в 10-30 раз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620120" cy="465768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912680" y="5299200"/>
            <a:ext cx="557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стывший клинкер подается в мельницу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755640" y="101520"/>
            <a:ext cx="7620120" cy="4695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735120" y="4815360"/>
            <a:ext cx="801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мент получают путем совместного тонкого измельчения портландцементного клинкера, минеральных добавок (10-15%) и гипса (3-7%), который служит для регулирования сроков схватывания. Размер зерен цемента лежит в пределах от 1 до 100 мкм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fdef6"/>
                </a:solidFill>
                <a:latin typeface="Times New Roman"/>
              </a:rPr>
              <a:t>Содержание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Что такое силикат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Какие бывают силикат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Производ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Путь получения портландце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839880" y="189000"/>
            <a:ext cx="7619760" cy="482904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1476360" y="5082480"/>
            <a:ext cx="60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ученный портландцемент транспортируется из мельниц в силосы для хранени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20120" cy="48481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1187280" y="5031000"/>
            <a:ext cx="705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 силосов цемент отгружают железнодорожными вагонами и автомобильным транспортом в следующем виде: навалом, специальными контейнерами МКР весом до 1 тонны, бумажными мешками весом 50 кг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2314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Times New Roman"/>
              </a:rPr>
              <a:t>Что такое силикаты?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ликатными называются изделия, в состав которых входят соединения кремнезема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2) с окислами различных металлов — натрия, калия, кальция, магния, алюминия, свинца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ликатные изделия обладают водостойкостью, электроизоляционными свойствами, химической устойчивостью, высокой гигиеничностью (гладкие поверхности легко отмываются от загрязнения, отсутствуют поры и неровности, где могли бы задерживаться микро­организмы), легко формуются различными способами. К отрицательным качествам некоторых силикатных изделий следует отнести их небольшую прочность, хрупк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кусственные силикаты — стекло, фарфор, фаянс, майолика и другие виды керамики, представляют собой продукты промышленной переработки природных силикатов с минеральными добав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назначению силикатные товары делят на три групп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вары хозяйственно-бытового назначения — стеклянная ижерамическая посуда, лампы и ламповые изделия, зеркала, художественно-декоративные издел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рхитектурно-строительные товары — стекло оконное, пеностекло, стеклоблоки, керамические стройматериалы, вяжущие материалы на основе силикатов и изделия из них (цементы, асбоцементные издел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мышленно-технические силикатные товары — оптическое стекло и приборы, химическая и лабораторная посуда, огнеупорные, электроизоляционные издел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Какие бывают силикаты?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ез силикатных материалов - различных видов цемента, бетона, шлакобетона, керамики, стекла, покрытий в виде эмалей и глазурей едва ли можно представить себе нашу повседневную жизнь. Масштабы производства силикатных материалов представляются внушительными цифр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иболее древними силикатными материалами являются керамические, получаемые из глин и их смесей с различными минеральными добавками, обожженными до камневидного состояния. В древнем мире керамические изделия были распространены по всей территории Земли. Со второй половины XIX века и до настоящего времени индустриальная керамическая промышленность неизмеримо расширила выпуск и ассортимент керам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Times New Roman"/>
              </a:rPr>
              <a:t>Производство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цессы производства керамики многообразны и в общих чертах сводятся к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) обработке сырь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) приготовлению керамической масс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) формованию и сушке масс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) обжиг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) отделке издел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современном производстве эти операции обеспечиваются специальным оборудованием, порой очень сложным, а сами процессы проводятся в оптимальных технологических режимах, разработанных на серьезной научной основе учеными различных профи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604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ером искусственного силикатного материала является портландцемент, один из наиболее распространенных видов минеральных вяжущих веществ. Цемент используется для связывания строительных деталей при получении массивных строительных блоков, плит, труб и кирпича. Цемент является основой таких широко применяемых строительных материалов, как бетон, шлакобетон, железобетон. Строительство любого масштаба не может существовать без цемента. Прежде всего цементным клинкером называется продукт обжига смеси глины и известняка, а цементом - мелкоизмельченный клинкер с минеральными добавками, регулирующими его свойства. Цемент применяется в смеси с песком и водой. Его вяжущие свойства обусловлены способностью цементных минералов взаимодействовать с H2O и SiO2 и при этом затвердевать, образуя прочную камневидную структуру. При схватывании цемента происходят сложные процессы: гидратация минералов с образованием гидросиликатов и гидроалюминатов, гидролиз, образование коллоидных растворов и их кристаллизация. Исследования процессов твердения цементного раствора и минералов цементного клинкера сыграли большую роль в становлении науки о силикатах и их технолог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850160" cy="533736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1977840" y="5661000"/>
            <a:ext cx="556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хема изготовления цем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979640" y="4723560"/>
            <a:ext cx="56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изводство цемента складывается из двух основных технологических процессов: получение клинкера и его помол с соответствующими добавками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6201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5:30:10Z</dcterms:created>
  <dc:creator>Ieva</dc:creator>
  <dc:description/>
  <dc:language>en-US</dc:language>
  <cp:lastModifiedBy>Ieva</cp:lastModifiedBy>
  <dcterms:modified xsi:type="dcterms:W3CDTF">2011-03-05T15:46:27Z</dcterms:modified>
  <cp:revision>4</cp:revision>
  <dc:subject/>
  <dc:title>Искусственные силикаты</dc:title>
</cp:coreProperties>
</file>